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1D3-AEDB-44B3-BA8D-BA0D8846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D4A-D27A-4FB2-AD54-A241C1F8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973-AB68-457C-9564-D7FF9CA4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7C4-FEB2-4DE4-B926-D84ED7FB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65F-2E02-496A-ACA6-16C88C14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DE7-FEF2-490B-A842-1467DCD0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47B-F674-40B9-9C09-9CA401D8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2E4-C9FA-4C3D-B3EE-D444A1A2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609-7F14-4F1E-B9CF-E0F22F0A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D05-E310-457C-B7AB-73D4AAA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1F9-422C-44F1-93FC-D531718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D3F-BA90-4559-A7DA-183E07E9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827E-4C35-4047-B6CE-CAD19D82C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gi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4467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ÁCE S MAP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ilva" descr=""/>
          <p:cNvPicPr/>
          <p:nvPr/>
        </p:nvPicPr>
        <p:blipFill>
          <a:blip r:embed="rId2"/>
          <a:stretch/>
        </p:blipFill>
        <p:spPr>
          <a:xfrm>
            <a:off x="6477120" y="4316400"/>
            <a:ext cx="26668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AKO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turistické mapě Prahy (v atlase) o měřítku 1:100 000 a vrstevnicemi vzdálenými 20 výškových metrů zjis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dálenost z Horoměřic na Petřín (na Malé Straně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ou nadmořskou výšku má Petřín? Zjistěte rozdíl mezi Petřínem a řekou Vltav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Mapě Prahy najdi značky, nakresli si je do sešitu a zjisti co značky znamenaj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ce na mapě podle světových st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gi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641920"/>
          </a:xfrm>
          <a:prstGeom prst="rect">
            <a:avLst/>
          </a:prstGeom>
          <a:ln w="0">
            <a:noFill/>
          </a:ln>
        </p:spPr>
      </p:pic>
      <p:pic>
        <p:nvPicPr>
          <p:cNvPr id="48" name="kompas" descr=""/>
          <p:cNvPicPr/>
          <p:nvPr/>
        </p:nvPicPr>
        <p:blipFill>
          <a:blip r:embed="rId2"/>
          <a:stretch/>
        </p:blipFill>
        <p:spPr>
          <a:xfrm>
            <a:off x="0" y="990720"/>
            <a:ext cx="24922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9680" y="1344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7960" y="1344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62120" y="26812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9320" y="27162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ompas" descr=""/>
          <p:cNvPicPr/>
          <p:nvPr/>
        </p:nvPicPr>
        <p:blipFill>
          <a:blip r:embed="rId1"/>
          <a:stretch/>
        </p:blipFill>
        <p:spPr>
          <a:xfrm>
            <a:off x="5257800" y="0"/>
            <a:ext cx="294480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silva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3657600" cy="348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áce s map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přírodě se orientujeme podle mapy, proto musíme znát světové strany (nakreslete směrovou růžici), které určujeme podle buzoly, nebo podle Slunce či hvězd (Polárka). A dalších přírodních úkaz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4:21:52Z</dcterms:created>
  <dc:creator>kk</dc:creator>
  <dc:description/>
  <dc:language>en-US</dc:language>
  <cp:lastModifiedBy>kk</cp:lastModifiedBy>
  <dcterms:modified xsi:type="dcterms:W3CDTF">2005-10-11T14:22:15Z</dcterms:modified>
  <cp:revision>1</cp:revision>
  <dc:subject/>
  <dc:title>PRÁCE S MAPOU</dc:title>
</cp:coreProperties>
</file>