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D22-516F-42EE-A83E-D5466589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349-7565-4EA1-B437-368EC79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BD6-A52F-4E4C-8CBF-BF72F8AB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6AE-E8FF-4229-8485-6885836F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E3C-FF91-4F76-832A-52D84B1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90D-1F6D-4BC9-83CE-E73A9B6F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155-881E-4486-91F4-23731BD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2C4-556D-4999-8D51-B9CE8CD9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95A-FB78-49BA-82DC-D0FE0B40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9B9-52D2-421D-B8E0-CC50EE5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F8B-E4E1-4503-A14B-0CE3F91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308-D229-4288-864F-211B542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FFB-7586-4AB4-B892-84ECD446F4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30492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UŠ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1066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rahlá kraj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amel_461"/>
          <p:cNvPicPr/>
          <p:nvPr/>
        </p:nvPicPr>
        <p:blipFill>
          <a:blip r:embed="rId1"/>
          <a:stretch/>
        </p:blipFill>
        <p:spPr>
          <a:xfrm>
            <a:off x="0" y="0"/>
            <a:ext cx="5268960" cy="3371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esert_wideweb__430x296,1"/>
          <p:cNvPicPr/>
          <p:nvPr/>
        </p:nvPicPr>
        <p:blipFill>
          <a:blip r:embed="rId2"/>
          <a:stretch/>
        </p:blipFill>
        <p:spPr>
          <a:xfrm>
            <a:off x="3886200" y="3240000"/>
            <a:ext cx="5257800" cy="361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lowers2"/>
          <p:cNvPicPr/>
          <p:nvPr/>
        </p:nvPicPr>
        <p:blipFill>
          <a:blip r:embed="rId3"/>
          <a:stretch/>
        </p:blipFill>
        <p:spPr>
          <a:xfrm>
            <a:off x="380880" y="380988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872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i s nedostatkem srážek jsou v různých podnebných pásme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ké poušt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okolí obratníků – tropický a subtropický p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ladné poušt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mírný pás - vnitrozem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lární pouště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lární p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nebí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mi suché (neprší několik 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výkyvy teplot během dne (i 60 stupňů cel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r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ěl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amenité (nejví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těrk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ísčité (nejmé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desertmountain2"/>
          <p:cNvPicPr/>
          <p:nvPr/>
        </p:nvPicPr>
        <p:blipFill>
          <a:blip r:embed="rId1"/>
          <a:stretch/>
        </p:blipFill>
        <p:spPr>
          <a:xfrm>
            <a:off x="4267080" y="2286000"/>
            <a:ext cx="4030920" cy="266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aroc052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54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34a_svetlo_a_stin_sm"/>
          <p:cNvPicPr/>
          <p:nvPr/>
        </p:nvPicPr>
        <p:blipFill>
          <a:blip r:embed="rId3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(méně než 200 mm sráž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dí (dočasná říční kory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téský p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áza (dostatek podzemní vody = živ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Živ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liny (tvrdolisté a dlouhé kořeny – palmy, kaktu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ířata (plazy, štíři, malé šelmy, velb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(nomádi – kočovníci, města, oá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Vadi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18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enek"/>
          <p:cNvPicPr/>
          <p:nvPr/>
        </p:nvPicPr>
        <p:blipFill>
          <a:blip r:embed="rId2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ušť – vyprahlá kraj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oblasti s nedostatkem srážek a velkým výpar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orké (okolí obratníků – tropy a subtrop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ladné (mírný pás – vnitrozem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ělení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kamenité, štěrkové, písč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ivot je zde značně omezen = VODA (oázy, artés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men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 chybějící poj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rývají … /3 rozlohy souše. Dělíme je na pouště ……………(subtropy a mírný pás) a studené (……………..pás). Pouště vznikají tam, kde je nedostatek ………….. (celkem méně než ……..mm/rok) – např. díky hradbě hor, vzdálenosti od…………….., chladným oceánským…………..apod. Pro horké pouště jsou typické vysoké výkyvy teplot během…………a……………(až přes 60ºC). Tvary reliéfu vznikají díky erozi: …………….a…………….. Nejvíce je pouští……………….., které se mění na pouště štěrkové a ty pak na pouště………………..(těch je na Zemi nejméně)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rké a chladné pouště (subtropy a mírný p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zvy pouští:..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především v oázách (palma………………),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v poušti: pastevci, nomádi (neboli……………….pastevci) – např. Berbeř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 pouště (Arktida a Antarkt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………………………………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: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 chybějící pojmy -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rývaj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3 rozlohy souše. Dělíme je na pouš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r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subtropy a mírný pás) a studené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ás). Pouště vznikají tam, kde je nedostatek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ráže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elkem méně než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m/rok) – např. díky hradbě hor, vzdálenosti od moře, chladným oceánský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udů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pod. Pro horké pouště jsou typické vysoké výkyvy teplot běhe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oc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až přes 60ºC). Tvary reliéfu vznikají díky erozi: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plot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ět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Nejvíce je poušt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menitý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é se mění na pouště štěrkové a ty pak na pouš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íseč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těch je na Zemi nejméně)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Horké a chladné pouště (subtropy a mírný p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zvy pouští: např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hara, Gobi, Mohavská poušť, Atacama, Velká písečná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především v oázách (palm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atl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chomil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kaktusy, agave aj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bloudi, plazi (gekon, varan, chřestýš), hlodavci, štíři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v poušti: pastevci, nomádi (nebol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čov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astevci) – např. Berbeř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lární pouště (Arktida a Antarkt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chy, lišejníky při pobřeží, v moři řasy, jinak kámen, sníh a 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dvěd lední, tuleni, mroži, ptáci (tučňáci, albatrosi, bouřňáci aj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skymáci (inuité, Laponci aj.), výzkumné stanice - přechod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52680" y="2492280"/>
            <a:ext cx="4238640" cy="3819600"/>
          </a:xfrm>
          <a:prstGeom prst="rect">
            <a:avLst/>
          </a:prstGeom>
          <a:ln w="0">
            <a:noFill/>
          </a:ln>
        </p:spPr>
      </p:pic>
      <p:sp>
        <p:nvSpPr>
          <p:cNvPr id="60" name="TextovéPole 2"/>
          <p:cNvSpPr/>
          <p:nvPr/>
        </p:nvSpPr>
        <p:spPr>
          <a:xfrm>
            <a:off x="452880" y="620640"/>
            <a:ext cx="84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V osmisměrce vyhledej 11 pouští a urči, ve kterém světadíle lež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V tajence najdi název další pouště a urči, ve kterém světadíle 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jdeme. Jaké další pouště v tomto světadíle najd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Jaké další velké pouště se do osmisměrky neveš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7840" y="285840"/>
            <a:ext cx="5184720" cy="4657680"/>
          </a:xfrm>
          <a:prstGeom prst="rect">
            <a:avLst/>
          </a:prstGeom>
          <a:ln w="0">
            <a:noFill/>
          </a:ln>
        </p:spPr>
      </p:pic>
      <p:sp>
        <p:nvSpPr>
          <p:cNvPr id="62" name="Přímá spojnice 5"/>
          <p:cNvSpPr/>
          <p:nvPr/>
        </p:nvSpPr>
        <p:spPr>
          <a:xfrm>
            <a:off x="392040" y="6681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římá spojnice 7"/>
          <p:cNvSpPr/>
          <p:nvPr/>
        </p:nvSpPr>
        <p:spPr>
          <a:xfrm>
            <a:off x="536400" y="6494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římá spojnice 9"/>
          <p:cNvSpPr/>
          <p:nvPr/>
        </p:nvSpPr>
        <p:spPr>
          <a:xfrm flipH="1">
            <a:off x="347400" y="45813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11"/>
          <p:cNvSpPr/>
          <p:nvPr/>
        </p:nvSpPr>
        <p:spPr>
          <a:xfrm>
            <a:off x="392040" y="407664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římá spojnice 13"/>
          <p:cNvSpPr/>
          <p:nvPr/>
        </p:nvSpPr>
        <p:spPr>
          <a:xfrm>
            <a:off x="5000760" y="1152360"/>
            <a:ext cx="0" cy="33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15"/>
          <p:cNvSpPr/>
          <p:nvPr/>
        </p:nvSpPr>
        <p:spPr>
          <a:xfrm flipV="1">
            <a:off x="1184400" y="6494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17"/>
          <p:cNvSpPr/>
          <p:nvPr/>
        </p:nvSpPr>
        <p:spPr>
          <a:xfrm flipV="1">
            <a:off x="2978280" y="2268000"/>
            <a:ext cx="144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19"/>
          <p:cNvSpPr/>
          <p:nvPr/>
        </p:nvSpPr>
        <p:spPr>
          <a:xfrm flipV="1">
            <a:off x="1784520" y="899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21"/>
          <p:cNvSpPr/>
          <p:nvPr/>
        </p:nvSpPr>
        <p:spPr>
          <a:xfrm flipV="1">
            <a:off x="2340000" y="1703160"/>
            <a:ext cx="2017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římá spojnice 23"/>
          <p:cNvSpPr/>
          <p:nvPr/>
        </p:nvSpPr>
        <p:spPr>
          <a:xfrm flipV="1">
            <a:off x="2441520" y="6490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římá spojnice 25"/>
          <p:cNvSpPr/>
          <p:nvPr/>
        </p:nvSpPr>
        <p:spPr>
          <a:xfrm flipV="1">
            <a:off x="1779480" y="1044360"/>
            <a:ext cx="264636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ovéPole 27"/>
          <p:cNvSpPr/>
          <p:nvPr/>
        </p:nvSpPr>
        <p:spPr>
          <a:xfrm>
            <a:off x="5581080" y="131760"/>
            <a:ext cx="3465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tě v osmismě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akum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yzylkum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ilská (S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avská (S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acama (J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hara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út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lahari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fúd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ár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mib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nka: TA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ovéPole 29"/>
          <p:cNvSpPr/>
          <p:nvPr/>
        </p:nvSpPr>
        <p:spPr>
          <a:xfrm>
            <a:off x="176040" y="4943520"/>
            <a:ext cx="935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ť TANAMI se nachází v Austrálii. Mimo tuto poušť zde najd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další pouště například: Velká Viktoriina, Gibsonova, Velká písečná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mpsonova poušť a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významné pouště: Libyjská, Arabská, Dahná, Rub al-Chálí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obi, Taklamakan, Velká solná poušť aj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6:29Z</dcterms:created>
  <dc:creator>kk</dc:creator>
  <dc:description/>
  <dc:language>en-US</dc:language>
  <cp:lastModifiedBy>Uživatel</cp:lastModifiedBy>
  <dcterms:modified xsi:type="dcterms:W3CDTF">2014-03-23T09:50:35Z</dcterms:modified>
  <cp:revision>22</cp:revision>
  <dc:subject/>
  <dc:title>POUŠŤ</dc:title>
</cp:coreProperties>
</file>