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43D-292C-4D4B-A465-DC8B2CFA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D45-1A36-43FE-B7CB-24013522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763-119E-456F-AFE4-34581E75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362-9247-4CDA-9100-BD2B714E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59E-588D-433B-8F42-7C6F10E2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02E-E58E-4828-B480-976B62F8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3A9-9DEE-458C-9BF5-55BB50B3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28E-99A5-4D15-93A9-D001CDA3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97C-95CD-41E8-A59E-53FB7284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28C-DE2B-4FB4-959E-53B3606F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8AA-CCFB-4C58-B5FE-71AB6C7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2DB-7B36-4973-B578-D9719F0A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6304-C7C1-49E2-B1D9-011800C34EC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ování zeměpisné polo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etická čá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900000" y="2205000"/>
            <a:ext cx="2305080" cy="201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050920" y="2060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611280" y="3213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116000" y="2492280"/>
            <a:ext cx="1008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.š., z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076480" y="27082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.š., v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149920" y="3500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j.š., v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028160" y="3328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.š., z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49640" y="2081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4"/>
          <p:cNvSpPr/>
          <p:nvPr/>
        </p:nvSpPr>
        <p:spPr>
          <a:xfrm>
            <a:off x="5435640" y="2205000"/>
            <a:ext cx="2305080" cy="201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6588000" y="2060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202360" y="2224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"/>
          <p:cNvSpPr/>
          <p:nvPr/>
        </p:nvSpPr>
        <p:spPr>
          <a:xfrm rot="10800000">
            <a:off x="5796000" y="2997000"/>
            <a:ext cx="504720" cy="6476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5148360" y="3213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4859280" y="3284640"/>
            <a:ext cx="1225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3495960" y="37893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anžový trojúhel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stavuje Jižní Amer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1"/>
          <p:cNvSpPr/>
          <p:nvPr/>
        </p:nvSpPr>
        <p:spPr>
          <a:xfrm>
            <a:off x="6084720" y="2997360"/>
            <a:ext cx="142920" cy="142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V="1">
            <a:off x="6156360" y="1988640"/>
            <a:ext cx="1368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5219640" y="1413000"/>
            <a:ext cx="41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erný bod představuje přibližné umístění města: PARAMARI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4"/>
          <p:cNvSpPr/>
          <p:nvPr/>
        </p:nvSpPr>
        <p:spPr>
          <a:xfrm>
            <a:off x="3419640" y="4653000"/>
            <a:ext cx="2304720" cy="201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2825640" y="46004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>
            <a:off x="3276720" y="5661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4572000" y="4481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4140360" y="5445000"/>
            <a:ext cx="142560" cy="142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3276720" y="551664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5852880" y="534528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severní šířka (s.š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>
            <a:off x="4211640" y="4508640"/>
            <a:ext cx="0" cy="2349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2195640" y="6491160"/>
            <a:ext cx="24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ápadní délka (z.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4"/>
          <p:cNvSpPr/>
          <p:nvPr/>
        </p:nvSpPr>
        <p:spPr>
          <a:xfrm flipH="1" flipV="1">
            <a:off x="2555640" y="5084640"/>
            <a:ext cx="165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901800" y="48690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MAR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) Kliknutím na obrázek spustíš interaktivní hru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měpisné souřadnice (pozn. Latitude – šířka, Longitude – dé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5992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) Praktická čá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čísel v rámu mapy urči zeměpisné souřadnice města PARAMAR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MARIBO: 7° s.š. (severní šířky) a 55° z.d. (západní dél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187280" y="1201680"/>
            <a:ext cx="7058160" cy="565632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556000" y="465300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2484360" y="1125360"/>
            <a:ext cx="100800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7812000" y="4653000"/>
            <a:ext cx="936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2771640" y="14130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843280" y="4869000"/>
            <a:ext cx="5113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7955280" y="472428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7 ° s.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606760" y="112392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55 ° z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7957440" y="630864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0 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7812360" y="3933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0 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3851640" y="1197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50 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1384560" y="11955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60 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měty na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kterých polokoulích leží (určuj šířku a délku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VERNÍ AMERIKA, JIŽNÍ AMERIKA, ASIE, EVROPA, AFRIKA, AUSTRÁLIE, GRÓNSKO, MADAGASK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F:\zeměpis\6.třída\DSCN3899.JPG"/>
          <p:cNvPicPr/>
          <p:nvPr/>
        </p:nvPicPr>
        <p:blipFill>
          <a:blip r:embed="rId1"/>
          <a:stretch/>
        </p:blipFill>
        <p:spPr>
          <a:xfrm>
            <a:off x="0" y="0"/>
            <a:ext cx="8318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ovéPole 5"/>
          <p:cNvSpPr/>
          <p:nvPr/>
        </p:nvSpPr>
        <p:spPr>
          <a:xfrm>
            <a:off x="6659640" y="4437000"/>
            <a:ext cx="250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Označ na map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˚ š. a 0˚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˚ s.š. a 0˚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0˚ s.š. a 20˚ z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˚ j.š. a 40˚ z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0˚ s.š. a 20˚ v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˚ j.š. a 30˚ v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Jsi dispečer lodních havárií. Právě došlo několik volání S.O.S. a to z různých míst na Zemi. Do kterých moří či zálivů pošleš záchranné lod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.š. a 1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š. 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Řešení: Jsi dispečer lodních havárií. Právě došlo několik volání S.O.S. a to z různých míst na Zemi. Do kterých moří či zálivů pošleš záchranné lod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d. (Arabské moř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.š. a 1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d. (Tasmanovo moř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. (Severní nebo Norské moř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š. 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. (Guinejský zál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.d. (Hudsonův zál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) Vyluštíš taje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10/5) - ? poh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7/7) – os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7/6) - ? Země – ostr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4/3) - ? mo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š. a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9/5) - ? níž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5/2) – poloostrov Předn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jenk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kterém městě se nachází observatoř Greenwich, podle nichž byl nazván nultý polední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) Vyluštíš tajenku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10/5) – App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čské poh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7/7) – ostrov Grónsk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7/6) - Sever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Země – ostr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4/3) - Ru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é mo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š. a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9/5) - Amaz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ská níž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5/2) – poloostrov Přední I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jenk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kterém městě se nachází observatoř Greenwich, podle nichž byl nazván nultý poledník? -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een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450px-Greenwichmer1"/>
          <p:cNvPicPr/>
          <p:nvPr/>
        </p:nvPicPr>
        <p:blipFill>
          <a:blip r:embed="rId1"/>
          <a:stretch/>
        </p:blipFill>
        <p:spPr>
          <a:xfrm>
            <a:off x="0" y="1935000"/>
            <a:ext cx="3692520" cy="492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397px-323SFEC_LONDON-20070917"/>
          <p:cNvPicPr/>
          <p:nvPr/>
        </p:nvPicPr>
        <p:blipFill>
          <a:blip r:embed="rId2"/>
          <a:stretch/>
        </p:blipFill>
        <p:spPr>
          <a:xfrm>
            <a:off x="5580000" y="1800360"/>
            <a:ext cx="3353040" cy="50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rime_meridian"/>
          <p:cNvPicPr/>
          <p:nvPr/>
        </p:nvPicPr>
        <p:blipFill>
          <a:blip r:embed="rId3"/>
          <a:stretch/>
        </p:blipFill>
        <p:spPr>
          <a:xfrm>
            <a:off x="3059280" y="1557360"/>
            <a:ext cx="29685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35:36Z</dcterms:created>
  <dc:creator>jj</dc:creator>
  <dc:description/>
  <dc:language>en-US</dc:language>
  <cp:lastModifiedBy>PC</cp:lastModifiedBy>
  <dcterms:modified xsi:type="dcterms:W3CDTF">2013-10-13T14:41:37Z</dcterms:modified>
  <cp:revision>13</cp:revision>
  <dc:subject/>
  <dc:title>Určování zeměpisné polohy</dc:title>
</cp:coreProperties>
</file>