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332-186B-4D79-BE17-0D9AEA15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306-9F62-4A0D-B254-4F4CEEFF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6EB-4016-415D-8D67-B53FBCAB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DF3-CE27-4FE8-B585-EC3F63E6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CAC-9616-4B47-96B4-6E265D05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ED3-E3DF-41B5-BFD2-7C159623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5D6-9C3D-4B64-BEAA-197618E2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237-AC35-4EA2-B950-78521B55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0F3-0697-4188-B927-4FD8003D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221-F5EF-4D91-B94C-D2C03B69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E08-19C3-4495-985F-0B49753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589-8572-4BC4-8F25-E4728348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00D8-8087-4226-BA04-64254CF9A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áce s rejstřík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becedním seznamu na konci atlasu najdete zadaný název (př. Paramari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jstříkové údaje obsahují – název, číslo strany a pole indexové sítě označené číslicemi a čís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. PARAMARIBO 128 B 5 (tedy strana 128 a mapové pole B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047600"/>
            <a:ext cx="7704000" cy="592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40000" y="4724280"/>
            <a:ext cx="503280" cy="50508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1341360"/>
            <a:ext cx="547200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556000" y="1773360"/>
            <a:ext cx="0" cy="280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5013360"/>
            <a:ext cx="468000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2340000" y="119700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7740720" y="515772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7:03:42Z</dcterms:created>
  <dc:creator>jj</dc:creator>
  <dc:description/>
  <dc:language>en-US</dc:language>
  <cp:lastModifiedBy>jj</cp:lastModifiedBy>
  <dcterms:modified xsi:type="dcterms:W3CDTF">2007-11-05T17:33:37Z</dcterms:modified>
  <cp:revision>6</cp:revision>
  <dc:subject/>
  <dc:title>Práce s rejstříkem</dc:title>
</cp:coreProperties>
</file>