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611-FC8F-4DC4-9786-54E4AD4B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B63-2C70-4F8F-915B-B6097027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426-DEE9-41DA-807E-9B830E4E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DB5-DE9D-45F5-8F84-7D099075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BAD-D2AC-4EDA-B5B0-3851D24C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781-A0DE-45B1-A8EA-40AE7DB0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95A-36CE-47B7-BD3F-1AE94A98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97A-D830-4194-8357-5A92736F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18A-C036-4959-89DA-0FA0830F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0D2-5CFA-4C5F-9B69-1DFC422B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66E-9EE4-4426-922F-F449BAF7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DD4-A7AB-4C05-A9E3-503FE1D8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B438-689B-4384-9296-C4326985B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348000" y="765000"/>
            <a:ext cx="5796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mapě jsou nejčastěji dva typy měřít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číselné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:20 000 000 (čteme jako 1 cm na mapě se rovná 20 000 000 cm ve skutečn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 výpočet je lépe si cm převést na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osuneme desetinou čárku o 5 desetinných míst dopředu (1:20 0,00 000 tedy 1 cm je 200 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grafick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 cm na tomto grafickém měřítku je roven 200 km ve skut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ěřítku mapy 1:20 000 000 je vzdálenost 5 cm rovna 1000 km ve skutečnosti (výpočet 5 cm na mapě x 200 km ve skutečnosti = 1000 k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áce s měřítkem m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943000" cy="340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539640" y="1988640"/>
            <a:ext cx="288000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763640" y="4292280"/>
            <a:ext cx="1584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3:15:36Z</dcterms:created>
  <dc:creator>jj</dc:creator>
  <dc:description/>
  <dc:language>en-US</dc:language>
  <cp:lastModifiedBy>jj</cp:lastModifiedBy>
  <dcterms:modified xsi:type="dcterms:W3CDTF">2007-11-06T13:56:01Z</dcterms:modified>
  <cp:revision>6</cp:revision>
  <dc:subject/>
  <dc:title>Práce s měřítkem mapy</dc:title>
</cp:coreProperties>
</file>