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2F0-3AB2-49F9-85CA-D672C823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FF5-AC17-4A89-9833-10FFD782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5DB-E4FE-4779-8AFB-3BDDEC0D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232-5EA1-41F0-96E9-04DDA1BB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44A-28EB-40F0-B6DF-856AB20B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A7FD-C159-4473-B183-E63376E0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1C5-C363-4738-B544-A5E1FF40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E5F-E98D-4162-A967-C809978D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3C4-374C-4243-9140-531B288D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C3E-E1F8-4E64-BC28-6BC8570E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E07-AFAD-455D-9EBB-102B9428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584-3D47-46F3-8AD7-FCF57464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93C8-1ACB-49A8-A68D-FDC39B8E9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uj s vysvětliv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 začátku doporučuji pracovat ve skupině nebo dvojic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uj pomocí mapy Afriky a lege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mocí výškových stupňů pevniny zjisti zda v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gyptě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leží místo s nadmořskou výškou nad 5000 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jisti jaký je nejhlubší bod v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Gibraltarském průliv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jdeme na mapě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frik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mapovou znač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ranice souvislého mořského 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zazší hranice plujícího 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) Které město je ve vyšší nadmořské výš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ddis Abe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) Poznej jde-li o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korálové nebo sopečné pohoř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nárské ostro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) Součástí nejrozlehlejší pouště světa Sahary je mnoho pouští: např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Hamáda al-Hamr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rg Še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 Ale pouze jedna z těchto pouští je písečná, která to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) Na jihu Afriky leží stát Jihoafrická republika. V tomto státě je celá řada velkých měst n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 mil. obyvatel: např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Durba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Johanesbur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ape Tow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 Ovšem pouze jedno z těchto měst je zároveň i hlavním městem Jihoafrické republiky, které to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) Na pobřeží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dého moř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vyskytu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řská pobřežní pís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grovové pobřežní poro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rálové pobřeží, korálové úte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) Najdeme na řece Nil peře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) Najdi které z jezer má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stálé bře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zn. že se velikost tohoto jezera v průběhu roku mě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zero Mala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adské je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dpově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 (nejvyšší místo je na Sinajské poloostrově a měří 2637 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18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 N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 Harare – 1660 m.n.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Addis Abeba – 2370 m.n.m. je vý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) a) Komory – korálov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Kanárské ostrovy – sopeč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) Písečná poušť je Erg Še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) Cape Town – jeho značka je červe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) C – korálové pobřež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) 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) Čadské je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20:34:31Z</dcterms:created>
  <dc:creator>jj</dc:creator>
  <dc:description/>
  <dc:language>en-US</dc:language>
  <cp:lastModifiedBy>jj</cp:lastModifiedBy>
  <dcterms:modified xsi:type="dcterms:W3CDTF">2010-11-09T21:18:33Z</dcterms:modified>
  <cp:revision>5</cp:revision>
  <dc:subject/>
  <dc:title>Pracuj s vysvětlivky</dc:title>
</cp:coreProperties>
</file>