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93F-8402-4955-A3D2-C2A9DCE9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850-5385-4040-B5DF-5C0F2F14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825-3AC9-4C7D-9435-D8907EB0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E59-2EC3-4AA1-9356-125A2FDF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777-A6F0-4F79-B9DA-97A75282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570-447D-4568-BA40-37F7058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BBA-08E9-4962-A3D5-6EB3D4F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7B2-C0B2-4B4D-B127-8434A77D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873-BCE6-4DE2-B0BF-30BD8486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1E2-4264-4546-BDB2-52B6CA69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ACE-27EA-456B-BF4C-47CC0F4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F69-7D12-4BF1-A46D-94C5F8A1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88EF-21AF-4788-A434-35E10AC78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čování času na Z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díly času na Zemi odpovídají rozdílům zeměpisných délek daných míst – tj. 1° zeměpisné délky = rozdíl v čase 4 minuty – 1 hodina je tedy 15° a 360° = 24 hod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993080" cy="327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88000" y="378936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971280" y="378936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429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 ZÁPAD každé časové pásmo ODEČTEME - 1 ho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3480" y="3500280"/>
            <a:ext cx="40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 VÝCHOD každé časové pásmo PŘIČTEME + 1 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2924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852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7800" y="26370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dý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61080" y="28526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1440" y="5445000"/>
            <a:ext cx="888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mapě jsou vyznačeny dvě města Londýn a Praha – mezi těmito městy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asový posun jedno pásmo. V Praze je zrovna 12 hodin, kolik hodin 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 stejnou dobu v Londýně? Správná odpověď je 11 hod. Řešení: 12 mín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hodina (protože se pohybujeme směrem na západ) = 1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897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cvičo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Londýně je 12 hodiny, kolik hodin ve stejnou chvíli v těchto měst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ykjav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l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áh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si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08640" y="260280"/>
            <a:ext cx="3735360" cy="590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956720" y="2205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2565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2492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0000" y="299736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005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1557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7564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2160" y="242100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9800" y="39337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Belé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2520" y="19890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dý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8880" y="24922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Ří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68000" y="299736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áhi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42000" y="155736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sin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89280" y="131436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Reykjaví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659280" y="2276640"/>
            <a:ext cx="129708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84360" y="220500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7451640" y="1628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17080" y="184464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227664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2276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897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Londýně je 12 hodiny, kolik hodin ve stejnou chvíli v těchto měst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 York = 7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ykjavík = 12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m = 13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lém = 9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áhira = 14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sinky = 14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08640" y="260280"/>
            <a:ext cx="3735360" cy="5904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56720" y="2205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17080" y="2565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2492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20000" y="299736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4005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0360" y="1557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7564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2160" y="2421000"/>
            <a:ext cx="137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New York (-5 hod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9440" y="393372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Belém (-3 hodin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42520" y="19890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dý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06760" y="2565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Řím (+1 hod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65360" y="299736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áhira (+ 2 hod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4640" y="1557360"/>
            <a:ext cx="126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sinky (+2 hod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88320" y="1341360"/>
            <a:ext cx="21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Reykjavík (stejné časové pás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850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59280" y="2276640"/>
            <a:ext cx="129708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84360" y="220500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7451640" y="1628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17080" y="184464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27664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28000" y="2276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012000" y="620280"/>
            <a:ext cx="0" cy="1800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451640" y="620640"/>
            <a:ext cx="505080" cy="72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4:24:59Z</dcterms:created>
  <dc:creator>jj</dc:creator>
  <dc:description/>
  <dc:language>en-US</dc:language>
  <cp:lastModifiedBy>jj</cp:lastModifiedBy>
  <dcterms:modified xsi:type="dcterms:W3CDTF">2007-11-06T17:10:24Z</dcterms:modified>
  <cp:revision>5</cp:revision>
  <dc:subject/>
  <dc:title>Určování času na Zemi</dc:title>
</cp:coreProperties>
</file>