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0A2-2BE9-42F6-B3D0-EAA8E6EB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78D-E7C4-4AB6-AB0E-1866A35A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5983-C179-4371-9253-D52B4DFF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B27-8E5A-4623-912C-FAAE411A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FC8-4C53-482D-A04C-92F6256E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816-DF57-43A6-AA67-F3CD2472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9BE-43CF-4F76-BD26-150C116C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C974-109F-47A0-969D-B0853F51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2C6-1B7D-48EA-890E-A7AB80F8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5F3-8F2E-49F0-A597-8E407771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00E0-DD4C-4B90-A5E0-4036CD30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FC99-9516-467D-883F-B774F4B6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1F54-5FEE-4089-9150-79F080C7C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9a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ShockwaveFlash1"/>
          <p:cNvGraphicFramePr/>
          <p:nvPr/>
        </p:nvGraphicFramePr>
        <p:xfrm>
          <a:off x="1066680" y="533520"/>
          <a:ext cx="678204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33520"/>
                    <a:ext cx="6782040" cy="4952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>
            <a:hlinkClick r:id="" action="ppaction://hlinkshowjump?jump=endshow"/>
          </p:cNvPr>
          <p:cNvSpPr/>
          <p:nvPr/>
        </p:nvSpPr>
        <p:spPr>
          <a:xfrm>
            <a:off x="1219320" y="6172200"/>
            <a:ext cx="1447560" cy="380880"/>
          </a:xfrm>
          <a:custGeom>
            <a:avLst/>
            <a:gdLst>
              <a:gd name="textAreaLeft" fmla="*/ 24480 w 1447560"/>
              <a:gd name="textAreaRight" fmla="*/ 1423080 w 1447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35" h="21600">
                <a:moveTo>
                  <a:pt x="0" y="0"/>
                </a:moveTo>
                <a:lnTo>
                  <a:pt x="82035" y="0"/>
                </a:lnTo>
                <a:lnTo>
                  <a:pt x="82035" y="21600"/>
                </a:lnTo>
                <a:lnTo>
                  <a:pt x="0" y="21600"/>
                </a:lnTo>
                <a:close/>
              </a:path>
              <a:path fill="lightenLess" w="82035" h="21600">
                <a:moveTo>
                  <a:pt x="0" y="0"/>
                </a:moveTo>
                <a:lnTo>
                  <a:pt x="82035" y="0"/>
                </a:lnTo>
                <a:lnTo>
                  <a:pt x="80635" y="1400"/>
                </a:lnTo>
                <a:lnTo>
                  <a:pt x="1400" y="1400"/>
                </a:lnTo>
                <a:close/>
              </a:path>
              <a:path fill="darken" w="82035" h="21600">
                <a:moveTo>
                  <a:pt x="82035" y="0"/>
                </a:moveTo>
                <a:lnTo>
                  <a:pt x="82035" y="21600"/>
                </a:lnTo>
                <a:lnTo>
                  <a:pt x="80635" y="20200"/>
                </a:lnTo>
                <a:lnTo>
                  <a:pt x="80635" y="1400"/>
                </a:lnTo>
                <a:close/>
              </a:path>
              <a:path fill="darkenLess" w="82035" h="21600">
                <a:moveTo>
                  <a:pt x="82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35" y="20200"/>
                </a:lnTo>
                <a:close/>
              </a:path>
              <a:path fill="lighten" w="82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Falstaff Festival MT"/>
                <a:ea typeface="Fixed Miriam Transparent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5486400"/>
            <a:ext cx="4724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66"/>
                </a:solidFill>
                <a:latin typeface="Arial"/>
                <a:cs typeface="Arial"/>
              </a:rPr>
              <a:t>נסו לירות חץ בכבשה שבורחת כמה שיותר מהר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  <a:ea typeface="Arial"/>
              </a:rPr>
              <a:t>(ע"י לחיצה על החץ)</a:t>
            </a:r>
            <a:br>
              <a:rPr sz="1400"/>
            </a:br>
            <a:r>
              <a:rPr b="0" lang="hi-IN" sz="1400" spc="-1" strike="noStrike">
                <a:solidFill>
                  <a:srgbClr val="ffff66"/>
                </a:solidFill>
                <a:latin typeface="Arial"/>
                <a:cs typeface="Arial"/>
              </a:rPr>
              <a:t>אם תלחצו לפני הזמן תקבלו עונש של 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  <a:ea typeface="Arial"/>
              </a:rPr>
              <a:t>3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  <a:ea typeface="Arial"/>
              </a:rPr>
              <a:t> שניות.</a:t>
            </a:r>
            <a:br>
              <a:rPr sz="1400"/>
            </a:br>
            <a:r>
              <a:rPr b="0" lang="hi-IN" sz="1400" spc="-1" strike="noStrike">
                <a:solidFill>
                  <a:srgbClr val="ffff66"/>
                </a:solidFill>
                <a:latin typeface="Arial"/>
                <a:cs typeface="Arial"/>
              </a:rPr>
              <a:t>אחרי 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  <a:ea typeface="Arial"/>
              </a:rPr>
              <a:t>5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  <a:ea typeface="Arial"/>
              </a:rPr>
              <a:t> כבשים תראו עד כמה הייתם מהירים.</a:t>
            </a:r>
            <a:br>
              <a:rPr sz="1400"/>
            </a:br>
            <a:r>
              <a:rPr b="0" lang="hi-IN" sz="1400" spc="-1" strike="noStrike">
                <a:solidFill>
                  <a:srgbClr val="ffff66"/>
                </a:solidFill>
                <a:latin typeface="Arial"/>
                <a:cs typeface="Arial"/>
              </a:rPr>
              <a:t>בהצלחה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4:45:21Z</dcterms:created>
  <dc:creator>tomer</dc:creator>
  <dc:description/>
  <dc:language>en-US</dc:language>
  <cp:lastModifiedBy>tomer</cp:lastModifiedBy>
  <dcterms:modified xsi:type="dcterms:W3CDTF">2005-03-08T12:25:22Z</dcterms:modified>
  <cp:revision>9</cp:revision>
  <dc:subject/>
  <dc:title>מצגת של PowerPoint</dc:title>
</cp:coreProperties>
</file>