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1AB9-DF40-4654-B9DA-CAE1B0AA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8C7-45C6-4069-BE09-A068977D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EEF-667F-4D9E-AC39-A3F303A2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A93-63CD-4E84-9F99-C4697424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845-1CA5-4587-AC1E-5E783B50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9F6-9083-4076-9610-F4386354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308-31CA-4656-B06D-FE30EEB6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CF0B-1BEA-4CFE-9B7A-0E6727A3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DE1-8C2D-4528-87CD-D112E8AD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010-1031-46DC-86F0-A1EBB27C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777-843F-4834-AC16-A6692306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DF0-D967-4EA6-A990-568E5F6F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8C2B-9027-49B2-809C-AF705ACA5D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4.jpeg"/><Relationship Id="rId5" Type="http://schemas.openxmlformats.org/officeDocument/2006/relationships/slide" Target="slide2.xml"/><Relationship Id="rId6" Type="http://schemas.openxmlformats.org/officeDocument/2006/relationships/image" Target="../media/image5.jpeg"/><Relationship Id="rId7" Type="http://schemas.openxmlformats.org/officeDocument/2006/relationships/slide" Target="slide2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699000"/>
            <a:ext cx="4648320" cy="3159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16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4280" y="2285640"/>
            <a:ext cx="4114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DNEBÍ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NA ZE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841320"/>
            <a:ext cx="914400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219640" y="907920"/>
          <a:ext cx="3600000" cy="4033440"/>
        </p:xfrm>
        <a:graphic>
          <a:graphicData uri="http://schemas.openxmlformats.org/drawingml/2006/table">
            <a:tbl>
              <a:tblPr/>
              <a:tblGrid>
                <a:gridCol w="449640"/>
                <a:gridCol w="450000"/>
                <a:gridCol w="450360"/>
                <a:gridCol w="450000"/>
                <a:gridCol w="450000"/>
                <a:gridCol w="450360"/>
                <a:gridCol w="449640"/>
                <a:gridCol w="450000"/>
              </a:tblGrid>
              <a:tr h="51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211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MOSFÉ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 tajence najdete název meteorologické stanice. Čím se tato stanice proslavila? Lokalizujte ji na mapě a charakterizujte teplotní podmínky této oblas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Největší zásobárna sladké vody na Zemi. LED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Tlaková níže. CYKL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Meteorologická stanice, kde byla naměřena vůbec nejnižší teplota na Zemi. VOST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Vertikální……….gradient. TEPLOT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K Zemi nejbližší hvězda. SLU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Okamžitý stav atmosféry. POČAS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. Největší poušť světa. SAH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. Hlavní město Kazachstánu. AST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. Trojmocný kyslík. O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. Stát, na jehož území byla naměřena vůbec nejvyšší teplota vzduchu. LIBY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 Nahromaděná vodní pára v atmosféře. OBLA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292720" y="126828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35640" y="112536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00720" y="1557360"/>
            <a:ext cx="7164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8604360" y="98100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667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24360" y="371628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6000" y="206064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6000" y="2133720"/>
            <a:ext cx="252108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105264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479736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851440"/>
            <a:ext cx="898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JENKA: OJMJAKO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eží asi 5 310 km severovýchodovýchodně od hlavního města Moskvy. Ojmjakon je známý především tím, že zde byla 26. ledna 1926 naměřena teplota -71,2°C, proto se stal nejchladnějším obydleným územím na světě, nejchladnějším místem na severní polokouli a je označován jako (sibiřský) pól chladu (zimy)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332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50532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572000" y="350532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442764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DNEBNÍ ČINITE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Šířková stupňovito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(vzdálenost od rovník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Proudění vzduchu na Z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Vzdálenost od moř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mořská výška (s rostoucí nadmořskou výškou klesá teplota i tlak vzduch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řské proudy (viz. Hydrosfé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Šířková stupňovit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28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luneční paprsky – hlavní zdroj tepla, díky kulatosti země a sklonu osy dopadají během roku pod různým úhlem (různou intenzitou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ropický pá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leží mezi obratníky (teplý a deštivý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ubtropick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od obratníků po 40 šířky (teplý, období sucha a dešťů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írn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od 40 šířky po polární kruhy (střídání 4 ročních období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lární a subpolárn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ub/arktický) pás – od polárních kruhů k pólům (studený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32360" y="2924280"/>
            <a:ext cx="4211640" cy="2538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913720" y="5486400"/>
            <a:ext cx="323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dkaz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teraktivní klimatodiagram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teraktivní klimatické zó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2924280"/>
            <a:ext cx="5952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roudění vzduchu na Zem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řenos teplého a studeného vzduchu – je vlastně vyrovnávání tlaku vzduchu (rovník, polární kruh – N) x (obratníky, pól – V) =  vzduch proudí z V do 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íky otáčení země se větry stáč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chodní větry (pasáty) – mezi rovníkem a obratní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padní větry – mezi obratníky a polárními kru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chodní větry – mezi polárními kruhy a pó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zuny – 2x ročně mění smě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3181320" cy="2467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6920" y="3716280"/>
            <a:ext cx="34178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éma proudění vzdu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ři najetí na obrázek získáš více inf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284720" y="3500280"/>
            <a:ext cx="485928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Vzdálenost od moř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Moře (oceán) zvlhčuje vzduch a působí jako „ohřívadlo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dnebí přímořsk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malé výkyvy teplot během roku i dne, dostatek sráž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dnebí kontinentáln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větší výkyvy teplot, méně sráž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dnebí přechodn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47640" y="2133720"/>
            <a:ext cx="619308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inerář cestovatele – přiřaď jednotlivé pojmy k podnebným pás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60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dnebné pás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ropický, subtropický, mírný, polár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á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sland, Velká Británie, Tunisko, Vietnam (doplň k těmto státům hlavní měs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Zemědělské plodi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rambory, zakrslé břízy, citrusy, rýž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Zvíř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olární liška, skot, nosorožec, velbl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čas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eplo a vlhko po celý rok, teplo a sucho především v létě, chladno po většinu roku, střídání čtyř ročních obdob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2592360" cy="1809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340000" y="514368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500720" y="42926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858000" y="514368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48836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řížovka podneb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765000"/>
          <a:ext cx="6227640" cy="3622680"/>
        </p:xfrm>
        <a:graphic>
          <a:graphicData uri="http://schemas.openxmlformats.org/drawingml/2006/table">
            <a:tbl>
              <a:tblPr/>
              <a:tblGrid>
                <a:gridCol w="585720"/>
                <a:gridCol w="411120"/>
                <a:gridCol w="411120"/>
                <a:gridCol w="463680"/>
                <a:gridCol w="465120"/>
                <a:gridCol w="411120"/>
                <a:gridCol w="480960"/>
                <a:gridCol w="428760"/>
                <a:gridCol w="463680"/>
                <a:gridCol w="428400"/>
                <a:gridCol w="411120"/>
                <a:gridCol w="427320"/>
                <a:gridCol w="430200"/>
                <a:gridCol w="4093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0" y="4365720"/>
            <a:ext cx="896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limatický pás kde se střídají 4 roční obdob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ást atmosféry nacházející se do výšky asi 10 km nad povrc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louhodobý režim počasí (sleduje se minimálně za 50 le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kud teplota klesne pod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říkáme že přiše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osférický útvar s ničivou silou v podobě obrovského víru s okem ve středu. Vznikající nad oceán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yn, který nás chrání před škodlivým UV záření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idelné větry vanoucí směrem k rovní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ulka řeš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981080"/>
          <a:ext cx="7772040" cy="4114440"/>
        </p:xfrm>
        <a:graphic>
          <a:graphicData uri="http://schemas.openxmlformats.org/drawingml/2006/table">
            <a:tbl>
              <a:tblPr/>
              <a:tblGrid>
                <a:gridCol w="595440"/>
                <a:gridCol w="527400"/>
                <a:gridCol w="528120"/>
                <a:gridCol w="595080"/>
                <a:gridCol w="573120"/>
                <a:gridCol w="573120"/>
                <a:gridCol w="572760"/>
                <a:gridCol w="550440"/>
                <a:gridCol w="573120"/>
                <a:gridCol w="527400"/>
                <a:gridCol w="528120"/>
                <a:gridCol w="550080"/>
                <a:gridCol w="550440"/>
                <a:gridCol w="527400"/>
              </a:tblGrid>
              <a:tr h="587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649080" y="6257880"/>
            <a:ext cx="80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Co je to monzun? Zjisti tento pojem pomocí literatury, interne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6:45:18Z</dcterms:created>
  <dc:creator>kk</dc:creator>
  <dc:description/>
  <dc:language>en-US</dc:language>
  <cp:lastModifiedBy>jj</cp:lastModifiedBy>
  <dcterms:modified xsi:type="dcterms:W3CDTF">2010-02-18T19:39:53Z</dcterms:modified>
  <cp:revision>21</cp:revision>
  <dc:subject/>
  <dc:title>PODNEBNÉ PÁSY  NA ZEMI</dc:title>
</cp:coreProperties>
</file>