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0EB-6420-4F3A-9D94-7581FCD4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DEF-47F6-43C8-A35A-21947DC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C9D-A3EE-40DC-93FD-80C1DFA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7D0-BAE3-422E-B804-3FF3190E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DFA-67B5-4F03-8854-CFB34E7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A36-EF1A-41B4-9443-521555F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EFD-1A2E-4914-B95D-2ED915B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7D0-D45F-447D-B9C2-2E7DD25F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A4F-EF87-4EDF-8688-5224B3F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07D-A405-473E-A760-85FE85A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313-C925-4895-8A11-2072D3F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73F-AA1D-49BD-A687-636DFAE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E1D7-4C01-430C-AF6A-5D0FE3BF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3860640"/>
          <a:ext cx="4572000" cy="25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60640"/>
                    <a:ext cx="4572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00360" y="981000"/>
          <a:ext cx="3887640" cy="221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981000"/>
                    <a:ext cx="388764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VNINY A OCEÁNY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74880" y="27082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ÁN 7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2520" y="10526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Š 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3860640"/>
          <a:ext cx="4427640" cy="251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860640"/>
                    <a:ext cx="4427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975600" y="378936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ha světadílů v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48880" y="38098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ha oceánů v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vniny a oceány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š – vše co vystupuje nad hladinu oceánů se rozpadá na několik KONTINENTŮ (Mt. Ever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inenty omývá SVĚTOVÝ OCEÁN (Marianský příko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adíl x k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ložení pevniny je velmi nerovnoměr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iz. Tabulka pevnin a oceánů (str. 8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ïl dna oceán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99280" cy="23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6095880" cy="264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10640" y="3500280"/>
            <a:ext cx="61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 souše podle nadmořské výš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58:15Z</dcterms:created>
  <dc:creator>kk</dc:creator>
  <dc:description/>
  <dc:language>en-US</dc:language>
  <cp:lastModifiedBy>jj</cp:lastModifiedBy>
  <dcterms:modified xsi:type="dcterms:W3CDTF">2007-11-13T06:29:47Z</dcterms:modified>
  <cp:revision>7</cp:revision>
  <dc:subject/>
  <dc:title>PEVNINY A OCEÁNY NA ZEMI</dc:title>
</cp:coreProperties>
</file>