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CD0-F8CE-4B4C-9D6B-BB4C83AA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C43-AC88-41F7-9EAF-FEF2C54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05B-3877-4D95-B2B8-9503FB1A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62A-42BB-41E5-AC7E-00ECD0CB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D5B-1FD2-4388-BF5F-5BCE70DA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E23-9475-40C6-82C6-0E678807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923-E38C-4C1E-A3A6-0866779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C99-9FB6-4E22-98A0-691DE86E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70E-2ED9-4421-8426-719431CF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26B-AF9C-499D-BA6E-F53193A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200-84A2-4505-A3D8-41850221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A06-EDDF-4500-B9CA-114C46AA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DCC5-80DE-4E1C-963A-3E09335E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3.png"/><Relationship Id="rId5" Type="http://schemas.openxmlformats.org/officeDocument/2006/relationships/slide" Target="slide8.xml"/><Relationship Id="rId6" Type="http://schemas.openxmlformats.org/officeDocument/2006/relationships/image" Target="../media/image4.png"/><Relationship Id="rId7" Type="http://schemas.openxmlformats.org/officeDocument/2006/relationships/slide" Target="slide8.xml"/><Relationship Id="rId8" Type="http://schemas.openxmlformats.org/officeDocument/2006/relationships/image" Target="../media/image5.png"/><Relationship Id="rId9" Type="http://schemas.openxmlformats.org/officeDocument/2006/relationships/slide" Target="slide8.xml"/><Relationship Id="rId10" Type="http://schemas.openxmlformats.org/officeDocument/2006/relationships/image" Target="../media/image6.png"/><Relationship Id="rId11" Type="http://schemas.openxmlformats.org/officeDocument/2006/relationships/slide" Target="slide8.xml"/><Relationship Id="rId12" Type="http://schemas.openxmlformats.org/officeDocument/2006/relationships/image" Target="../media/image7.png"/><Relationship Id="rId13" Type="http://schemas.openxmlformats.org/officeDocument/2006/relationships/slide" Target="slide8.xml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ížovka - Tropický deštný 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stát Jižní Ameriky (8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 vzácného dřeva, rostoucího v tropech, začíná na písmeno M (7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had žijící v tropech (8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řeka světa (8/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nebný pás v okolí rovníku – vysoké srážky a vysoká teplota (5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é větry, které v průběhu roku mění svůj směr – letní jsou deštivé a zimní suché (6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liny s chabým stonkem, které se ovíjí o kmen stromu (5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ustý porost bylinného, keřového a spodního stromového patra v tropickém deštném lese (7/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řaď klimatodiagramy k jednotlivým vegetačním pás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92280"/>
            <a:ext cx="2125800" cy="2881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29280" y="692280"/>
            <a:ext cx="2214720" cy="288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68360" y="692280"/>
            <a:ext cx="2133720" cy="288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4005360"/>
            <a:ext cx="2122560" cy="2852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340000" y="4005360"/>
            <a:ext cx="2131920" cy="2852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4716360" y="4005360"/>
            <a:ext cx="2184480" cy="2852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4572000" y="69228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7058160" y="4005360"/>
            <a:ext cx="20858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tajen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552600"/>
                <a:gridCol w="509400"/>
                <a:gridCol w="552600"/>
                <a:gridCol w="552240"/>
                <a:gridCol w="594000"/>
                <a:gridCol w="571320"/>
                <a:gridCol w="592200"/>
                <a:gridCol w="571320"/>
                <a:gridCol w="571680"/>
                <a:gridCol w="552240"/>
                <a:gridCol w="571680"/>
                <a:gridCol w="571320"/>
                <a:gridCol w="552600"/>
                <a:gridCol w="914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758520" y="649116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us se zjistit o Amazonii ví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ovačka - Sav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vana se rozkládá v ……….podnebném pás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řídají se zde dvě roční období. Letní období……..a zimní období…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jvětší savany najdeme v ………, kde jsou savany i chráněny formou………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Žijí zde velká stáda kopytníků (např. ……,……,…..) a šelem (např. ……..,……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ickým porostem savan jsou …….a ze stromů například akácie, baobaby nebo eukalyp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náš správné odpovědi - Pouš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jsou nejdůležitější podmínky pro vznik poušt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oáza, artézská studna, vád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íky čemu se z kamenité pouště časem stane poušť písečná? Kterých pouští je více – kamenitých nebo písečný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ď k charakteristice vzniku pouště název poušt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acama, Taklamakan, S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ží ve srážkovém stínu hor, je ovlivněna studeným Peruánským mořským proudem, leží na obratníku v oblasti vysokého tlaku vzduch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oplňovačka – subtropické vždyzelené les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o vegetační pás leží v …………podnebném pásu. Léto je……a…… zima je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ůvodní vegetace nahrazena jinými druhy užitkových plodin (napiš alespoň tř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hledej a napiš alespoň tři evropské státy ve kterých vegetace středomořského typu představuje převážnou část rozlo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i – křížov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nazývají stepi v USA? (6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známější kopytníci severoamerických stepí? (6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ěsto v USA ležící na 40 stupni severní šířky a 105 stupni západní délky? (6/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cký porost stepí? (7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astrofický vítr který vzniká v oblasti stepí, především v USA? (7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úrodná půda stepí? (8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i – křížovka (řešení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946160"/>
            <a:ext cx="87138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znáš stromy lesů mírného pás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4124160"/>
            <a:ext cx="3048120" cy="2733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427640" y="112536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095880" y="4095720"/>
            <a:ext cx="3048120" cy="276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95640" y="907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916360" y="4572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0" y="98100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hličnatý les, tundra, mrazové oblasti – znáš odpověd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 jednoslovný název se používá pro jehličnaté les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permafr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se tajga a tundra nehodí pro život lid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pro tundru charakteristické mechy a lišejní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nazývá kontinent v oblasti jižního pólu, a jak zamrzlý Severní ledový oce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teré polokouli žije tučňák a na které lední medvě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vní člověk dorazil na jižní pól Robert E. Peary nebo R. Amunds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8:08:54Z</dcterms:created>
  <dc:creator>Administrator</dc:creator>
  <dc:description/>
  <dc:language>en-US</dc:language>
  <cp:lastModifiedBy>jj</cp:lastModifiedBy>
  <dcterms:modified xsi:type="dcterms:W3CDTF">2008-04-21T21:19:36Z</dcterms:modified>
  <cp:revision>10</cp:revision>
  <dc:subject/>
  <dc:title>Snímek 1</dc:title>
</cp:coreProperties>
</file>