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A2DD-B4C0-47E5-953C-087BDD12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BB26-F614-4A9A-AB74-72CB4783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89C-DBC9-47E9-9426-55B69A95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4F3A-ADDA-4DFB-B8E2-374FC642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DC85-5C90-4A15-A640-A095FC51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E9C8-1652-49BA-8DDF-32E095CD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6F7B-95AD-4626-974E-A992DFC1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889C-FB96-42F9-873D-F29760B3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6159-8860-4809-B51A-FE7EA028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D3DD-3455-4E89-9E4F-53E15EB8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4035-70CD-4116-8117-7B0E5B92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7E27-4E72-495C-AEDA-2B1445BB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9CAA-C6C3-420F-9E61-2AAB2FCCA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Jaký je rozdíl mezi nížinou a rovinou? V atlase najdi jednu rovinu a jednu nížinu a urči, na kterém světadíle se nachází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a kterých litosférických deskách se nachází Afrika a Atlantický oceán (str. 6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a mapě Evropy najdi činné sopky a na mapě světa nejvýznamnější částí vulkanické aktivity (str. 6). (Např. Japonsko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Zjisti názvy sopek v přesmyčkách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TA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VUSEV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OLISTROM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EK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odle názvu hory urči pohoří a nadmořskou výšku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CONCAGUA, DŽABAL TUBK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a kterém světadílu a řece leží tyto vodopády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GUACU, VIKTORÍN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a mapě Evropy najdi horské ledovce. Kde leží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 je to delta?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) druh jezera na řece B) rozvětvené trojúhelníkové ústí řeky do moř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ajdi deltu řeky NIL (urči její zeměpisnou polohu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a mapě ČR (s. 98-99) najdi názvy k těmto typům reliéfu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AHORKATINA, VRCHOVINA, H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18:54:37Z</dcterms:created>
  <dc:creator>kk</dc:creator>
  <dc:description/>
  <dc:language>en-US</dc:language>
  <cp:lastModifiedBy>kk</cp:lastModifiedBy>
  <dcterms:modified xsi:type="dcterms:W3CDTF">2006-01-15T18:55:33Z</dcterms:modified>
  <cp:revision>1</cp:revision>
  <dc:subject/>
  <dc:title>Prezentace aplikace PowerPoint</dc:title>
</cp:coreProperties>
</file>