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89B-ABDD-4F80-B6C8-77E975F2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130-A081-49C8-BCFE-AD76BEF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90F-29E7-4327-AACA-D6384C3B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EB1-FA09-48C9-9020-ECE65598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C12-06CE-4579-90FE-BA1E60BC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434-1538-4790-8517-CD44AD0D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BC8-0BCC-4C3A-A6CD-3A9E02A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45B-4DFB-4ED6-9FA7-DE13240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972-EA47-4082-8E81-7F6D7FF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8BD-8365-440E-81A1-B782CD76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308-7C41-4F52-9383-F8EA302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FDD-FE28-4DB9-B471-D1B576B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D26-2A93-4B39-9A57-83194B10C6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HROŽENÁ PŘÍR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668680" y="22096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ůst počtu obyva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281680" y="297180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ečištění ovzduší – emise, 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580200" y="441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ečištění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64320" y="5105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dp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208240" y="14479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ůdní eroze – úbytek pů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739240" y="3581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bytek rostlinných a živočišných druh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744280" y="57913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ěžba nerostných suro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4" descr="cerna-skladka"/>
          <p:cNvPicPr/>
          <p:nvPr/>
        </p:nvPicPr>
        <p:blipFill>
          <a:blip r:embed="rId1"/>
          <a:stretch/>
        </p:blipFill>
        <p:spPr>
          <a:xfrm>
            <a:off x="0" y="426708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54"/>
          <p:cNvPicPr/>
          <p:nvPr/>
        </p:nvPicPr>
        <p:blipFill>
          <a:blip r:embed="rId2"/>
          <a:stretch/>
        </p:blipFill>
        <p:spPr>
          <a:xfrm>
            <a:off x="6553080" y="4267080"/>
            <a:ext cx="2590920" cy="20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undprestig2"/>
          <p:cNvPicPr/>
          <p:nvPr/>
        </p:nvPicPr>
        <p:blipFill>
          <a:blip r:embed="rId3"/>
          <a:stretch/>
        </p:blipFill>
        <p:spPr>
          <a:xfrm>
            <a:off x="0" y="1143000"/>
            <a:ext cx="227808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mining-big"/>
          <p:cNvPicPr/>
          <p:nvPr/>
        </p:nvPicPr>
        <p:blipFill>
          <a:blip r:embed="rId4"/>
          <a:stretch/>
        </p:blipFill>
        <p:spPr>
          <a:xfrm>
            <a:off x="5791320" y="228600"/>
            <a:ext cx="33526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lověk využívá přírodu (přírodní zdroje) a tím ovlivňuje ŽIVOTNÍ PROSTŘED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ananas-scheiben"/>
          <p:cNvPicPr/>
          <p:nvPr/>
        </p:nvPicPr>
        <p:blipFill>
          <a:blip r:embed="rId1"/>
          <a:stretch/>
        </p:blipFill>
        <p:spPr>
          <a:xfrm>
            <a:off x="3886200" y="2209680"/>
            <a:ext cx="4800600" cy="4254480"/>
          </a:xfrm>
          <a:prstGeom prst="rect">
            <a:avLst/>
          </a:prstGeom>
          <a:ln w="0">
            <a:noFill/>
          </a:ln>
        </p:spPr>
      </p:pic>
      <p:sp>
        <p:nvSpPr>
          <p:cNvPr id="55" name="Line 8"/>
          <p:cNvSpPr/>
          <p:nvPr/>
        </p:nvSpPr>
        <p:spPr>
          <a:xfrm>
            <a:off x="320040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666880" y="3733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862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124080" y="579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11400" y="2590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NAS Z TR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9400" y="34290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UKR Z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47840" y="446076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INÍK Z MAĎAR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71520" y="5527800"/>
            <a:ext cx="28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ERGIE Z 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NÉ V RU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IRAĎ DVOJICE K SOB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d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it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i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670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Těžba nerostů a pa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zónová dí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roze pů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dumírání les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hemická hnoj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dlesňová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ěstské kanaliz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Skleníkový efek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Desertifik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opné katastro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CHRANA DIVOČ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LKOPLOŠNÁ CHRÁNĚNÁ ÚZEM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rodní parky, rezervace (Yellowsonský 187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osférické rezervace (UNES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ráněná krajinná územ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LOPLOŠNÁ CHRÁNĚNÁ ÚZEM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rodní rezerv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rodní pamá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brané národní parky celosvětového významu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620640"/>
          <a:ext cx="8744040" cy="3170160"/>
        </p:xfrm>
        <a:graphic>
          <a:graphicData uri="http://schemas.openxmlformats.org/drawingml/2006/table">
            <a:tbl>
              <a:tblPr/>
              <a:tblGrid>
                <a:gridCol w="2554560"/>
                <a:gridCol w="1514160"/>
                <a:gridCol w="4675320"/>
              </a:tblGrid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ha (stá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ělověž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ůvodní les mírného pásu, zubr evrop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ana, saf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rgl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křady, aligátoři a hnízdiště ptac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o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lozelené sekvoje - nejstarší a nejvyšší stromy svě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útesová barié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ečenství korálových út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d Buffa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ga, stáda volně žijících bizon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brané národní parky celosvětového významu - řešen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0"/>
          <a:ext cx="8744040" cy="3170160"/>
        </p:xfrm>
        <a:graphic>
          <a:graphicData uri="http://schemas.openxmlformats.org/drawingml/2006/table">
            <a:tbl>
              <a:tblPr/>
              <a:tblGrid>
                <a:gridCol w="1937160"/>
                <a:gridCol w="607680"/>
                <a:gridCol w="1472040"/>
                <a:gridCol w="216000"/>
                <a:gridCol w="4511160"/>
              </a:tblGrid>
              <a:tr h="5205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ha (stá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ělověž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sko-Běloru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ůvodní les mírného pásu, zubr evrop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ň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ana, saf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rgl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 - Florid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křady, aligátoři a hnízdiště ptac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o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 - Kalifornie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lozelené sekvoje - nejstarší a nejvyšší stromy svě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útesová barié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álie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ečenství korálových út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d Buffa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nad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ga, stáda volně žijících bizon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53" descr="giraffes-in-tsavo-west-national-park-kenya-all2810250"/>
          <p:cNvPicPr/>
          <p:nvPr/>
        </p:nvPicPr>
        <p:blipFill>
          <a:blip r:embed="rId1"/>
          <a:stretch/>
        </p:blipFill>
        <p:spPr>
          <a:xfrm>
            <a:off x="5724360" y="3357720"/>
            <a:ext cx="3738600" cy="2803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7" descr="everglades"/>
          <p:cNvPicPr/>
          <p:nvPr/>
        </p:nvPicPr>
        <p:blipFill>
          <a:blip r:embed="rId2"/>
          <a:stretch/>
        </p:blipFill>
        <p:spPr>
          <a:xfrm>
            <a:off x="-973080" y="3284640"/>
            <a:ext cx="4176720" cy="277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9" descr="2590480860033506355WySPWl_ph"/>
          <p:cNvPicPr/>
          <p:nvPr/>
        </p:nvPicPr>
        <p:blipFill>
          <a:blip r:embed="rId3"/>
          <a:stretch/>
        </p:blipFill>
        <p:spPr>
          <a:xfrm>
            <a:off x="3059280" y="3284640"/>
            <a:ext cx="291780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2"/>
          <p:cNvSpPr/>
          <p:nvPr/>
        </p:nvSpPr>
        <p:spPr>
          <a:xfrm>
            <a:off x="-92160" y="5969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verg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3"/>
          <p:cNvSpPr/>
          <p:nvPr/>
        </p:nvSpPr>
        <p:spPr>
          <a:xfrm>
            <a:off x="6210000" y="618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s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3256560" y="33764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00" y="3212640"/>
            <a:ext cx="9036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ix pouště, polopouště a savany najdeme v národním parku v severozápadní Namibii (jižní Afrika), který leží ve stejnojmenné pánv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Přírodní památka UNESCO ve Vietnamu při pobřeží Tonkinského zálivu asi 200 km na východ od hlavního měs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Největší chráněná plocha deštných pralesů v Jižní Americe, rozprostírá se na ploše 23 779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Park je přístupný pouze s povolením brazilské vlády. Lze se do něj dopravit na člunu po řece Negro z 230 km vzdáleného města Man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Národní park pokrytý savanou ležící v severní Tanzanii a jižní Keni východně od Viktoriina jezera. Jedná se o jedno z nejslavnějších a nejrozsáhlejších chráněných území Afriky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. Na jihu poloostrova Florida nedaleko města Miami leží NP pokrytý bažinami a subtropickými vždyzelenými lesy. Turistickou atrakcí jsou aligátoři, krokodýli, vodní ptactvo a airboads - vznášed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rázek 6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54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3860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ský jehličnatý les je název pro biom, který se vyskytuje především v severních zeměpisných šířkách. Dominantními druhy stromového patra jsou jehličnaté lesy. Nejvíce takových lesů se vyskytuje v Kanadě a především na Sibiři, odtud pochází i místní název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ajg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jisti jaké ohrožení leží taj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ocí atlasu nebo internetu vyhledej chráněné oblasti taj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554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8:48:00Z</dcterms:created>
  <dc:creator>kk</dc:creator>
  <dc:description/>
  <dc:language>en-US</dc:language>
  <cp:lastModifiedBy>Uživatel</cp:lastModifiedBy>
  <dcterms:modified xsi:type="dcterms:W3CDTF">2014-03-25T20:33:26Z</dcterms:modified>
  <cp:revision>7</cp:revision>
  <dc:subject/>
  <dc:title>OHROŽENÁ PŘÍRODA</dc:title>
</cp:coreProperties>
</file>