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CC7-DDBA-499C-9B82-836174FE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451-9A29-49BE-8D0C-F2E8231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169-9959-43C3-A0E5-75B248EC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03B-023E-4DE7-B658-283A558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2CC-C138-476B-A246-ADA5CD2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C85-5467-46C0-859D-E3275FE1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BD2-E17F-4B3E-9E82-BD5029F9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D25-DAC1-4915-B746-7B3CB842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35E-E0D2-4A7F-AECA-CC86EC1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1E1-51C6-4698-BA82-D90607E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5FB-05B2-4F1F-8A54-0EB871A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BE4-18C4-413F-A403-8473A4C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2E4-B6B5-44EB-84B5-7FC6597A2E8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66qW7kBVnM&amp;NR=1" TargetMode="External"/><Relationship Id="rId2" Type="http://schemas.openxmlformats.org/officeDocument/2006/relationships/hyperlink" Target="http://news.nationalgeographic.com/news/2007/11/071130-reefs-video-wc.html" TargetMode="External"/><Relationship Id="rId3" Type="http://schemas.openxmlformats.org/officeDocument/2006/relationships/hyperlink" Target="http://video.google.com/videoplay?docid=-733093936342632521" TargetMode="External"/><Relationship Id="rId4" Type="http://schemas.openxmlformats.org/officeDocument/2006/relationships/hyperlink" Target="http://video.google.com/videoplay?docid=6254743058448621040" TargetMode="External"/><Relationship Id="rId5" Type="http://schemas.openxmlformats.org/officeDocument/2006/relationships/package" Target="../embeddings/oleObject1.xlsx"/><Relationship Id="rId6" Type="http://schemas.openxmlformats.org/officeDocument/2006/relationships/image" Target="../media/image1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hyperlink" Target="http://www.youtube.com/watch?v=P9aDRmEo5yk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hyperlink" Target="https://www.youtube.com/watch?v=budXQlGL8Dc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cs.wikipedia.org/wiki/Slapov&#233;_jevy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thinglink.com/scene/345198899671072769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www.jindrichpolak.wz.cz/encyklopedie/abc/oceanproudy.php" TargetMode="Externa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cs.wikipedia.org/wiki/Tsunami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CEÁNY A MO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6354720"/>
            <a:ext cx="7129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eo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ří vl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rálové útes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namský průpla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ezský průpl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395280" y="1773360"/>
          <a:ext cx="3533760" cy="2562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773360"/>
                    <a:ext cx="35337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4211640" y="3357720"/>
          <a:ext cx="4191120" cy="2562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3357720"/>
                    <a:ext cx="41911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68360" y="0"/>
            <a:ext cx="7200720" cy="6885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/>
          <p:cNvSpPr/>
          <p:nvPr/>
        </p:nvSpPr>
        <p:spPr>
          <a:xfrm>
            <a:off x="831708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" w="21600" h="23578">
                <a:moveTo>
                  <a:pt x="3794" y="8481"/>
                </a:moveTo>
                <a:lnTo>
                  <a:pt x="7301" y="8481"/>
                </a:lnTo>
                <a:lnTo>
                  <a:pt x="7301" y="13817"/>
                </a:lnTo>
                <a:cubicBezTo>
                  <a:pt x="7301" y="14739"/>
                  <a:pt x="8102" y="15471"/>
                  <a:pt x="9138" y="15471"/>
                </a:cubicBezTo>
                <a:lnTo>
                  <a:pt x="10800" y="15471"/>
                </a:lnTo>
                <a:cubicBezTo>
                  <a:pt x="11836" y="15471"/>
                  <a:pt x="12636" y="14739"/>
                  <a:pt x="12636" y="13817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4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7"/>
                </a:lnTo>
                <a:cubicBezTo>
                  <a:pt x="16144" y="16585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5"/>
                  <a:pt x="3794" y="1381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ňte části moří a oceá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0720" y="5373720"/>
            <a:ext cx="8713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rov, souostroví, záliv, moře okrajové, moře vnitřní, oceán, šíje, průplav, průliv, poloostrov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32120" y="1413000"/>
            <a:ext cx="5209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0880" y="-360"/>
            <a:ext cx="9164520" cy="98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ásti moří a oceánů - řeš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229360" cy="3591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55400" y="5681520"/>
            <a:ext cx="81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o zjednodušený nákres Asie. Pokuste se vyhledat v mapě Asie geograf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vy jednotlivých čás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 mořské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chybějíc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řská voda je ………(především NaCl – chlorid sodný). V teplém tropickém pásu jsou moře teplá po celý rok (…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, nejteplejší je ………….moře, směrem k pólům teplota oceánů klesá. Ve studeném podnebném pásmu moře……..při …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. Průměrná slanost oceánů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namená: v 1 litru vody je…..g soli. Nejslanější je ………….moře (což je vlastně jezer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0" y="2852640"/>
            <a:ext cx="91440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řská vod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evším NaCl – chlorid sodný). V teplém tropickém pásu jsou moře teplá po celý rok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d 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nejteplejš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udé mo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měrem k pólům teplota oceánů klesá. Ve studeném podnebném pásmu moř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mrz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1,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růměrná slanost oceánů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namená: v 1 litru vody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5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li. Nejslanějš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rtvé mo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ož je vlastně jezer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4797360"/>
            <a:ext cx="9144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p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rozpuštěné soli = salinita (průměrná salinita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rovníku k pólům se teplota mořské vody sniž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y mořsk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chybějíc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vítr vanoucí přes vodní plochy, vlny naráží na pobřeží, vzniká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podmořská zemětřesení a sopky, rychlost vln 100 km/h, výška 30-4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přitažlivost ………a………., střídají se po 6 hodi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příčinou je pravidelné proudění vzduchu, rozdílná teplota a slanost oceánu. Dělíme je na …………….. (např.……..) a ………….. (např………….) pro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0" y="3428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a záp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L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způsobuje vítr vanoucí přes vodní plochy, vlny naráží na pobřeží,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b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SUN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 Způsobuje podmořská zemětřesení a sopky, rychlost vln 100 km/h, výška 30-4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MUTÍ MOŘ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působuje přitažlivo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sí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u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třídají se po 6 hodi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OŘSKÉ PROUD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íčinou je pravidelné proudění vzduchu, rozdílná teplota a slanost oceánu. Dělíme je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p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př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olf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př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brador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pro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Zaoblený obdélník 2"/>
          <p:cNvGrpSpPr/>
          <p:nvPr/>
        </p:nvGrpSpPr>
        <p:grpSpPr>
          <a:xfrm>
            <a:off x="7107120" y="3687840"/>
            <a:ext cx="1335240" cy="682560"/>
            <a:chOff x="7107120" y="3687840"/>
            <a:chExt cx="1335240" cy="682560"/>
          </a:xfrm>
        </p:grpSpPr>
        <p:pic>
          <p:nvPicPr>
            <p:cNvPr id="61" name="Zaoblený obdélník 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107120" y="3687840"/>
              <a:ext cx="1335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192800" y="3745080"/>
              <a:ext cx="116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mutí moře 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lapové jevy, příliv a odl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Tides"/>
          <p:cNvPicPr/>
          <p:nvPr/>
        </p:nvPicPr>
        <p:blipFill>
          <a:blip r:embed="rId2"/>
          <a:stretch/>
        </p:blipFill>
        <p:spPr>
          <a:xfrm>
            <a:off x="4211640" y="1730520"/>
            <a:ext cx="4457520" cy="3324240"/>
          </a:xfrm>
          <a:prstGeom prst="rect">
            <a:avLst/>
          </a:prstGeom>
          <a:ln w="0">
            <a:noFill/>
          </a:ln>
        </p:spPr>
      </p:pic>
      <p:sp>
        <p:nvSpPr>
          <p:cNvPr id="65" name="Oval 7"/>
          <p:cNvSpPr/>
          <p:nvPr/>
        </p:nvSpPr>
        <p:spPr>
          <a:xfrm>
            <a:off x="1476360" y="2708280"/>
            <a:ext cx="1440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38000" y="5248440"/>
            <a:ext cx="29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ing Tides = skočný příl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ap Tides = hluchý příl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Zaoblený obdélník 9"/>
          <p:cNvGrpSpPr/>
          <p:nvPr/>
        </p:nvGrpSpPr>
        <p:grpSpPr>
          <a:xfrm>
            <a:off x="6705720" y="5619600"/>
            <a:ext cx="2017440" cy="622440"/>
            <a:chOff x="6705720" y="5619600"/>
            <a:chExt cx="2017440" cy="622440"/>
          </a:xfrm>
        </p:grpSpPr>
        <p:pic>
          <p:nvPicPr>
            <p:cNvPr id="68" name="Zaoblený obdélník 9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05720" y="5619600"/>
              <a:ext cx="2017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784920" y="5673600"/>
              <a:ext cx="186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Zaoblený obdélník 10"/>
          <p:cNvGrpSpPr/>
          <p:nvPr/>
        </p:nvGrpSpPr>
        <p:grpSpPr>
          <a:xfrm>
            <a:off x="6705720" y="6235560"/>
            <a:ext cx="2017440" cy="622440"/>
            <a:chOff x="6705720" y="6235560"/>
            <a:chExt cx="2017440" cy="622440"/>
          </a:xfrm>
        </p:grpSpPr>
        <p:pic>
          <p:nvPicPr>
            <p:cNvPr id="71" name="Zaoblený obdélník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705720" y="6235560"/>
              <a:ext cx="2017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784920" y="6289560"/>
              <a:ext cx="186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řské pro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urrents"/>
          <p:cNvPicPr/>
          <p:nvPr/>
        </p:nvPicPr>
        <p:blipFill>
          <a:blip r:embed="rId2"/>
          <a:stretch/>
        </p:blipFill>
        <p:spPr>
          <a:xfrm>
            <a:off x="250920" y="1700280"/>
            <a:ext cx="4707000" cy="2293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ocean-current"/>
          <p:cNvPicPr/>
          <p:nvPr/>
        </p:nvPicPr>
        <p:blipFill>
          <a:blip r:embed="rId3"/>
          <a:stretch/>
        </p:blipFill>
        <p:spPr>
          <a:xfrm>
            <a:off x="4500720" y="3651120"/>
            <a:ext cx="3809880" cy="2810160"/>
          </a:xfrm>
          <a:prstGeom prst="rect">
            <a:avLst/>
          </a:prstGeom>
          <a:ln w="0">
            <a:noFill/>
          </a:ln>
        </p:spPr>
      </p:pic>
      <p:grpSp>
        <p:nvGrpSpPr>
          <p:cNvPr id="76" name="Zaoblený obdélník 2"/>
          <p:cNvGrpSpPr/>
          <p:nvPr/>
        </p:nvGrpSpPr>
        <p:grpSpPr>
          <a:xfrm>
            <a:off x="195120" y="5340240"/>
            <a:ext cx="2121120" cy="639720"/>
            <a:chOff x="195120" y="5340240"/>
            <a:chExt cx="2121120" cy="639720"/>
          </a:xfrm>
        </p:grpSpPr>
        <p:pic>
          <p:nvPicPr>
            <p:cNvPr id="77" name="Zaoblený obdélník 2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95120" y="5340240"/>
              <a:ext cx="2121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76120" y="5397480"/>
              <a:ext cx="1960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TERAKTIVN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Zaoblený obdélník 9"/>
          <p:cNvGrpSpPr/>
          <p:nvPr/>
        </p:nvGrpSpPr>
        <p:grpSpPr>
          <a:xfrm>
            <a:off x="225360" y="5999040"/>
            <a:ext cx="2121120" cy="639720"/>
            <a:chOff x="225360" y="5999040"/>
            <a:chExt cx="2121120" cy="639720"/>
          </a:xfrm>
        </p:grpSpPr>
        <p:pic>
          <p:nvPicPr>
            <p:cNvPr id="80" name="Zaoblený obdélník 9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5999040"/>
              <a:ext cx="2121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4920" y="6053040"/>
              <a:ext cx="1960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sunami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157800" y="6427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755640" y="981000"/>
            <a:ext cx="762012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754200" cy="620640"/>
          </a:xfrm>
          <a:custGeom>
            <a:avLst/>
            <a:gdLst>
              <a:gd name="textAreaLeft" fmla="*/ 39960 w 754200"/>
              <a:gd name="textAreaRight" fmla="*/ 714240 w 754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46" h="21600">
                <a:moveTo>
                  <a:pt x="0" y="0"/>
                </a:moveTo>
                <a:lnTo>
                  <a:pt x="26246" y="0"/>
                </a:lnTo>
                <a:lnTo>
                  <a:pt x="26246" y="21600"/>
                </a:lnTo>
                <a:lnTo>
                  <a:pt x="0" y="21600"/>
                </a:lnTo>
                <a:close/>
              </a:path>
              <a:path fill="lightenLess" w="26246" h="21600">
                <a:moveTo>
                  <a:pt x="0" y="0"/>
                </a:moveTo>
                <a:lnTo>
                  <a:pt x="26246" y="0"/>
                </a:lnTo>
                <a:lnTo>
                  <a:pt x="24846" y="1400"/>
                </a:lnTo>
                <a:lnTo>
                  <a:pt x="1400" y="1400"/>
                </a:lnTo>
                <a:close/>
              </a:path>
              <a:path fill="darken" w="26246" h="21600">
                <a:moveTo>
                  <a:pt x="26246" y="0"/>
                </a:moveTo>
                <a:lnTo>
                  <a:pt x="26246" y="21600"/>
                </a:lnTo>
                <a:lnTo>
                  <a:pt x="24846" y="20200"/>
                </a:lnTo>
                <a:lnTo>
                  <a:pt x="24846" y="1400"/>
                </a:lnTo>
                <a:close/>
              </a:path>
              <a:path fill="darkenLess" w="26246" h="21600">
                <a:moveTo>
                  <a:pt x="2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6" y="20200"/>
                </a:lnTo>
                <a:close/>
              </a:path>
              <a:path fill="lighten" w="2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46" h="21600">
                <a:moveTo>
                  <a:pt x="6116" y="3794"/>
                </a:moveTo>
                <a:lnTo>
                  <a:pt x="20129" y="10800"/>
                </a:lnTo>
                <a:lnTo>
                  <a:pt x="6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Zaoblený obdélník 8"/>
          <p:cNvGrpSpPr/>
          <p:nvPr/>
        </p:nvGrpSpPr>
        <p:grpSpPr>
          <a:xfrm>
            <a:off x="701640" y="5353200"/>
            <a:ext cx="2017800" cy="620640"/>
            <a:chOff x="701640" y="5353200"/>
            <a:chExt cx="2017800" cy="620640"/>
          </a:xfrm>
        </p:grpSpPr>
        <p:pic>
          <p:nvPicPr>
            <p:cNvPr id="87" name="Zaoblený obdélník 8" descr=""/>
            <p:cNvPicPr/>
            <p:nvPr/>
          </p:nvPicPr>
          <p:blipFill>
            <a:blip r:embed="rId4"/>
            <a:stretch/>
          </p:blipFill>
          <p:spPr>
            <a:xfrm>
              <a:off x="701640" y="5353200"/>
              <a:ext cx="2017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77960" y="5408640"/>
              <a:ext cx="1861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Zaoblený obdélník 10"/>
          <p:cNvGrpSpPr/>
          <p:nvPr/>
        </p:nvGrpSpPr>
        <p:grpSpPr>
          <a:xfrm>
            <a:off x="701640" y="5979960"/>
            <a:ext cx="2017800" cy="622440"/>
            <a:chOff x="701640" y="5979960"/>
            <a:chExt cx="2017800" cy="622440"/>
          </a:xfrm>
        </p:grpSpPr>
        <p:pic>
          <p:nvPicPr>
            <p:cNvPr id="90" name="Zaoblený obdélník 10" descr=""/>
            <p:cNvPicPr/>
            <p:nvPr/>
          </p:nvPicPr>
          <p:blipFill>
            <a:blip r:embed="rId5"/>
            <a:stretch/>
          </p:blipFill>
          <p:spPr>
            <a:xfrm>
              <a:off x="701640" y="5979960"/>
              <a:ext cx="2017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77960" y="6032520"/>
              <a:ext cx="1861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810108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244000" y="5877000"/>
            <a:ext cx="755640" cy="647640"/>
          </a:xfrm>
          <a:custGeom>
            <a:avLst/>
            <a:gdLst>
              <a:gd name="textAreaLeft" fmla="*/ 41760 w 755640"/>
              <a:gd name="textAreaRight" fmla="*/ 713880 w 75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5594" y="3794"/>
                </a:moveTo>
                <a:lnTo>
                  <a:pt x="19606" y="10800"/>
                </a:lnTo>
                <a:lnTo>
                  <a:pt x="5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1:20:36Z</dcterms:created>
  <dc:creator>jj</dc:creator>
  <dc:description/>
  <dc:language>en-US</dc:language>
  <cp:lastModifiedBy>Uživatel</cp:lastModifiedBy>
  <dcterms:modified xsi:type="dcterms:W3CDTF">2014-02-01T17:38:58Z</dcterms:modified>
  <cp:revision>22</cp:revision>
  <dc:subject/>
  <dc:title>OCEÁNY A MOŘE</dc:title>
</cp:coreProperties>
</file>