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5FE0-148A-4992-8F4B-1712B84B4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0CB4-F6F1-46D9-A14C-F58B52A84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7685-7DD2-48CF-BA5C-3CCE80E53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8A6D-76A3-4494-97EE-A0708A4BB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EF9D-257E-4877-88FC-6059F150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B9B3-F37A-4EEA-87DB-DB4AD3AB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E452-4DD5-45A8-B8FA-200DC125D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B498-FDF3-496B-AA4E-2815F77C6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360B-93DD-4696-B081-0E03E63E0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63BC-89E5-4A84-8116-92236127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D664-5277-43E0-9089-B6CDC7E8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BA40-2105-43DC-BB48-D8EA0FDB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E6DC4-0217-4916-9018-784CA05363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" Target="slide1.xm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ICHÝ OCEÁN (PACIFIK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Tichy_ocean" descr=""/>
          <p:cNvPicPr/>
          <p:nvPr/>
        </p:nvPicPr>
        <p:blipFill>
          <a:blip r:embed="rId1"/>
          <a:stretch/>
        </p:blipFill>
        <p:spPr>
          <a:xfrm>
            <a:off x="5029200" y="2666880"/>
            <a:ext cx="3962520" cy="3962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7146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hawai" descr=""/>
          <p:cNvPicPr/>
          <p:nvPr/>
        </p:nvPicPr>
        <p:blipFill>
          <a:blip r:embed="rId2"/>
          <a:stretch/>
        </p:blipFill>
        <p:spPr>
          <a:xfrm>
            <a:off x="0" y="685800"/>
            <a:ext cx="5105520" cy="3200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14680" y="1714680"/>
            <a:ext cx="7315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imag020501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219320" y="4038480"/>
            <a:ext cx="210960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jdi na map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Kterými oceány a světadíly je Tichý oceán ohraničen? Jaká je poloha Tichého oceán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ljašský záliv, Panamský průplav, Drakeův průliv, Tasmanovo moře, Korálové moře, Filipínské moře, Japonské moře, Žluté moře, Ochotské moře, Beringovo moř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ý Zéland, Nová Guinea, Filipíny, Japonsko, Mikronésie, Melanésie, Havajské ostrovy, Galapá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04920" y="0"/>
            <a:ext cx="8610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zložen přes všechny klimatické pás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Členité dno s maximální hloubkou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iánský příkop (11 033 m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 hladině je roztroušeno přes 10 000 ostrovů (tzv. Oceáni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él zlomů desek vzniká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zemětřesná a sopečná činnost (Japonsko, Amerika, Havajské ostrovy aj.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hawaii_sts26_big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057400" y="2241720"/>
            <a:ext cx="5029200" cy="46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520" y="3049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spodářské využití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ybolov (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světové produk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prava (Asie – Austrálie – Amerik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stovní ru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ová hran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jdeš některé významné přístavy na březích Tichého oceán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anama-canal-0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3276720"/>
            <a:ext cx="4952880" cy="3301920"/>
          </a:xfrm>
          <a:prstGeom prst="rect">
            <a:avLst/>
          </a:prstGeom>
          <a:ln w="0">
            <a:noFill/>
          </a:ln>
        </p:spPr>
      </p:pic>
      <p:pic>
        <p:nvPicPr>
          <p:cNvPr id="53" name="markfoo" descr=""/>
          <p:cNvPicPr/>
          <p:nvPr/>
        </p:nvPicPr>
        <p:blipFill>
          <a:blip r:embed="rId3"/>
          <a:stretch/>
        </p:blipFill>
        <p:spPr>
          <a:xfrm>
            <a:off x="5029200" y="3774960"/>
            <a:ext cx="411480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6T13:10:52Z</dcterms:created>
  <dc:creator>kk</dc:creator>
  <dc:description/>
  <dc:language>en-US</dc:language>
  <cp:lastModifiedBy>kk</cp:lastModifiedBy>
  <dcterms:modified xsi:type="dcterms:W3CDTF">2006-05-16T13:36:40Z</dcterms:modified>
  <cp:revision>5</cp:revision>
  <dc:subject/>
  <dc:title>TICHÝ OCEÁN (PACIFIK)</dc:title>
</cp:coreProperties>
</file>