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16B-9246-4127-B419-26C7223D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3A0-A2AA-499E-9436-31BBAAD0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FAB-9657-4BD4-89BA-8A7D8A3D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B0FE-7FDB-481F-86FE-607E93E6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9F11-C49C-46BD-82B4-365A670B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C25F-FCDF-4068-A61C-C1F9468F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6B4-7C3A-415A-AF29-33FB1992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D25F-DA1B-42F3-BDB6-74F0869D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1882-C7C0-462D-95CC-7AB4C8CC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92B-ACD2-4134-91B3-085E848A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4AD-971B-4C42-960B-6FAB0414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9A5-1DFD-48DF-9F96-F21DA14F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42FC-9819-43CB-8206-C16009351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LANTICKÝ A SEVERNÍ LEDOVÝ OCE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titanic-2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40080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LANTICKÝ OCE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největší (94 mil. km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liéf dn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tředoatlantický hřb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nejdelší pohoří světa – pohyb lit. desek od sebe)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šelf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lubokomořský příko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Portorick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Význ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oprava (přístavy- Rotterd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ěžba (ropa, plyn, štěrk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ybolo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6483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368800">
            <a:off x="3614400" y="499140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ečištění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uez" descr=""/>
          <p:cNvPicPr/>
          <p:nvPr/>
        </p:nvPicPr>
        <p:blipFill>
          <a:blip r:embed="rId1"/>
          <a:stretch/>
        </p:blipFill>
        <p:spPr>
          <a:xfrm>
            <a:off x="4800600" y="685800"/>
            <a:ext cx="4343400" cy="2805120"/>
          </a:xfrm>
          <a:prstGeom prst="rect">
            <a:avLst/>
          </a:prstGeom>
          <a:ln w="0">
            <a:noFill/>
          </a:ln>
        </p:spPr>
      </p:pic>
      <p:pic>
        <p:nvPicPr>
          <p:cNvPr id="48" name="boat4" descr=""/>
          <p:cNvPicPr/>
          <p:nvPr/>
        </p:nvPicPr>
        <p:blipFill>
          <a:blip r:embed="rId2"/>
          <a:stretch/>
        </p:blipFill>
        <p:spPr>
          <a:xfrm>
            <a:off x="4800600" y="3602160"/>
            <a:ext cx="434340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VERNÍ LEDOVÝ OCE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jmenší a nejchladnějš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ktický klimatický pás (SP – R. Peary 1909, SPK)     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RKT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Význ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ybolov (velryb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ýzk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avy (Murmansk a Archangelsk)      Golfský proud, ledob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590920"/>
            <a:ext cx="609840" cy="257040"/>
          </a:xfrm>
          <a:prstGeom prst="rightArrow">
            <a:avLst>
              <a:gd name="adj1" fmla="val 50000"/>
              <a:gd name="adj2" fmla="val 59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5181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Ledoborec%20z%20boku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4572000" cy="3033720"/>
          </a:xfrm>
          <a:prstGeom prst="rect">
            <a:avLst/>
          </a:prstGeom>
          <a:ln w="0">
            <a:noFill/>
          </a:ln>
        </p:spPr>
      </p:pic>
      <p:pic>
        <p:nvPicPr>
          <p:cNvPr id="54" name="north-pole-sub" descr=""/>
          <p:cNvPicPr/>
          <p:nvPr/>
        </p:nvPicPr>
        <p:blipFill>
          <a:blip r:embed="rId2"/>
          <a:stretch/>
        </p:blipFill>
        <p:spPr>
          <a:xfrm>
            <a:off x="4724280" y="3809880"/>
            <a:ext cx="4419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6:20:55Z</dcterms:created>
  <dc:creator>kk</dc:creator>
  <dc:description/>
  <dc:language>en-US</dc:language>
  <cp:lastModifiedBy>kk</cp:lastModifiedBy>
  <dcterms:modified xsi:type="dcterms:W3CDTF">2006-01-30T17:00:11Z</dcterms:modified>
  <cp:revision>2</cp:revision>
  <dc:subject/>
  <dc:title>ATLANTICKÝ A SEVERNÍ LEDOVÝ OCEÁN</dc:title>
</cp:coreProperties>
</file>