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898D-C1C5-4A7E-836F-E4283272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9B98-A058-4219-ADD9-A7794984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7F85-D8D8-4C4B-8B23-90B93401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3EA-8BBA-45CE-81EA-5D72D9AF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EA7-5B40-472B-AB33-BB9673B3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A3F8-CEE8-4D89-B339-27A3811B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0D33-4194-4020-8B76-8280F481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CA53-084B-45DE-A549-7DE15CB0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1BF8-98D9-4045-89DC-2DA8171B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110A-9ED4-491B-8C41-2166D0E6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D0E7-3FA9-4299-9798-33E8AAA7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4A91-214D-468E-8A65-0D6EF85E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5B7A-2248-4205-A2D9-02D0A3EF5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CKÝ OCE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5335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jteplejší oce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Indicky_ocean" descr=""/>
          <p:cNvPicPr/>
          <p:nvPr/>
        </p:nvPicPr>
        <p:blipFill>
          <a:blip r:embed="rId1"/>
          <a:stretch/>
        </p:blipFill>
        <p:spPr>
          <a:xfrm>
            <a:off x="4419720" y="2057400"/>
            <a:ext cx="4495680" cy="4495680"/>
          </a:xfrm>
          <a:prstGeom prst="rect">
            <a:avLst/>
          </a:prstGeom>
          <a:ln w="0">
            <a:noFill/>
          </a:ln>
        </p:spPr>
      </p:pic>
      <p:pic>
        <p:nvPicPr>
          <p:cNvPr id="44" name="ptrip5018b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3236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jdi na mapě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dé moře, Bab al-Mandab, Adenský záliv, Arabské moře, Perský záliv, Suezský průplav, Bengálský záliv, Velký australský záliv, Mosambický průl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dagaskar, Zanzibar, Komory, Reúnion, Cejlon, Sumatra, Maledivy, Somálský poloostrov, Arabský poloostrov, Přední Indie, Zadní Ind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jhlubší místo Jávský příkop (7 450 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ží převážně na jižní polokouli (tropy, subtropy = prohřívání vody). To umožňuje život korálů (atol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20020613141748135846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4000680" cy="2708280"/>
          </a:xfrm>
          <a:prstGeom prst="rect">
            <a:avLst/>
          </a:prstGeom>
          <a:ln w="0">
            <a:noFill/>
          </a:ln>
        </p:spPr>
      </p:pic>
      <p:pic>
        <p:nvPicPr>
          <p:cNvPr id="49" name="p200109MK009" descr=""/>
          <p:cNvPicPr/>
          <p:nvPr/>
        </p:nvPicPr>
        <p:blipFill>
          <a:blip r:embed="rId2"/>
          <a:stretch/>
        </p:blipFill>
        <p:spPr>
          <a:xfrm>
            <a:off x="5105520" y="2666880"/>
            <a:ext cx="2987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ospodářský význa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rava (ropa: Perský záliv – Japonsko, Evrop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lf – těžba ropy a zemního plyn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pné přístavy (terminál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ybol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valdez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4876920" cy="3230640"/>
          </a:xfrm>
          <a:prstGeom prst="rect">
            <a:avLst/>
          </a:prstGeom>
          <a:ln w="0">
            <a:noFill/>
          </a:ln>
        </p:spPr>
      </p:pic>
      <p:pic>
        <p:nvPicPr>
          <p:cNvPr id="52" name="pdvsaBc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411480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4T19:20:33Z</dcterms:created>
  <dc:creator>kk</dc:creator>
  <dc:description/>
  <dc:language>en-US</dc:language>
  <cp:lastModifiedBy>kk</cp:lastModifiedBy>
  <dcterms:modified xsi:type="dcterms:W3CDTF">2006-05-14T20:11:58Z</dcterms:modified>
  <cp:revision>4</cp:revision>
  <dc:subject/>
  <dc:title>INDICKÝ OCEÁN</dc:title>
</cp:coreProperties>
</file>