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462-B5CC-4AB2-9AF9-5F0AA36B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984-4DC2-4C3D-BF61-A5808BCD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3EF-EEEE-4D8D-BE63-0AB4EB21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7F3-65F3-482E-9B3C-FB4CCCAF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017-F42B-4698-A3F7-2DEEB24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4A0-108B-45C5-841D-86E2871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B2B-4508-4040-A7F9-9377EF44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3D6-EA30-4E62-B932-7017EE85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6EC-9F6D-4883-BD56-16D0CF52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6E2-2798-4715-9D00-0BBFA53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40D-17D3-45D8-84B7-C3DBE94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1F9-BF78-4943-BE85-68DF68E4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E9EC-524A-498A-BC2F-D6BA2D8C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brané státy Oceá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238560" cy="216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3024360" cy="216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8000" y="4292640"/>
            <a:ext cx="3384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ový Zéland - Well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verní a Jižní ostrov leží v mírném oceánském pásu. Vulkanismus (sopky, gejzíry), fjor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vodní obyvatelé Maorové + přistěhovalci z Evrop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ov ovcí a C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6360" y="4016520"/>
            <a:ext cx="35276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pua-Nová Guinea : Port Mores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větší části leží na ostrově Nová Guinea + dalších ostrovech (převážně hornat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ické podnebí = zemědělství. Těžba nerost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2687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dži - Su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vy sopečného a korálového původu leží v tropech (deštný 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en z nejrozvinutějších států Oceánie (těžba nerostů, zemědělství, C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313080" cy="249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3130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54:58Z</dcterms:created>
  <dc:creator>kk</dc:creator>
  <dc:description/>
  <dc:language>en-US</dc:language>
  <cp:lastModifiedBy>kk</cp:lastModifiedBy>
  <dcterms:modified xsi:type="dcterms:W3CDTF">2006-06-07T07:18:49Z</dcterms:modified>
  <cp:revision>4</cp:revision>
  <dc:subject/>
  <dc:title>Vybrané státy Oceánie</dc:title>
</cp:coreProperties>
</file>