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3D4-0B71-4F33-AC21-5A3B9DDD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F74-D575-4313-95B7-21B4B868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C7D-F889-4A26-81E0-E6D0732C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6DC-A846-4B08-A1F2-6E066FB6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9A8-81CA-4161-8B8B-04B260B8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759-FB54-42CE-8105-C9DCB7D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45A-BA6D-4EB9-81C7-521D487C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4C1-105D-49EC-8685-527A2AC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3D7-80E5-48AF-BA33-80CF3274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27F-54A0-45C6-8560-CB999B1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D19-734E-46A1-85B5-A350ACB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A38-3F75-4B57-B4BB-C9CCFC2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1B2B-0830-41EC-9E8F-A56C83933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Oce&#225;ni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Á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0920" y="6184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íc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723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83480" indent="-483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ebí se liší podle vzdálenosti od rovníku a směru větr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y = bohaté na srážky (Havaj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try = tišiny, pasáty, tajfu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y ostrov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vnins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rnatý povrch, spíše na západě Oceánie (Nová Guine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rálov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ropická obl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peč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louhé ostrovní řetězce (Havajské 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92840" y="3213000"/>
            <a:ext cx="3251160" cy="364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032360" cy="267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32000" y="4362480"/>
            <a:ext cx="3333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ánii dělíme na 3 cel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é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roné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né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yvatelst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šlo z JV Asie a  J. Ameriky asi před 35 tisíci lety. Rozložení domorodců narušila koloniz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1949400" cy="268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671640" cy="26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067280" y="4005360"/>
            <a:ext cx="2495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vní zdroj obživy je ZEMĚDĚLSTVÍ (kokosové palmy, banánovník, rybolov, ovce aj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istický r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ěžba nerostných surovin (drahé kovy, k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211640" cy="287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4368960"/>
            <a:ext cx="3816360" cy="2489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7083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7:23:27Z</dcterms:created>
  <dc:creator>kk</dc:creator>
  <dc:description/>
  <dc:language>en-US</dc:language>
  <cp:lastModifiedBy>kk</cp:lastModifiedBy>
  <dcterms:modified xsi:type="dcterms:W3CDTF">2006-06-04T19:03:42Z</dcterms:modified>
  <cp:revision>6</cp:revision>
  <dc:subject/>
  <dc:title>OCEÁNIE</dc:title>
</cp:coreProperties>
</file>