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6BA-B4A6-4829-BF50-18B90D0D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F07-8A9A-4E70-B24D-028336F6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239-3B0D-48BE-9C3D-433F2883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981-BC48-41E5-851D-8AD36867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AAB-3EFD-4F19-BBC2-16FECC65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066-A775-4981-96E2-E15D8343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A5B-BF1E-4263-8BCE-37EA9AF1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BF1-29F3-4AA2-9DAB-FA79224B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D76-F37B-4FC6-938E-AD1FBAF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0AF-9A24-4CA9-9BBC-6D947139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818-927B-4F4E-96F0-FF3F6817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A1C-84A5-4198-8440-76EF05F0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B6EE-A669-4C58-8088-80049E29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á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ní list – cesta kolem svě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370512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ir Francis Drake"/>
          <p:cNvPicPr/>
          <p:nvPr/>
        </p:nvPicPr>
        <p:blipFill>
          <a:blip r:embed="rId2"/>
          <a:stretch/>
        </p:blipFill>
        <p:spPr>
          <a:xfrm>
            <a:off x="4500720" y="2421000"/>
            <a:ext cx="3429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81080" y="692280"/>
            <a:ext cx="95774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ání (počet slov/do tajenky) – individuál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jinak říká Tichému oceánu? (7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lké moře do hloubky 200 metrů. (4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žek pevniny do moře. (3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plav spojující Atlantský a Tichý oceán. (8/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plý oceánský proud, který významně ovlivňuje podnebí Evropy. (7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yb mořské vody způsobený gravitační silou Měsíce a Slunce. (5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last v okolí severního pólu, kterou z velké části tvoří zamrzlý Severní ledový oceán. (7/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ooceánský ………….je obdoba pevninských pohoří. (5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354456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se jinak říká Tichému oceánu? (7/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lké moře do hloubky 200 metrů. (4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žek pevniny do moře. (3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plav spojující Atlantský a Tichý oceán. (8/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ý oceánský proud, který významně ovlivňuje podnebí Evropy. (7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yb mořské vody způsobený gravitační silou Měsíce a Slunce. (5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last v okolí severního pólu, kterou z velké části tvoří zamrzlý Severní ledový oceán. (7/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ředooceánský ………….je obdoba pevninských pohoří. (5/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55245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7848720" cy="350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9120" y="582444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jenka: Přístav - najdi tento přístav na map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is Drake – cesta kolem světa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ráce ve skupi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následující práci vytvořte skupiny po 4-5 žácí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dejte slepou mapu světa (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a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dejte informace podle kterých budou do mapy zakreslovat cestu Francise Drakea (např. http://www.21stoleti.cz/view.php?cisloclanku=2007111627), nebo využijte mé zad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chejte žáky vytvořit průběh cesty F. Drak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ontrolujete cestu (např. dle této map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íčové momenty plav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. Vyplutí 13.12.1577 z anglického přístavu viz. tajenka křížov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I. Zastávka na pobřeží dnešního Maroka (Agádír) – Mogador 27.12.15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II. Přesně o měsíc později kotví na souostroví K……... (napiš název) v Atlantském oceánu (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.š. a 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.d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. 14.4. 1578 připlouvá do zálivu (napiš jeho název) do nějž vtéká řeka Para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. Od června do října roku 1578 prozkoumává průliv mezi Jižní Amerikou a Ohňovou zemí (napiš jeho název)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oté mění kurz na sever. 5.12.1578 Valparaíso, 7.2.1579 Arica (v dnešním  Chile), 5.6.1579 ostrov na 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.š. a 1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.d. dnes patřící Kanadě (napiš jeho náze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II. Vydává se na více než dvojměsíční cestu Pacifikem. Míjí Havajské ostrovy, překračuje 180 rovnoběžku a dne 30.8.1579 přistává na jednom z ostrovů souostroví Pala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III. Další cesta ho vede přes Moluky na Jávu, ze které odplouvá těžší o tuny vzácného koření (13.3.158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IX. V červnu 1580 se dostává z vod Indického oceánu do Atlantiku. Míjí mys D…….. n…….. (doplň jeho název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X. Poslední zásoby doplňuje na pobřeží Sierra Leone (22.7.1580) a odtud míří okolo souostroví Azory zpět do rodné Anglie (Plymouth 26.9.158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ile:Sype - La herdike enterprinse faict par le Signeur Draeck.jpe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Historický záznam cesty kolem světa Sira Francise Drak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ující 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č vyplul F. Drake na tuto zámořskou plavb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kážeš odhadnout jak dlouhá byla plavba F. Drakea: a) 10 000 km, b) 50 000 km, c) 100 0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by šla tato cesta zkrátit v dnešní dob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lepá m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2803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9:01:49Z</dcterms:created>
  <dc:creator>jj</dc:creator>
  <dc:description/>
  <dc:language>en-US</dc:language>
  <cp:lastModifiedBy>jj</cp:lastModifiedBy>
  <dcterms:modified xsi:type="dcterms:W3CDTF">2011-04-06T06:11:48Z</dcterms:modified>
  <cp:revision>9</cp:revision>
  <dc:subject/>
  <dc:title>Snímek 1</dc:title>
</cp:coreProperties>
</file>