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84E-4623-419F-A663-EDB15EE9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B8A-A57F-4215-BD69-6FF49CA6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6FF-95AB-45BE-A5F8-131951E3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C89-08E4-4D3C-86A2-B0F9A4D9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E3F-0A20-49CC-9846-78CEE562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77A-56AB-43F3-9C30-7D6FBA8E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94D-D97A-42D5-AF06-A7CE18D7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006-D09B-40DE-891C-87B07828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745-FA8C-472A-A04D-73CF9ADE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2BC-C44D-425D-A52F-6D762BB1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7BF-5989-48F2-BBDD-B05D061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76E-BC2E-4364-9F99-617C45D2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B828-C9EC-4F9C-AD35-33BEB6624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72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A A JEJÍ OBSA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00px-Mediterranian_Sea_16.61811E_38.99124N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43" name="map1" descr=""/>
          <p:cNvPicPr/>
          <p:nvPr/>
        </p:nvPicPr>
        <p:blipFill>
          <a:blip r:embed="rId2"/>
          <a:stretch/>
        </p:blipFill>
        <p:spPr>
          <a:xfrm>
            <a:off x="76320" y="685800"/>
            <a:ext cx="464796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teodolit_pion" descr=""/>
          <p:cNvPicPr/>
          <p:nvPr/>
        </p:nvPicPr>
        <p:blipFill>
          <a:blip r:embed="rId3"/>
          <a:stretch/>
        </p:blipFill>
        <p:spPr>
          <a:xfrm>
            <a:off x="6553080" y="76320"/>
            <a:ext cx="2300400" cy="3124080"/>
          </a:xfrm>
          <a:prstGeom prst="rect">
            <a:avLst/>
          </a:prstGeom>
          <a:ln w="0">
            <a:noFill/>
          </a:ln>
        </p:spPr>
      </p:pic>
      <p:pic>
        <p:nvPicPr>
          <p:cNvPr id="45" name="teodolit_foif2" descr=""/>
          <p:cNvPicPr/>
          <p:nvPr/>
        </p:nvPicPr>
        <p:blipFill>
          <a:blip r:embed="rId4"/>
          <a:stretch/>
        </p:blipFill>
        <p:spPr>
          <a:xfrm>
            <a:off x="1143000" y="4114800"/>
            <a:ext cx="19479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a je znázornění zemského povrchu v rovi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ři jejich tvorbě dochází ke zkreslení  (čím menší území mapa znázorňuje, tím menší je zkreslení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brazení na mapě je zmenšeno proti skutečnosti – měřítko m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šechny mapy jsou orientovány k se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rno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4673520" cy="3249720"/>
          </a:xfrm>
          <a:prstGeom prst="rect">
            <a:avLst/>
          </a:prstGeom>
          <a:ln w="0">
            <a:noFill/>
          </a:ln>
        </p:spPr>
      </p:pic>
      <p:pic>
        <p:nvPicPr>
          <p:cNvPr id="48" name="mapa-1" descr=""/>
          <p:cNvPicPr/>
          <p:nvPr/>
        </p:nvPicPr>
        <p:blipFill>
          <a:blip r:embed="rId2"/>
          <a:stretch/>
        </p:blipFill>
        <p:spPr>
          <a:xfrm>
            <a:off x="4191120" y="4343400"/>
            <a:ext cx="48574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56383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AH M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mapách znázorňujeme terén  (povrch) se vším, co kolem sebe vidí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ÝŠK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H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apa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60199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ÝŠKO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kladem pro určování výškopisu je NADMOŘSKÁ VÝ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ázorňujeme pomo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ev (čím vyšší tím tmavš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óty (výškový bod označený tečkou s popis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stevnice (čára spojující místa se stejnou výšk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OHO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ázorní co vidíme v terénu (toky, silnice, sídla, lesy a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robné mapy – zobrazeno vš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ehledné mapy (světadíly) – důlež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jádřen pomocí SMLUVENÝCH ZNAČEK (legen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r" descr=""/>
          <p:cNvPicPr/>
          <p:nvPr/>
        </p:nvPicPr>
        <p:blipFill>
          <a:blip r:embed="rId1"/>
          <a:stretch/>
        </p:blipFill>
        <p:spPr>
          <a:xfrm>
            <a:off x="1981080" y="2239920"/>
            <a:ext cx="55627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z něj by jsme se v mapách nevyzna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ázvy se rozlišuj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ikostí pí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arem pí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vou pí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ůležitá je čitelnost a přehlednost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r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549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A A JEJÍ OBSA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a je zmenšené znázornění zemského povrchu v rovině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mapách rozlišuj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Výškopis (barvy, kóty, vrstev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rstevnice je myšlená čára spojující místa se stejnou nadmořskou výšk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Polohopis (zakreslení toho co vidíme pomocí smluvených značek – legen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Popis (názv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ami se zabývá - KAR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4:55:25Z</dcterms:created>
  <dc:creator>kk</dc:creator>
  <dc:description/>
  <dc:language>en-US</dc:language>
  <cp:lastModifiedBy>kk</cp:lastModifiedBy>
  <dcterms:modified xsi:type="dcterms:W3CDTF">2005-10-03T06:25:33Z</dcterms:modified>
  <cp:revision>1</cp:revision>
  <dc:subject/>
  <dc:title>MAPA A JEJÍ OBSAH</dc:title>
</cp:coreProperties>
</file>