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AAD-B376-40B2-8E22-7D4A9A4C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7BD-B44F-4F93-ACDB-86D33335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DFA9-6C01-4A5B-9795-0361F9F6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ABD-1AFC-4D5A-BFFF-6E44530A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BFC-A9DF-4878-8800-AC1681EE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E497-58D1-4B0B-85D3-D17F3D57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403-638A-46C9-8533-B524CD9D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01D-3012-43F5-A6E5-AD9C8B85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24F-113A-49F9-8F63-A3ACC432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B7C-DE3D-4DF1-AC85-CE12E0CE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50A-D7F3-49EB-B178-DAB4EC01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C30-DFA6-4E7F-80FA-E1262F98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6EE7-1AE3-4446-8EDB-63DB1219F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jvyšší pohoří a hory dle světadíl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lň tabu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547640"/>
            <a:ext cx="91440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609560"/>
            <a:ext cx="9144000" cy="3638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t. Eve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Soubor:Everest North Face toward Base Camp Tibet Luca Galuzzi 2006.jpg"/>
          <p:cNvPicPr/>
          <p:nvPr/>
        </p:nvPicPr>
        <p:blipFill>
          <a:blip r:embed="rId1"/>
          <a:stretch/>
        </p:blipFill>
        <p:spPr>
          <a:xfrm>
            <a:off x="0" y="1197000"/>
            <a:ext cx="7620120" cy="507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88000" y="2638440"/>
            <a:ext cx="28576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hu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File:Mount Kilimanjaro.jpg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410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ile:UhuruPeak.jpg"/>
          <p:cNvPicPr/>
          <p:nvPr/>
        </p:nvPicPr>
        <p:blipFill>
          <a:blip r:embed="rId2"/>
          <a:stretch/>
        </p:blipFill>
        <p:spPr>
          <a:xfrm>
            <a:off x="0" y="4184640"/>
            <a:ext cx="35640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conca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File:Aconcagua 13.JPG"/>
          <p:cNvPicPr/>
          <p:nvPr/>
        </p:nvPicPr>
        <p:blipFill>
          <a:blip r:embed="rId1"/>
          <a:stretch/>
        </p:blipFill>
        <p:spPr>
          <a:xfrm>
            <a:off x="0" y="54936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 Looking back from the summit..."/>
          <p:cNvPicPr/>
          <p:nvPr/>
        </p:nvPicPr>
        <p:blipFill>
          <a:blip r:embed="rId2"/>
          <a:stretch/>
        </p:blipFill>
        <p:spPr>
          <a:xfrm>
            <a:off x="5003640" y="3753000"/>
            <a:ext cx="41403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t. Blan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Soubor:Mont Blanc oct 2004.JPG"/>
          <p:cNvPicPr/>
          <p:nvPr/>
        </p:nvPicPr>
        <p:blipFill>
          <a:blip r:embed="rId1"/>
          <a:stretch/>
        </p:blipFill>
        <p:spPr>
          <a:xfrm>
            <a:off x="68436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t. Mc Kin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File:Mount McKinley and Denali National Park Road 2048px.jpg"/>
          <p:cNvPicPr/>
          <p:nvPr/>
        </p:nvPicPr>
        <p:blipFill>
          <a:blip r:embed="rId1"/>
          <a:stretch/>
        </p:blipFill>
        <p:spPr>
          <a:xfrm>
            <a:off x="0" y="755640"/>
            <a:ext cx="8136000" cy="6102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286680" y="4724280"/>
            <a:ext cx="2857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t. Kosciu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Photo by &lt;a href=&quot;people.html?person=9190&quot;&gt;Terry Daniel&lt;/a&gt;"/>
          <p:cNvPicPr/>
          <p:nvPr/>
        </p:nvPicPr>
        <p:blipFill>
          <a:blip r:embed="rId1"/>
          <a:stretch/>
        </p:blipFill>
        <p:spPr>
          <a:xfrm>
            <a:off x="0" y="981000"/>
            <a:ext cx="5329080" cy="3997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Photo by Rudolf Willing"/>
          <p:cNvPicPr/>
          <p:nvPr/>
        </p:nvPicPr>
        <p:blipFill>
          <a:blip r:embed="rId2"/>
          <a:stretch/>
        </p:blipFill>
        <p:spPr>
          <a:xfrm>
            <a:off x="4175280" y="3554280"/>
            <a:ext cx="496872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49:25Z</dcterms:created>
  <dc:creator>jj</dc:creator>
  <dc:description/>
  <dc:language>en-US</dc:language>
  <cp:lastModifiedBy>jj</cp:lastModifiedBy>
  <dcterms:modified xsi:type="dcterms:W3CDTF">2010-12-14T14:12:16Z</dcterms:modified>
  <cp:revision>2</cp:revision>
  <dc:subject/>
  <dc:title>Nejvyšší pohoří a hory dle světadílů </dc:title>
</cp:coreProperties>
</file>