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13C0-E861-4789-B2D3-FC82EF88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71E0-DA06-4266-8505-54009917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66A7-07B0-4049-8D1A-5918B080A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B309-3D9E-4670-96D7-E1492AD13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EEFC-3968-45F0-9423-44E877DE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7BAE-ADC7-462B-9E6C-83C4FBDD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764F-CCA8-4C5D-A92D-675C2E7A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D0DC-AE72-4A24-995E-8193475B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C464-45D6-4EC0-A309-46589CE0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CDBD-4B33-4252-8DA6-7453D8B7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D129-7BF3-4E21-AF93-9DDEAD2C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E80D-1884-4042-BAF8-CA9A8F85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5091-CA2D-4E4E-A3FC-A829B5E91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13390_4" descr=""/>
          <p:cNvPicPr/>
          <p:nvPr/>
        </p:nvPicPr>
        <p:blipFill>
          <a:blip r:embed="rId1"/>
          <a:stretch/>
        </p:blipFill>
        <p:spPr>
          <a:xfrm>
            <a:off x="152280" y="558720"/>
            <a:ext cx="5410440" cy="3606840"/>
          </a:xfrm>
          <a:prstGeom prst="rect">
            <a:avLst/>
          </a:prstGeom>
          <a:ln w="0">
            <a:noFill/>
          </a:ln>
        </p:spPr>
      </p:pic>
      <p:pic>
        <p:nvPicPr>
          <p:cNvPr id="42" name="01" descr=""/>
          <p:cNvPicPr/>
          <p:nvPr/>
        </p:nvPicPr>
        <p:blipFill>
          <a:blip r:embed="rId2"/>
          <a:stretch/>
        </p:blipFill>
        <p:spPr>
          <a:xfrm>
            <a:off x="5638680" y="152280"/>
            <a:ext cx="3349800" cy="4313520"/>
          </a:xfrm>
          <a:prstGeom prst="rect">
            <a:avLst/>
          </a:prstGeom>
          <a:ln w="0">
            <a:noFill/>
          </a:ln>
        </p:spPr>
      </p:pic>
      <p:pic>
        <p:nvPicPr>
          <p:cNvPr id="43" name="28-monsun" descr=""/>
          <p:cNvPicPr/>
          <p:nvPr/>
        </p:nvPicPr>
        <p:blipFill>
          <a:blip r:embed="rId3"/>
          <a:stretch/>
        </p:blipFill>
        <p:spPr>
          <a:xfrm>
            <a:off x="5257800" y="4572000"/>
            <a:ext cx="3657600" cy="2068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4952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onzun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vodně a záplav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6400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 a JV Asie (Přední a Zadní Indie, Čína, Korea, Japonsko, Indonésie) je ovlivněna tzv.  MONZUN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ní monzu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vysoké srážky (z moře nad pevnin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Zimní monzu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sucho a chladno (z pevniny nad moř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eget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monzunové lesy (podobné tropickým nejsou tak bujn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Vysoce zemědělsky využívané (rýžová pole – sklizeň i 3x do roka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Zvíř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jako v tropech + savci (slon, tygr, buv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3316" descr=""/>
          <p:cNvPicPr/>
          <p:nvPr/>
        </p:nvPicPr>
        <p:blipFill>
          <a:blip r:embed="rId1"/>
          <a:stretch/>
        </p:blipFill>
        <p:spPr>
          <a:xfrm>
            <a:off x="6477120" y="990720"/>
            <a:ext cx="2514600" cy="4876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848720" y="1295280"/>
            <a:ext cx="5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2280" y="4876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553080" y="9907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i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37240" y="331776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4T18:54:14Z</dcterms:created>
  <dc:creator>kk</dc:creator>
  <dc:description/>
  <dc:language>en-US</dc:language>
  <cp:lastModifiedBy>kk</cp:lastModifiedBy>
  <dcterms:modified xsi:type="dcterms:W3CDTF">2006-01-24T18:55:33Z</dcterms:modified>
  <cp:revision>1</cp:revision>
  <dc:subject/>
  <dc:title>Monzuny  povodně a záplavy</dc:title>
</cp:coreProperties>
</file>