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1.png" ContentType="image/png"/>
  <Override PartName="/ppt/media/image6.png" ContentType="image/png"/>
  <Override PartName="/ppt/media/image3.gif" ContentType="image/gif"/>
  <Override PartName="/ppt/media/4,24%20%20Hymn%20To%20Her%20-%20The%20Pretenders.wav" ContentType="audio/x-wav"/>
  <Override PartName="/ppt/media/image9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5.gif" ContentType="image/gif"/>
  <Override PartName="/ppt/media/image8.png" ContentType="image/png"/>
  <Override PartName="/ppt/media/image2.png" ContentType="image/png"/>
  <Override PartName="/ppt/media/image12.png" ContentType="image/png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7995-27D2-49E2-8AA0-2AF54C3E941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CC04-8E64-4C79-B273-EC7EC9BD16E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CED1-6E64-44E0-B89F-A3BC4EEC1C0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5B70-C0C7-46F2-9D66-83D1416E83D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3822-C859-4574-A498-927FDF9797A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E732-4F99-4019-9B17-C13E35D51B3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B59E-A089-4A28-9A4F-454A0297425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C8CE-55A8-4F76-BB14-2634B03AE04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FC73-8F32-4F4F-8EA5-A440E4BBC48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DBCE-867E-4ADE-872D-64C7D8DEB9E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893C-0F8A-4311-AC3B-41736679D0A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EF4D-DC70-410B-913A-A0CA2F913E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081E-8E12-46B4-8937-EC0E9EAB634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332E-0DA1-41F7-846E-EE0730CF77F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B67E-FF94-441F-9434-FD9BC9EA0FC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363-8A5A-49D8-9CA4-0068E3B7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B9E-0BC4-45D1-BE22-18540C9B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449-B6A0-4973-BEDA-BDA6409A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F63-BBCC-496B-BE9E-FAAF9DBC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5AD-F162-4802-99CA-779C3DD5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B66-3EE7-40B4-8CC7-98E90561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BB21-05F6-43A2-B4B1-4CB5DBC8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8F6-9D4B-409A-8781-8F271DCE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737-4DBA-4933-8659-91B2B84A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967-C72F-4945-85FA-7E3082B7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B7F-F0A5-4D31-BC47-11B63DFE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E08F-624B-4E6E-A8A4-2110E8BA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A519-BED1-4E0C-ABE6-FE2D41F724E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audio" Target="../media/4,24%20%20Hymn%20To%20Her%20-%20The%20Pretender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5"/>
          <p:cNvGrpSpPr/>
          <p:nvPr/>
        </p:nvGrpSpPr>
        <p:grpSpPr>
          <a:xfrm>
            <a:off x="1636560" y="704880"/>
            <a:ext cx="5870880" cy="5447880"/>
            <a:chOff x="1636560" y="704880"/>
            <a:chExt cx="5870880" cy="5447880"/>
          </a:xfrm>
        </p:grpSpPr>
        <p:pic>
          <p:nvPicPr>
            <p:cNvPr id="49" name="Picture 4" descr=""/>
            <p:cNvPicPr/>
            <p:nvPr/>
          </p:nvPicPr>
          <p:blipFill>
            <a:blip r:embed="rId1"/>
            <a:srcRect l="2876" t="7315" r="6655" b="8323"/>
            <a:stretch/>
          </p:blipFill>
          <p:spPr>
            <a:xfrm>
              <a:off x="2909520" y="704880"/>
              <a:ext cx="3148920" cy="425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Rectangle 2" descr=""/>
            <p:cNvPicPr/>
            <p:nvPr/>
          </p:nvPicPr>
          <p:blipFill>
            <a:blip r:embed="rId2"/>
            <a:stretch/>
          </p:blipFill>
          <p:spPr>
            <a:xfrm>
              <a:off x="1636560" y="4753440"/>
              <a:ext cx="5870880" cy="139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9" descr="music21"/>
          <p:cNvPicPr/>
          <p:nvPr/>
        </p:nvPicPr>
        <p:blipFill>
          <a:blip r:embed="rId3"/>
          <a:stretch/>
        </p:blipFill>
        <p:spPr>
          <a:xfrm>
            <a:off x="2087640" y="6308640"/>
            <a:ext cx="4968720" cy="14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Obraz1i"/>
          <p:cNvPicPr/>
          <p:nvPr/>
        </p:nvPicPr>
        <p:blipFill>
          <a:blip r:embed="rId4"/>
          <a:stretch/>
        </p:blipFill>
        <p:spPr>
          <a:xfrm>
            <a:off x="1219320" y="5616720"/>
            <a:ext cx="79524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Obraz1i"/>
          <p:cNvPicPr/>
          <p:nvPr/>
        </p:nvPicPr>
        <p:blipFill>
          <a:blip r:embed="rId5"/>
          <a:stretch/>
        </p:blipFill>
        <p:spPr>
          <a:xfrm>
            <a:off x="7056360" y="5616720"/>
            <a:ext cx="795240" cy="9144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3" descr="[]"/>
          <p:cNvPicPr/>
          <p:nvPr/>
        </p:nvPicPr>
        <p:blipFill>
          <a:blip r:embed="rId6">
            <a:grayscl/>
          </a:blip>
          <a:stretch/>
        </p:blipFill>
        <p:spPr>
          <a:xfrm>
            <a:off x="8501040" y="6215040"/>
            <a:ext cx="349200" cy="317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 advTm="30000">
    <p:split dir="out" orient="vert"/>
    <p:sndAc>
      <p:stSnd>
        <p:snd r:embed="rId7" name="4,24%20%20Hymn%20To%20Her%20-%20The%20Pretender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ext Box 4" descr=""/>
          <p:cNvPicPr/>
          <p:nvPr/>
        </p:nvPicPr>
        <p:blipFill>
          <a:blip r:embed="rId1"/>
          <a:stretch/>
        </p:blipFill>
        <p:spPr>
          <a:xfrm>
            <a:off x="3230640" y="1987560"/>
            <a:ext cx="5846760" cy="275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185760" y="1285920"/>
            <a:ext cx="3457440" cy="4530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3" descr="[]"/>
          <p:cNvPicPr/>
          <p:nvPr/>
        </p:nvPicPr>
        <p:blipFill>
          <a:blip r:embed="rId3">
            <a:grayscl/>
          </a:blip>
          <a:stretch/>
        </p:blipFill>
        <p:spPr>
          <a:xfrm>
            <a:off x="8501040" y="6215040"/>
            <a:ext cx="349200" cy="317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 advTm="30000">
    <p:split dir="out" orient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ext Box 3" descr=""/>
          <p:cNvPicPr/>
          <p:nvPr/>
        </p:nvPicPr>
        <p:blipFill>
          <a:blip r:embed="rId1"/>
          <a:stretch/>
        </p:blipFill>
        <p:spPr>
          <a:xfrm>
            <a:off x="92160" y="1987560"/>
            <a:ext cx="5656320" cy="275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5286240" y="900000"/>
            <a:ext cx="3857760" cy="50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3" descr="[]"/>
          <p:cNvPicPr/>
          <p:nvPr/>
        </p:nvPicPr>
        <p:blipFill>
          <a:blip r:embed="rId3">
            <a:grayscl/>
          </a:blip>
          <a:stretch/>
        </p:blipFill>
        <p:spPr>
          <a:xfrm>
            <a:off x="8501040" y="6215040"/>
            <a:ext cx="349200" cy="317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 advTm="30000">
    <p:split dir="out" orient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9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ext Box 3" descr=""/>
          <p:cNvPicPr/>
          <p:nvPr/>
        </p:nvPicPr>
        <p:blipFill>
          <a:blip r:embed="rId1"/>
          <a:stretch/>
        </p:blipFill>
        <p:spPr>
          <a:xfrm>
            <a:off x="19080" y="2163600"/>
            <a:ext cx="6235560" cy="2427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857840" y="995400"/>
            <a:ext cx="3713040" cy="4867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3" descr="[]"/>
          <p:cNvPicPr/>
          <p:nvPr/>
        </p:nvPicPr>
        <p:blipFill>
          <a:blip r:embed="rId3">
            <a:grayscl/>
          </a:blip>
          <a:stretch/>
        </p:blipFill>
        <p:spPr>
          <a:xfrm>
            <a:off x="8501040" y="6215040"/>
            <a:ext cx="349200" cy="317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 advTm="30000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14200" y="1268280"/>
            <a:ext cx="3294000" cy="4321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3" descr="[]"/>
          <p:cNvPicPr/>
          <p:nvPr/>
        </p:nvPicPr>
        <p:blipFill>
          <a:blip r:embed="rId2">
            <a:grayscl/>
          </a:blip>
          <a:stretch/>
        </p:blipFill>
        <p:spPr>
          <a:xfrm>
            <a:off x="8501040" y="6215040"/>
            <a:ext cx="349200" cy="317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492360" y="1916280"/>
            <a:ext cx="4392720" cy="29286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split dir="out" orient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ext Box 3" descr=""/>
          <p:cNvPicPr/>
          <p:nvPr/>
        </p:nvPicPr>
        <p:blipFill>
          <a:blip r:embed="rId1"/>
          <a:stretch/>
        </p:blipFill>
        <p:spPr>
          <a:xfrm>
            <a:off x="3193920" y="3303720"/>
            <a:ext cx="5980320" cy="2590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428760" y="847800"/>
            <a:ext cx="3821040" cy="50101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3" descr="[]"/>
          <p:cNvPicPr/>
          <p:nvPr/>
        </p:nvPicPr>
        <p:blipFill>
          <a:blip r:embed="rId3">
            <a:grayscl/>
          </a:blip>
          <a:stretch/>
        </p:blipFill>
        <p:spPr>
          <a:xfrm>
            <a:off x="8501040" y="6215040"/>
            <a:ext cx="349200" cy="317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 advTm="30000">
    <p:split dir="out" orient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7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 Box 2" descr=""/>
          <p:cNvPicPr/>
          <p:nvPr/>
        </p:nvPicPr>
        <p:blipFill>
          <a:blip r:embed="rId1"/>
          <a:stretch/>
        </p:blipFill>
        <p:spPr>
          <a:xfrm>
            <a:off x="3090960" y="1494000"/>
            <a:ext cx="6138720" cy="37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42920" y="1198440"/>
            <a:ext cx="3402000" cy="4461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3" descr="[]"/>
          <p:cNvPicPr/>
          <p:nvPr/>
        </p:nvPicPr>
        <p:blipFill>
          <a:blip r:embed="rId3">
            <a:grayscl/>
          </a:blip>
          <a:stretch/>
        </p:blipFill>
        <p:spPr>
          <a:xfrm>
            <a:off x="8501040" y="6215040"/>
            <a:ext cx="349200" cy="317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 advTm="30000"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ext Box 3" descr=""/>
          <p:cNvPicPr/>
          <p:nvPr/>
        </p:nvPicPr>
        <p:blipFill>
          <a:blip r:embed="rId1"/>
          <a:stretch/>
        </p:blipFill>
        <p:spPr>
          <a:xfrm>
            <a:off x="3687840" y="1109520"/>
            <a:ext cx="5084640" cy="4638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142920" y="947880"/>
            <a:ext cx="3786120" cy="49622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3" descr="[]"/>
          <p:cNvPicPr/>
          <p:nvPr/>
        </p:nvPicPr>
        <p:blipFill>
          <a:blip r:embed="rId3">
            <a:grayscl/>
          </a:blip>
          <a:stretch/>
        </p:blipFill>
        <p:spPr>
          <a:xfrm>
            <a:off x="8501040" y="6215040"/>
            <a:ext cx="349200" cy="317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 advTm="30000"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ext Box 4" descr=""/>
          <p:cNvPicPr/>
          <p:nvPr/>
        </p:nvPicPr>
        <p:blipFill>
          <a:blip r:embed="rId1"/>
          <a:stretch/>
        </p:blipFill>
        <p:spPr>
          <a:xfrm>
            <a:off x="158760" y="1627200"/>
            <a:ext cx="6070680" cy="349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5286240" y="900000"/>
            <a:ext cx="3857760" cy="50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3" descr="[]"/>
          <p:cNvPicPr/>
          <p:nvPr/>
        </p:nvPicPr>
        <p:blipFill>
          <a:blip r:embed="rId3">
            <a:grayscl/>
          </a:blip>
          <a:stretch/>
        </p:blipFill>
        <p:spPr>
          <a:xfrm>
            <a:off x="8501040" y="6215040"/>
            <a:ext cx="349200" cy="317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 advTm="30000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ext Box 3" descr=""/>
          <p:cNvPicPr/>
          <p:nvPr/>
        </p:nvPicPr>
        <p:blipFill>
          <a:blip r:embed="rId1"/>
          <a:stretch/>
        </p:blipFill>
        <p:spPr>
          <a:xfrm>
            <a:off x="3322800" y="1584360"/>
            <a:ext cx="5748120" cy="4017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285840" y="1176480"/>
            <a:ext cx="3435120" cy="45050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3" descr="[]"/>
          <p:cNvPicPr/>
          <p:nvPr/>
        </p:nvPicPr>
        <p:blipFill>
          <a:blip r:embed="rId3">
            <a:grayscl/>
          </a:blip>
          <a:stretch/>
        </p:blipFill>
        <p:spPr>
          <a:xfrm>
            <a:off x="8501040" y="6215040"/>
            <a:ext cx="349200" cy="317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 advTm="30000">
    <p:split dir="out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9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8"/>
          <p:cNvGrpSpPr/>
          <p:nvPr/>
        </p:nvGrpSpPr>
        <p:grpSpPr>
          <a:xfrm>
            <a:off x="457200" y="1066680"/>
            <a:ext cx="8472240" cy="3551040"/>
            <a:chOff x="457200" y="1066680"/>
            <a:chExt cx="8472240" cy="3551040"/>
          </a:xfrm>
        </p:grpSpPr>
        <p:pic>
          <p:nvPicPr>
            <p:cNvPr id="78" name="Text Box 3" descr=""/>
            <p:cNvPicPr/>
            <p:nvPr/>
          </p:nvPicPr>
          <p:blipFill>
            <a:blip r:embed="rId1"/>
            <a:stretch/>
          </p:blipFill>
          <p:spPr>
            <a:xfrm>
              <a:off x="457200" y="1066680"/>
              <a:ext cx="4124160" cy="18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Rectangle 6" descr=""/>
            <p:cNvPicPr/>
            <p:nvPr/>
          </p:nvPicPr>
          <p:blipFill>
            <a:blip r:embed="rId2"/>
            <a:stretch/>
          </p:blipFill>
          <p:spPr>
            <a:xfrm>
              <a:off x="4084560" y="2169360"/>
              <a:ext cx="4844880" cy="244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285840" y="2357280"/>
            <a:ext cx="3433680" cy="4500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3" descr="[]"/>
          <p:cNvPicPr/>
          <p:nvPr/>
        </p:nvPicPr>
        <p:blipFill>
          <a:blip r:embed="rId4">
            <a:grayscl/>
          </a:blip>
          <a:stretch/>
        </p:blipFill>
        <p:spPr>
          <a:xfrm>
            <a:off x="8501040" y="6215040"/>
            <a:ext cx="349200" cy="317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 advTm="30000">
    <p:split dir="out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 Box 3" descr=""/>
          <p:cNvPicPr/>
          <p:nvPr/>
        </p:nvPicPr>
        <p:blipFill>
          <a:blip r:embed="rId1"/>
          <a:stretch/>
        </p:blipFill>
        <p:spPr>
          <a:xfrm>
            <a:off x="3876840" y="1060560"/>
            <a:ext cx="5078160" cy="4638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214200" y="712800"/>
            <a:ext cx="4143600" cy="5432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3" descr="[]"/>
          <p:cNvPicPr/>
          <p:nvPr/>
        </p:nvPicPr>
        <p:blipFill>
          <a:blip r:embed="rId3">
            <a:grayscl/>
          </a:blip>
          <a:stretch/>
        </p:blipFill>
        <p:spPr>
          <a:xfrm>
            <a:off x="8501040" y="6215040"/>
            <a:ext cx="349200" cy="317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 advTm="30000">
    <p:split dir="out" orient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ext Box 3" descr=""/>
          <p:cNvPicPr/>
          <p:nvPr/>
        </p:nvPicPr>
        <p:blipFill>
          <a:blip r:embed="rId1"/>
          <a:stretch/>
        </p:blipFill>
        <p:spPr>
          <a:xfrm>
            <a:off x="19080" y="1627200"/>
            <a:ext cx="6070680" cy="3530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5786280" y="1228680"/>
            <a:ext cx="3357720" cy="4400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3" descr="[]"/>
          <p:cNvPicPr/>
          <p:nvPr/>
        </p:nvPicPr>
        <p:blipFill>
          <a:blip r:embed="rId3">
            <a:grayscl/>
          </a:blip>
          <a:stretch/>
        </p:blipFill>
        <p:spPr>
          <a:xfrm>
            <a:off x="8501040" y="6215040"/>
            <a:ext cx="349200" cy="317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 advTm="30000">
    <p:split dir="out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 Box 3" descr=""/>
          <p:cNvPicPr/>
          <p:nvPr/>
        </p:nvPicPr>
        <p:blipFill>
          <a:blip r:embed="rId1"/>
          <a:stretch/>
        </p:blipFill>
        <p:spPr>
          <a:xfrm>
            <a:off x="3164040" y="1335240"/>
            <a:ext cx="5833800" cy="4084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3460680" cy="4535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98360" y="225360"/>
            <a:ext cx="8747280" cy="6407280"/>
          </a:xfrm>
          <a:prstGeom prst="rect">
            <a:avLst/>
          </a:pr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3" descr="[]"/>
          <p:cNvPicPr/>
          <p:nvPr/>
        </p:nvPicPr>
        <p:blipFill>
          <a:blip r:embed="rId3">
            <a:grayscl/>
          </a:blip>
          <a:stretch/>
        </p:blipFill>
        <p:spPr>
          <a:xfrm>
            <a:off x="8501040" y="6215040"/>
            <a:ext cx="349200" cy="317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 advTm="30000"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20:59Z</dcterms:created>
  <dc:creator>PC</dc:creator>
  <dc:description/>
  <dc:language>en-US</dc:language>
  <cp:lastModifiedBy>jj</cp:lastModifiedBy>
  <dcterms:modified xsi:type="dcterms:W3CDTF">2009-11-28T21:39:53Z</dcterms:modified>
  <cp:revision>73</cp:revision>
  <dc:subject>pps.</dc:subject>
  <dc:title> Miniatura světa</dc:title>
</cp:coreProperties>
</file>