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454-BBB9-4A78-95AB-AC9CE541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02A-5FC7-46BD-A73E-A495623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E2F-6573-47C1-86FD-FA4BF311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388-7025-4400-BCC1-3178A21C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159-A73A-4EDF-AAE4-6C5094F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B81-25DD-4A5D-A7CB-6CB7E1EB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586-C05E-4E2D-91D2-32F0B16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CAD-28E9-44FF-A9A2-4BCD8F30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A8D-EF4D-4BC9-BFF0-F2EC5DF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DE5-0973-4AEE-815E-C7218A9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D24-E70C-41F5-BF90-6E5991BE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C04-6D8A-4DD1-B021-A2B9623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FE6-9FBE-4588-BC03-CDEBFF2F1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user/ondrasek1980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dvabnastezka.cz/zeme/mexiko-1/amerika-mexiko-uvo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cs.wikipedia.org/w/index.php?title=Agave_tequilana&amp;action=edit&amp;redlink=1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cs.wikipedia.org/w/index.php?title=Agave_tequilana&amp;action=edit&amp;redlink=1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EXIK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 NA POMEZ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5840" y="625788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dea o Mexiku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cí učebnice a atlasu najdi a vypiš základní informace o Mexik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ha, povrch, členitost, vodstvo, podnebné pásy, vegetační pá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ídlení (historie, osídlení, města, obyvatelst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podářství (zemědělství, těžba, průmysl a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íma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exiko – Ciudad de Méx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ornatý stát s tropickým podnebím (náhorní plošiny – mírné podnebí – nejhustěji osídlen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d pouští po trop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diáni (Aztékové, Mayové, Olmékové aj.), Španělé, Mestici (I+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ospodářství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-  součástí Severoamerické zóny volného obchodu (NAFT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těžba ropy, zemního plynu, drahé a barevné kov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hemický a strojírenský průmysl + turisti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emědělství (kukuřice, fazole, rajčata, modrá agáve – tequila, plantážnictv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zajímavost – čilá sopečná či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680" y="6308640"/>
            <a:ext cx="395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ímavý odkaz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exiko cestová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ylušti osmisměrku o Mexi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367344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5661000"/>
            <a:ext cx="7812000" cy="10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981000"/>
            <a:ext cx="48592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slední vyspělá říše indiánů, která byla počátkem 16. století zničena Španě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granti (přistěhovalci) z Mexika v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kratka Severoamerické zóny volného obchodu (členy je Mexiko – USA – Kan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lavní město Aztécké říše, zničeno Španěly, kteří na něm založili dnešní hlavní město Mex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lavní město Mex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ozsáhlé pohoří, které prochází celým územím Mex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opka tyčící se u hlavního města Mexika (druhá nejvyšší sopka Mexik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lný destilovaný alkoholický nápoj, vyrábí se z mexického druhu modré agá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ypická zemědělská plodina (luštěnina), která je často používána v mexické kuchy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lká část obyvatel Mexika je tvořena míšenci indiánů a běloch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šíje, která dělí území Mexika na Severní a Střední Amerik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loostrov na jihovýchodě Mexika, který je pokryt tropickou džunglí, a kde najdeme památky indiánské říše původních obyvatel Mexika - Mayů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Řešení osmisměrky o Mexi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3673440" cy="42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5661000"/>
            <a:ext cx="7812000" cy="1057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84720" y="981000"/>
            <a:ext cx="48592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slední vyspělá říše indiánů, která byla počátkem 16. století zničena Španěly.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ZTÉKOV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granti (přistěhovalci) z Mexika v USA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ISP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kratka Severoamerické zóny volného obchodu (členy je Mexiko – USA – Kanada)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NAF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lavní město Aztécké říše, zničeno Španěly, kteří na něm založili dnešní hlavní město Mexika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ENOCHTITL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lavní město Mexika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IUDAD DE MÉ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ozsáhlé pohoří, které prochází celým územím Mex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KORDILL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opka tyčící se u hlavního města Mexika (druhá nejvyšší sopka Mexika)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POPOCATÉPE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lný destilovaný alkoholický nápoj, vyrábí se z mexického druhu modré agáve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EQU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ypická zemědělská plodina (luštěnina), která je často používána v mexické kuchyni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FAZ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lká část obyvatel Mexika je tvořena míšenci indiánů a bělochů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MES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šíje, která dělí území Mexika na Severní a Střední Amerik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EHUANTEPECK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loostrov na jihovýchodě Mexika, který je pokryt tropickou džunglí, a kde najdeme památky indiánské říše původních obyvatel Mexika - Mayů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YUCAT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413000"/>
            <a:ext cx="0" cy="17287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11280" y="1125000"/>
            <a:ext cx="0" cy="223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25360"/>
            <a:ext cx="3024000" cy="35276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33112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5157720"/>
            <a:ext cx="172728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1413000"/>
            <a:ext cx="0" cy="35287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18920" y="2997360"/>
            <a:ext cx="1152360" cy="1368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00000" y="4869000"/>
            <a:ext cx="2376720" cy="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692360" y="1125360"/>
            <a:ext cx="1655640" cy="194328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826920" y="1125000"/>
            <a:ext cx="1944720" cy="2232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1125360"/>
            <a:ext cx="1656000" cy="2016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5280" y="1125360"/>
            <a:ext cx="3456000" cy="4104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3:07:26Z</dcterms:created>
  <dc:creator>kk</dc:creator>
  <dc:description/>
  <dc:language>en-US</dc:language>
  <cp:lastModifiedBy>Administrator</cp:lastModifiedBy>
  <dcterms:modified xsi:type="dcterms:W3CDTF">2009-12-08T08:29:12Z</dcterms:modified>
  <cp:revision>8</cp:revision>
  <dc:subject/>
  <dc:title>MEXIKO</dc:title>
</cp:coreProperties>
</file>