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54E-3EAB-4E81-81B5-C3D4F026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65A-D3BE-4092-BC10-B9310FA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54D-234A-4A1F-A973-8C4CC129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9DF-9AB0-4CB5-A264-1906AEAF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F34-6C88-4578-8FC0-EA32C6D6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D5B-81A7-403D-8B80-44B4BC2D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6EF-2FE4-4E1E-BE0B-E2276925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4BB-438A-4C48-8439-74759CB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C33-A72D-4478-BC8D-B61D3D93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3E0-C520-4D72-B24B-C779763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DAB-D4BF-472C-879E-4D2817C1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26B-08BA-49EC-ADCF-2F53AD4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441A-1F61-41F3-9CAB-C577AB2F54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810240" cy="294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2276640"/>
            <a:ext cx="47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miętasz jak wygląda mapa Europ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żeli tak, to możesz się sprawdzić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żeli nie, to możesz sobie przypomnieć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 lewej pojawią sie kontury państ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wym klawiszem myszki nanieś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 mapę Eur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WODZENIA !!!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ShockwaveFlash1"/>
          <p:cNvGraphicFramePr/>
          <p:nvPr/>
        </p:nvGraphicFramePr>
        <p:xfrm>
          <a:off x="0" y="83664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40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093080" y="6453360"/>
            <a:ext cx="1800000" cy="404640"/>
          </a:xfrm>
          <a:custGeom>
            <a:avLst/>
            <a:gdLst>
              <a:gd name="textAreaLeft" fmla="*/ 25920 w 1800000"/>
              <a:gd name="textAreaRight" fmla="*/ 1774080 w 18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6019" h="21600">
                <a:moveTo>
                  <a:pt x="0" y="0"/>
                </a:moveTo>
                <a:lnTo>
                  <a:pt x="96019" y="0"/>
                </a:lnTo>
                <a:lnTo>
                  <a:pt x="96019" y="21600"/>
                </a:lnTo>
                <a:lnTo>
                  <a:pt x="0" y="21600"/>
                </a:lnTo>
                <a:close/>
              </a:path>
              <a:path fill="lightenLess" w="96019" h="21600">
                <a:moveTo>
                  <a:pt x="0" y="0"/>
                </a:moveTo>
                <a:lnTo>
                  <a:pt x="96019" y="0"/>
                </a:lnTo>
                <a:lnTo>
                  <a:pt x="94619" y="1400"/>
                </a:lnTo>
                <a:lnTo>
                  <a:pt x="1400" y="1400"/>
                </a:lnTo>
                <a:close/>
              </a:path>
              <a:path fill="darken" w="96019" h="21600">
                <a:moveTo>
                  <a:pt x="96019" y="0"/>
                </a:moveTo>
                <a:lnTo>
                  <a:pt x="96019" y="21600"/>
                </a:lnTo>
                <a:lnTo>
                  <a:pt x="94619" y="20200"/>
                </a:lnTo>
                <a:lnTo>
                  <a:pt x="94619" y="1400"/>
                </a:lnTo>
                <a:close/>
              </a:path>
              <a:path fill="darkenLess" w="96019" h="21600">
                <a:moveTo>
                  <a:pt x="96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619" y="20200"/>
                </a:lnTo>
                <a:close/>
              </a:path>
              <a:path fill="lighten" w="96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080" y="5562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pisz pod: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dpowiedz@autograf.pl</a:t>
            </a: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59092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0000"/>
                </a:solidFill>
                <a:latin typeface="Times New Roman"/>
              </a:rPr>
              <a:t>I CO TY NA TO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62520" y="4419720"/>
            <a:ext cx="914400" cy="90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7:32:11Z</dcterms:created>
  <dc:creator>odpowiedz@autograf.pl</dc:creator>
  <dc:description/>
  <dc:language>en-US</dc:language>
  <cp:lastModifiedBy>.</cp:lastModifiedBy>
  <dcterms:modified xsi:type="dcterms:W3CDTF">2005-12-08T20:12:39Z</dcterms:modified>
  <cp:revision>14</cp:revision>
  <dc:subject/>
  <dc:title>-MAPA EUROPY-</dc:title>
</cp:coreProperties>
</file>