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186-22C6-4726-8A6D-B52B6C50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359-ED49-44C8-B4FD-34710CE5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A88-3E8B-4367-BAF6-22E49022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DF5-8044-405E-B0E3-DBEAAA06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EBB-E4B9-427E-99B3-65DDA88F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6AE-E02D-426C-AFF2-B5DBF178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1CA-09D8-44CF-8831-C28D32D2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525-3ADE-4380-A5E5-DACC67AB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536-D7CA-4AF7-9EC9-E386F349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002-6915-43EA-8BCC-B393FD2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9C5-B88A-4041-92D9-C61A1444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654-D853-4858-A941-653C877B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C315-4F0E-4E31-9CCE-CDCC067D02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ffff"/>
                </a:solidFill>
                <a:latin typeface="Times New Roman"/>
              </a:rPr>
              <a:t>LESY MÍRNÉHO PÁS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Times New Roman"/>
              </a:rPr>
              <a:t>Lesy, louky, 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ží 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írném podnebném pás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4 roční období)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římořském a přechodné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dostatek vláhy a menší rozdíly teplot) – vyhovuj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ISTNATÝM LESŮM MÍRNÉHO PÁS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buk, du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původních lesů zůstaly jen zbytky (kácení, žďáření) – dnes louky, pole, vinice, pastviny – nahrazeny jehličnatými lesy (smrkovými monokulturam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vířata – jelen, srnec, prase divoké, jezevec, liška, kuna, veverka, ptáci, vlk, medvěd at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http://images.google.com/url?q=http://www.sos-sumava.cz/polomy/polom100_p.jpg"/>
          <p:cNvPicPr/>
          <p:nvPr/>
        </p:nvPicPr>
        <p:blipFill>
          <a:blip r:embed="rId1"/>
          <a:stretch/>
        </p:blipFill>
        <p:spPr>
          <a:xfrm>
            <a:off x="4419720" y="3540240"/>
            <a:ext cx="4572000" cy="3211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209.15.42.2/images/Artworks/WoodjpgEmailReady/Wood%207685f%20Butternut%20Mountain%20Vermont%20New%20England%20US%20Autumn%20Photograph.jpg"/>
          <p:cNvPicPr/>
          <p:nvPr/>
        </p:nvPicPr>
        <p:blipFill>
          <a:blip r:embed="rId2"/>
          <a:stretch/>
        </p:blipFill>
        <p:spPr>
          <a:xfrm>
            <a:off x="4724280" y="152280"/>
            <a:ext cx="4114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pis</a:t>
            </a:r>
            <a:br>
              <a:rPr sz="14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sy mírného pásu – Lesy, louky, 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mírném podnebném pás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přímořské, přechodné) – Evropa, východ a západ 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4 roční období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dostatek srážek a vhodné rozdíly teplot vyhovují růst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stnatých opadavých lesů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es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původní l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buk, dub) nahrazen jehličnatými lesy (smrk), neb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přeměněn na kulturní krajin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pole, louk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amostatný záp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920" y="1830240"/>
            <a:ext cx="91360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7:34:04Z</dcterms:created>
  <dc:creator>kk</dc:creator>
  <dc:description/>
  <dc:language>en-US</dc:language>
  <cp:lastModifiedBy>Uživatel</cp:lastModifiedBy>
  <dcterms:modified xsi:type="dcterms:W3CDTF">2014-03-29T07:39:54Z</dcterms:modified>
  <cp:revision>4</cp:revision>
  <dc:subject/>
  <dc:title>LESY MÍRNÉHO PÁSU</dc:title>
</cp:coreProperties>
</file>