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0D90-733F-4560-A81F-55C43507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BDE6-A0A0-4399-B8B2-7C8C71A4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0DBB-6E4B-4E89-816F-5369150E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95C0-FC02-42A9-ACC0-0E7166BF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87BC-8EC8-4E33-878C-F820DF64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EC8D-13C8-4862-9BF9-F74FFD85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5D2E-B6A8-474D-AD30-E630B00F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E59C-EB0F-4EA9-84D0-36619B9B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2958-9ED0-4507-ADE9-48C8C1E6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095E-821D-4008-825C-06B6BBAA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30E6-A7FB-4169-83D0-42F87DAC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4605-DD60-45AD-91AA-192228A2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8F1F-CC70-412F-A8E4-D03F817A5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ŘÍŽOVKA BIOSFÉ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lušti za pomoci obrázků a zjisti co znamená slovo v taj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otáz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0581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otáz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71640" y="128592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.otáz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67676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řížovka biosféra - řeš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2920" y="6040440"/>
            <a:ext cx="684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AFROST – TRVALE ZMRZLÁ PŮDA V OBLASTI TUND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748980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řížovka - zad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48980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5148360" cy="3873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otáz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16360" y="3141720"/>
            <a:ext cx="442764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otázka – název pro As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067280" y="2382840"/>
            <a:ext cx="50767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otáz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129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4.otázka – část světového oceán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691200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otáz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09632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otáz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šechny organismy na zemi tvoří obal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42920" y="2050920"/>
            <a:ext cx="69138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otáz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0567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7:33:31Z</dcterms:created>
  <dc:creator>Administrator</dc:creator>
  <dc:description/>
  <dc:language>en-US</dc:language>
  <cp:lastModifiedBy>jj</cp:lastModifiedBy>
  <dcterms:modified xsi:type="dcterms:W3CDTF">2010-03-30T17:40:04Z</dcterms:modified>
  <cp:revision>4</cp:revision>
  <dc:subject/>
  <dc:title>KŘÍŽOVKA BIOSFÉRA</dc:title>
</cp:coreProperties>
</file>