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462-FD3A-45E1-B4E7-EA965DDF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E14-8657-4F1A-AF5E-06BD8A65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857-6BE7-4817-805A-D4C5F33B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840-21B9-469D-B9A7-F3C1C61D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59E-9A37-4E4B-9E5F-42FDDD43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14B-F95B-489C-AD35-B10A437D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67F-FF4E-40EB-B904-1F30C799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F09-3015-4F94-92BE-58016749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063-A512-46A0-B543-B7F93AE5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001-D891-437C-99F5-949AD4DD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65F-0528-4414-9A0D-73940E2B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F31-F4B4-44A8-8B1D-47A5D1CA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9A9D-3CF3-4C12-A294-BF9410CC3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AJINNÁ (FYZICKOGEOGRAFICKÁ 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FÉRA ZEM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LITOSFÉR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litos – kámen) – zemská ků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PEDOSFÉR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pedos – půda) – půdní 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BIOSFÉR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bios – život) – rostlinná a živočišná sfé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YDROSFÉRA (hydro – voda) - vod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MOSFÉRA (atmos – vzduch) – vzdušný 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335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839080" y="533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3434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4572000"/>
            <a:ext cx="4856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029200"/>
            <a:ext cx="74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ÍRODNÍ KRAJINA – tj. původní člověkem neovlivně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5486400"/>
            <a:ext cx="4856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3960" y="5943600"/>
            <a:ext cx="83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LTURNÍ KRAJINA – tj. člověkem přeměněná přírodní kraj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verest%2025%20(1)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4868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ovodne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735120"/>
            <a:ext cx="746748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k_stromy009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73656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24_Mraky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8376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w6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515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mazonie_PAUL-A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57" name="0,1020,341552,00" descr=""/>
          <p:cNvPicPr/>
          <p:nvPr/>
        </p:nvPicPr>
        <p:blipFill>
          <a:blip r:embed="rId2"/>
          <a:stretch/>
        </p:blipFill>
        <p:spPr>
          <a:xfrm>
            <a:off x="4343400" y="342900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ine-l" descr=""/>
          <p:cNvPicPr/>
          <p:nvPr/>
        </p:nvPicPr>
        <p:blipFill>
          <a:blip r:embed="rId1"/>
          <a:stretch/>
        </p:blipFill>
        <p:spPr>
          <a:xfrm>
            <a:off x="0" y="1295280"/>
            <a:ext cx="4952880" cy="4400640"/>
          </a:xfrm>
          <a:prstGeom prst="rect">
            <a:avLst/>
          </a:prstGeom>
          <a:ln w="0">
            <a:noFill/>
          </a:ln>
        </p:spPr>
      </p:pic>
      <p:pic>
        <p:nvPicPr>
          <p:cNvPr id="59" name="louky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426708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22:09:23Z</dcterms:created>
  <dc:creator>kk</dc:creator>
  <dc:description/>
  <dc:language>en-US</dc:language>
  <cp:lastModifiedBy>kk</cp:lastModifiedBy>
  <dcterms:modified xsi:type="dcterms:W3CDTF">2005-10-30T22:49:00Z</dcterms:modified>
  <cp:revision>2</cp:revision>
  <dc:subject/>
  <dc:title>KRAJINNÁ (FYZICKOGEOGRAFICKÁ ) SFÉRA ZEMĚ</dc:title>
</cp:coreProperties>
</file>