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738-B28B-4B74-B1DF-3C55FBC5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E3D4-2460-495A-BA56-5E14D7C9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5D18-A3DA-43DE-8600-99DD237E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6428-894C-4CE5-9101-AEBA2C64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B05D-1B5B-4B33-9EE5-F59E7C5A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C6F0-B4A1-45E9-B25D-3522B91D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E74D-E7A1-4D19-A26B-18433F8C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24D7-87D5-4D35-8135-1C68E22B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A1B2-E3D4-4976-9A64-808D794D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A4E9-F136-487D-94BF-D14C911A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4979-3DEF-40E9-8493-FB6EB5F9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D1B-7DD9-47DC-87E0-77E96660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18F4-3465-49CB-9D42-255C99DC6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hyperlink" Target="http://www.ceskehory.cz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rajina kolem n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zmanitost krajiny = pestrost kraji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Díky působení si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nitřní síly– vrásnění a zemětřesen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nější síly – vítr, voda, slunce a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ýsledkem těchto sil je tvar povrchu =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LIÉ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vary reliéfu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dle nadmořské výšk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Podle výškových rozdílů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– roviny, pahorkatiny, vrchoviny, hornatiny, veleh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956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95680" y="350532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240" y="327672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žiny (do 200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403848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činy (nad 200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8280" y="5985000"/>
            <a:ext cx="865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jímavé odkazy: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ceskehory.cz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(Vše o českých horách na jednom místě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5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50" name="Alpy_z_szczytu_La_Grande_Motte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752480" y="3352680"/>
            <a:ext cx="5294520" cy="3505320"/>
          </a:xfrm>
          <a:prstGeom prst="rect">
            <a:avLst/>
          </a:prstGeom>
          <a:ln w="0">
            <a:noFill/>
          </a:ln>
        </p:spPr>
      </p:pic>
      <p:pic>
        <p:nvPicPr>
          <p:cNvPr id="51" name="002" descr=""/>
          <p:cNvPicPr/>
          <p:nvPr/>
        </p:nvPicPr>
        <p:blipFill>
          <a:blip r:embed="rId4"/>
          <a:stretch/>
        </p:blipFill>
        <p:spPr>
          <a:xfrm>
            <a:off x="4495680" y="0"/>
            <a:ext cx="4648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18:50:00Z</dcterms:created>
  <dc:creator>kk</dc:creator>
  <dc:description/>
  <dc:language>en-US</dc:language>
  <cp:lastModifiedBy>kk</cp:lastModifiedBy>
  <dcterms:modified xsi:type="dcterms:W3CDTF">2005-12-07T14:57:03Z</dcterms:modified>
  <cp:revision>9</cp:revision>
  <dc:subject/>
  <dc:title>Krajina kolem nás</dc:title>
</cp:coreProperties>
</file>