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8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10.wmf" ContentType="image/x-wmf"/>
  <Override PartName="/ppt/media/image25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1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20.jpeg" ContentType="image/jpeg"/>
  <Override PartName="/ppt/media/image17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C1D-A7BF-44FB-B64B-D1AAC80C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AA9-DFD0-41EB-88AC-3228F60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CC1-A631-437F-A2F3-B3247A97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8AB-EBD1-4CA4-B1EA-FEEA1EEF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18C-89C7-40F5-9AC6-E0BC2011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037-E70C-4BA2-B685-2CB31BF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82C-7E07-40E6-B2B1-FD3CF025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69C-13BB-43A3-B93D-E63CA1BF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32C-E65A-4229-A861-71D974B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891-0C35-4253-B4CD-6E291D76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8F3-DE83-4EE6-B876-DFD4430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C6A-53CC-430B-AC11-0EB02C9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F9A-0E3E-4D6F-9454-39F6FE7AF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VRCHOVÁ V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ky, ledovce, jez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roblémy s povrchovou vod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" y="1109520"/>
            <a:ext cx="381492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nečiště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dostatek v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ysychání to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plavy (povodn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668840" cy="31161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4284720" y="836640"/>
            <a:ext cx="46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nečištění jezera v Indonés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http://www.nato.int/docu/review/2012/Food-Water-Energy/Thought-food/files/2333_pg.jpg"/>
          <p:cNvPicPr/>
          <p:nvPr/>
        </p:nvPicPr>
        <p:blipFill>
          <a:blip r:embed="rId2"/>
          <a:stretch/>
        </p:blipFill>
        <p:spPr>
          <a:xfrm>
            <a:off x="1440" y="3297240"/>
            <a:ext cx="4646880" cy="3560760"/>
          </a:xfrm>
          <a:prstGeom prst="rect">
            <a:avLst/>
          </a:prstGeom>
          <a:ln w="0">
            <a:noFill/>
          </a:ln>
        </p:spPr>
      </p:pic>
      <p:sp>
        <p:nvSpPr>
          <p:cNvPr id="152" name="TextovéPole 8"/>
          <p:cNvSpPr/>
          <p:nvPr/>
        </p:nvSpPr>
        <p:spPr>
          <a:xfrm>
            <a:off x="-20520" y="6402240"/>
            <a:ext cx="46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edostatek vody  je globálním problé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http://g.denik.cz/11/9f/povoden-letecky-snimky-steti-terezin-litomerice-72_denik-1024.jpg"/>
          <p:cNvPicPr/>
          <p:nvPr/>
        </p:nvPicPr>
        <p:blipFill>
          <a:blip r:embed="rId3"/>
          <a:stretch/>
        </p:blipFill>
        <p:spPr>
          <a:xfrm>
            <a:off x="4500720" y="3733920"/>
            <a:ext cx="4876560" cy="31240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2"/>
          <p:cNvSpPr/>
          <p:nvPr/>
        </p:nvSpPr>
        <p:spPr>
          <a:xfrm>
            <a:off x="5767920" y="64022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vodně postihují i naše úze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web_311_948168_1062148121"/>
          <p:cNvPicPr/>
          <p:nvPr/>
        </p:nvPicPr>
        <p:blipFill>
          <a:blip r:embed="rId1"/>
          <a:stretch/>
        </p:blipFill>
        <p:spPr>
          <a:xfrm>
            <a:off x="0" y="4572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aral_sea_1989_2003"/>
          <p:cNvPicPr/>
          <p:nvPr/>
        </p:nvPicPr>
        <p:blipFill>
          <a:blip r:embed="rId2"/>
          <a:stretch/>
        </p:blipFill>
        <p:spPr>
          <a:xfrm>
            <a:off x="3886200" y="1066680"/>
            <a:ext cx="5105520" cy="465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aral2"/>
          <p:cNvPicPr/>
          <p:nvPr/>
        </p:nvPicPr>
        <p:blipFill>
          <a:blip r:embed="rId3"/>
          <a:stretch/>
        </p:blipFill>
        <p:spPr>
          <a:xfrm>
            <a:off x="228600" y="3200400"/>
            <a:ext cx="345924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4498560" y="22860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ychání Aralského jez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9325080" cy="3778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23760" y="-360"/>
            <a:ext cx="916776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globalgeografia.com/mondo/satellite/bajkal.jpg"/>
          <p:cNvPicPr/>
          <p:nvPr/>
        </p:nvPicPr>
        <p:blipFill>
          <a:blip r:embed="rId1"/>
          <a:stretch/>
        </p:blipFill>
        <p:spPr>
          <a:xfrm>
            <a:off x="0" y="0"/>
            <a:ext cx="4443480" cy="5505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zakow.com/~kvson/marta/pliki/amazonka01.jpg"/>
          <p:cNvPicPr/>
          <p:nvPr/>
        </p:nvPicPr>
        <p:blipFill>
          <a:blip r:embed="rId2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39680" y="545148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JKAL – 1 63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018040" y="25560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MAZONKA – 7 025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dov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zásobárna sladké v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evninské (Antarktida, Grónsko, Is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orské (sněžná čá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Spantik%20a%20ledovec%2065"/>
          <p:cNvPicPr/>
          <p:nvPr/>
        </p:nvPicPr>
        <p:blipFill>
          <a:blip r:embed="rId1"/>
          <a:stretch/>
        </p:blipFill>
        <p:spPr>
          <a:xfrm>
            <a:off x="4648320" y="3908520"/>
            <a:ext cx="4495680" cy="294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1116000" y="1908000"/>
            <a:ext cx="6985080" cy="1978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www.world-trek.cz/files/file/489-kilimanjaro.jpg"/>
          <p:cNvPicPr/>
          <p:nvPr/>
        </p:nvPicPr>
        <p:blipFill>
          <a:blip r:embed="rId3"/>
          <a:stretch/>
        </p:blipFill>
        <p:spPr>
          <a:xfrm>
            <a:off x="173160" y="3921120"/>
            <a:ext cx="4417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0" descr="pramen"/>
          <p:cNvPicPr/>
          <p:nvPr/>
        </p:nvPicPr>
        <p:blipFill>
          <a:blip r:embed="rId1"/>
          <a:stretch/>
        </p:blipFill>
        <p:spPr>
          <a:xfrm>
            <a:off x="1692360" y="652464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7640" y="0"/>
            <a:ext cx="9198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Ře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920" y="828360"/>
            <a:ext cx="91440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ky – vodní spojnice mezi pevninou a oceán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rovnávání ře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élka toku (v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ůtok - mění se podle klimatických podmínek a tvaru reliéfu (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– za 1 s proteče 1000 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piš 3 nejdelší řeky světa a najdi je na map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1501920" y="3794040"/>
            <a:ext cx="3411360" cy="2933640"/>
          </a:xfrm>
          <a:custGeom>
            <a:avLst/>
            <a:gdLst/>
            <a:ahLst/>
            <a:rect l="l" t="t" r="r" b="b"/>
            <a:pathLst>
              <a:path w="2149" h="1848">
                <a:moveTo>
                  <a:pt x="0" y="0"/>
                </a:moveTo>
                <a:cubicBezTo>
                  <a:pt x="4" y="34"/>
                  <a:pt x="4" y="103"/>
                  <a:pt x="25" y="138"/>
                </a:cubicBezTo>
                <a:cubicBezTo>
                  <a:pt x="36" y="155"/>
                  <a:pt x="110" y="252"/>
                  <a:pt x="129" y="258"/>
                </a:cubicBezTo>
                <a:cubicBezTo>
                  <a:pt x="192" y="279"/>
                  <a:pt x="261" y="308"/>
                  <a:pt x="326" y="318"/>
                </a:cubicBezTo>
                <a:cubicBezTo>
                  <a:pt x="413" y="331"/>
                  <a:pt x="505" y="338"/>
                  <a:pt x="593" y="344"/>
                </a:cubicBezTo>
                <a:cubicBezTo>
                  <a:pt x="625" y="354"/>
                  <a:pt x="654" y="363"/>
                  <a:pt x="687" y="370"/>
                </a:cubicBezTo>
                <a:cubicBezTo>
                  <a:pt x="729" y="410"/>
                  <a:pt x="758" y="443"/>
                  <a:pt x="791" y="490"/>
                </a:cubicBezTo>
                <a:cubicBezTo>
                  <a:pt x="797" y="498"/>
                  <a:pt x="808" y="516"/>
                  <a:pt x="808" y="516"/>
                </a:cubicBezTo>
                <a:cubicBezTo>
                  <a:pt x="818" y="550"/>
                  <a:pt x="839" y="575"/>
                  <a:pt x="851" y="610"/>
                </a:cubicBezTo>
                <a:cubicBezTo>
                  <a:pt x="879" y="693"/>
                  <a:pt x="888" y="774"/>
                  <a:pt x="945" y="842"/>
                </a:cubicBezTo>
                <a:cubicBezTo>
                  <a:pt x="962" y="862"/>
                  <a:pt x="982" y="891"/>
                  <a:pt x="1006" y="903"/>
                </a:cubicBezTo>
                <a:cubicBezTo>
                  <a:pt x="1027" y="913"/>
                  <a:pt x="1051" y="915"/>
                  <a:pt x="1074" y="920"/>
                </a:cubicBezTo>
                <a:cubicBezTo>
                  <a:pt x="1228" y="956"/>
                  <a:pt x="1215" y="954"/>
                  <a:pt x="1427" y="963"/>
                </a:cubicBezTo>
                <a:cubicBezTo>
                  <a:pt x="1492" y="978"/>
                  <a:pt x="1551" y="1009"/>
                  <a:pt x="1616" y="1023"/>
                </a:cubicBezTo>
                <a:cubicBezTo>
                  <a:pt x="1694" y="1083"/>
                  <a:pt x="1780" y="1140"/>
                  <a:pt x="1874" y="1169"/>
                </a:cubicBezTo>
                <a:cubicBezTo>
                  <a:pt x="1895" y="1183"/>
                  <a:pt x="1955" y="1217"/>
                  <a:pt x="1977" y="1247"/>
                </a:cubicBezTo>
                <a:cubicBezTo>
                  <a:pt x="1984" y="1257"/>
                  <a:pt x="1985" y="1272"/>
                  <a:pt x="1994" y="1281"/>
                </a:cubicBezTo>
                <a:cubicBezTo>
                  <a:pt x="2042" y="1329"/>
                  <a:pt x="2057" y="1313"/>
                  <a:pt x="2080" y="1358"/>
                </a:cubicBezTo>
                <a:cubicBezTo>
                  <a:pt x="2104" y="1406"/>
                  <a:pt x="2119" y="1460"/>
                  <a:pt x="2149" y="1504"/>
                </a:cubicBezTo>
                <a:cubicBezTo>
                  <a:pt x="2142" y="1550"/>
                  <a:pt x="2145" y="1576"/>
                  <a:pt x="2115" y="1608"/>
                </a:cubicBezTo>
                <a:cubicBezTo>
                  <a:pt x="2087" y="1686"/>
                  <a:pt x="2126" y="1785"/>
                  <a:pt x="2063" y="1848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6"/>
          <p:cNvSpPr/>
          <p:nvPr/>
        </p:nvSpPr>
        <p:spPr>
          <a:xfrm>
            <a:off x="4886280" y="6045120"/>
            <a:ext cx="838080" cy="552600"/>
          </a:xfrm>
          <a:custGeom>
            <a:avLst/>
            <a:gdLst/>
            <a:ahLst/>
            <a:rect l="l" t="t" r="r" b="b"/>
            <a:pathLst>
              <a:path w="524" h="325">
                <a:moveTo>
                  <a:pt x="0" y="0"/>
                </a:moveTo>
                <a:cubicBezTo>
                  <a:pt x="7" y="23"/>
                  <a:pt x="13" y="62"/>
                  <a:pt x="34" y="78"/>
                </a:cubicBezTo>
                <a:cubicBezTo>
                  <a:pt x="70" y="106"/>
                  <a:pt x="204" y="103"/>
                  <a:pt x="223" y="104"/>
                </a:cubicBezTo>
                <a:cubicBezTo>
                  <a:pt x="270" y="118"/>
                  <a:pt x="270" y="147"/>
                  <a:pt x="283" y="190"/>
                </a:cubicBezTo>
                <a:cubicBezTo>
                  <a:pt x="288" y="220"/>
                  <a:pt x="292" y="288"/>
                  <a:pt x="335" y="301"/>
                </a:cubicBezTo>
                <a:cubicBezTo>
                  <a:pt x="363" y="309"/>
                  <a:pt x="392" y="307"/>
                  <a:pt x="421" y="310"/>
                </a:cubicBezTo>
                <a:cubicBezTo>
                  <a:pt x="477" y="325"/>
                  <a:pt x="443" y="319"/>
                  <a:pt x="524" y="319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294080" y="6164280"/>
            <a:ext cx="604800" cy="536400"/>
          </a:xfrm>
          <a:custGeom>
            <a:avLst/>
            <a:gdLst/>
            <a:ahLst/>
            <a:rect l="l" t="t" r="r" b="b"/>
            <a:pathLst>
              <a:path w="381" h="338">
                <a:moveTo>
                  <a:pt x="381" y="20"/>
                </a:moveTo>
                <a:cubicBezTo>
                  <a:pt x="318" y="11"/>
                  <a:pt x="278" y="0"/>
                  <a:pt x="209" y="20"/>
                </a:cubicBezTo>
                <a:cubicBezTo>
                  <a:pt x="191" y="25"/>
                  <a:pt x="198" y="55"/>
                  <a:pt x="192" y="72"/>
                </a:cubicBezTo>
                <a:cubicBezTo>
                  <a:pt x="189" y="126"/>
                  <a:pt x="192" y="181"/>
                  <a:pt x="184" y="235"/>
                </a:cubicBezTo>
                <a:cubicBezTo>
                  <a:pt x="182" y="250"/>
                  <a:pt x="90" y="306"/>
                  <a:pt x="72" y="312"/>
                </a:cubicBezTo>
                <a:cubicBezTo>
                  <a:pt x="0" y="336"/>
                  <a:pt x="3" y="306"/>
                  <a:pt x="3" y="3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4927680" y="6210360"/>
            <a:ext cx="312480" cy="531720"/>
          </a:xfrm>
          <a:custGeom>
            <a:avLst/>
            <a:gdLst/>
            <a:ahLst/>
            <a:rect l="l" t="t" r="r" b="b"/>
            <a:pathLst>
              <a:path w="197" h="335">
                <a:moveTo>
                  <a:pt x="0" y="0"/>
                </a:moveTo>
                <a:cubicBezTo>
                  <a:pt x="10" y="15"/>
                  <a:pt x="29" y="26"/>
                  <a:pt x="34" y="43"/>
                </a:cubicBezTo>
                <a:cubicBezTo>
                  <a:pt x="56" y="116"/>
                  <a:pt x="34" y="170"/>
                  <a:pt x="120" y="197"/>
                </a:cubicBezTo>
                <a:cubicBezTo>
                  <a:pt x="143" y="222"/>
                  <a:pt x="137" y="249"/>
                  <a:pt x="154" y="275"/>
                </a:cubicBezTo>
                <a:cubicBezTo>
                  <a:pt x="168" y="296"/>
                  <a:pt x="197" y="307"/>
                  <a:pt x="197" y="3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9"/>
          <p:cNvSpPr/>
          <p:nvPr/>
        </p:nvSpPr>
        <p:spPr>
          <a:xfrm>
            <a:off x="3995640" y="6568920"/>
            <a:ext cx="2521080" cy="57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3138480" y="3575160"/>
            <a:ext cx="2689200" cy="1638360"/>
          </a:xfrm>
          <a:custGeom>
            <a:avLst/>
            <a:gdLst/>
            <a:ahLst/>
            <a:rect l="l" t="t" r="r" b="b"/>
            <a:pathLst>
              <a:path w="1694" h="1032">
                <a:moveTo>
                  <a:pt x="0" y="1032"/>
                </a:moveTo>
                <a:cubicBezTo>
                  <a:pt x="36" y="998"/>
                  <a:pt x="36" y="941"/>
                  <a:pt x="52" y="895"/>
                </a:cubicBezTo>
                <a:cubicBezTo>
                  <a:pt x="61" y="837"/>
                  <a:pt x="69" y="791"/>
                  <a:pt x="121" y="757"/>
                </a:cubicBezTo>
                <a:cubicBezTo>
                  <a:pt x="145" y="720"/>
                  <a:pt x="163" y="723"/>
                  <a:pt x="207" y="714"/>
                </a:cubicBezTo>
                <a:cubicBezTo>
                  <a:pt x="315" y="719"/>
                  <a:pt x="474" y="748"/>
                  <a:pt x="576" y="697"/>
                </a:cubicBezTo>
                <a:cubicBezTo>
                  <a:pt x="594" y="646"/>
                  <a:pt x="570" y="691"/>
                  <a:pt x="628" y="662"/>
                </a:cubicBezTo>
                <a:cubicBezTo>
                  <a:pt x="639" y="657"/>
                  <a:pt x="644" y="643"/>
                  <a:pt x="654" y="637"/>
                </a:cubicBezTo>
                <a:cubicBezTo>
                  <a:pt x="675" y="623"/>
                  <a:pt x="722" y="602"/>
                  <a:pt x="722" y="602"/>
                </a:cubicBezTo>
                <a:cubicBezTo>
                  <a:pt x="767" y="547"/>
                  <a:pt x="764" y="559"/>
                  <a:pt x="826" y="533"/>
                </a:cubicBezTo>
                <a:cubicBezTo>
                  <a:pt x="832" y="525"/>
                  <a:pt x="836" y="516"/>
                  <a:pt x="843" y="508"/>
                </a:cubicBezTo>
                <a:cubicBezTo>
                  <a:pt x="856" y="493"/>
                  <a:pt x="886" y="465"/>
                  <a:pt x="886" y="465"/>
                </a:cubicBezTo>
                <a:cubicBezTo>
                  <a:pt x="894" y="441"/>
                  <a:pt x="900" y="407"/>
                  <a:pt x="920" y="387"/>
                </a:cubicBezTo>
                <a:cubicBezTo>
                  <a:pt x="930" y="377"/>
                  <a:pt x="945" y="372"/>
                  <a:pt x="955" y="361"/>
                </a:cubicBezTo>
                <a:cubicBezTo>
                  <a:pt x="980" y="333"/>
                  <a:pt x="1002" y="291"/>
                  <a:pt x="1023" y="258"/>
                </a:cubicBezTo>
                <a:cubicBezTo>
                  <a:pt x="1042" y="229"/>
                  <a:pt x="1072" y="209"/>
                  <a:pt x="1092" y="181"/>
                </a:cubicBezTo>
                <a:cubicBezTo>
                  <a:pt x="1104" y="165"/>
                  <a:pt x="1109" y="149"/>
                  <a:pt x="1127" y="138"/>
                </a:cubicBezTo>
                <a:cubicBezTo>
                  <a:pt x="1140" y="130"/>
                  <a:pt x="1175" y="124"/>
                  <a:pt x="1187" y="121"/>
                </a:cubicBezTo>
                <a:cubicBezTo>
                  <a:pt x="1305" y="160"/>
                  <a:pt x="1339" y="145"/>
                  <a:pt x="1496" y="138"/>
                </a:cubicBezTo>
                <a:cubicBezTo>
                  <a:pt x="1534" y="125"/>
                  <a:pt x="1565" y="99"/>
                  <a:pt x="1599" y="78"/>
                </a:cubicBezTo>
                <a:cubicBezTo>
                  <a:pt x="1617" y="67"/>
                  <a:pt x="1634" y="55"/>
                  <a:pt x="1651" y="43"/>
                </a:cubicBezTo>
                <a:cubicBezTo>
                  <a:pt x="1660" y="37"/>
                  <a:pt x="1677" y="26"/>
                  <a:pt x="1677" y="26"/>
                </a:cubicBezTo>
                <a:cubicBezTo>
                  <a:pt x="1683" y="17"/>
                  <a:pt x="1694" y="0"/>
                  <a:pt x="169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179280" y="3860640"/>
            <a:ext cx="2428920" cy="2008440"/>
          </a:xfrm>
          <a:custGeom>
            <a:avLst/>
            <a:gdLst/>
            <a:ahLst/>
            <a:rect l="l" t="t" r="r" b="b"/>
            <a:pathLst>
              <a:path w="1530" h="1265">
                <a:moveTo>
                  <a:pt x="1530" y="352"/>
                </a:moveTo>
                <a:cubicBezTo>
                  <a:pt x="1461" y="359"/>
                  <a:pt x="1414" y="367"/>
                  <a:pt x="1358" y="404"/>
                </a:cubicBezTo>
                <a:cubicBezTo>
                  <a:pt x="1355" y="418"/>
                  <a:pt x="1355" y="433"/>
                  <a:pt x="1350" y="447"/>
                </a:cubicBezTo>
                <a:cubicBezTo>
                  <a:pt x="1346" y="457"/>
                  <a:pt x="1336" y="463"/>
                  <a:pt x="1333" y="473"/>
                </a:cubicBezTo>
                <a:cubicBezTo>
                  <a:pt x="1321" y="513"/>
                  <a:pt x="1315" y="568"/>
                  <a:pt x="1307" y="610"/>
                </a:cubicBezTo>
                <a:cubicBezTo>
                  <a:pt x="1301" y="642"/>
                  <a:pt x="1290" y="705"/>
                  <a:pt x="1290" y="705"/>
                </a:cubicBezTo>
                <a:cubicBezTo>
                  <a:pt x="1287" y="771"/>
                  <a:pt x="1286" y="836"/>
                  <a:pt x="1281" y="902"/>
                </a:cubicBezTo>
                <a:cubicBezTo>
                  <a:pt x="1279" y="927"/>
                  <a:pt x="1257" y="952"/>
                  <a:pt x="1247" y="971"/>
                </a:cubicBezTo>
                <a:cubicBezTo>
                  <a:pt x="1205" y="1048"/>
                  <a:pt x="1160" y="1098"/>
                  <a:pt x="1083" y="1143"/>
                </a:cubicBezTo>
                <a:cubicBezTo>
                  <a:pt x="1024" y="1177"/>
                  <a:pt x="952" y="1197"/>
                  <a:pt x="886" y="1212"/>
                </a:cubicBezTo>
                <a:cubicBezTo>
                  <a:pt x="860" y="1218"/>
                  <a:pt x="808" y="1229"/>
                  <a:pt x="808" y="1229"/>
                </a:cubicBezTo>
                <a:cubicBezTo>
                  <a:pt x="654" y="1219"/>
                  <a:pt x="556" y="1265"/>
                  <a:pt x="473" y="1160"/>
                </a:cubicBezTo>
                <a:cubicBezTo>
                  <a:pt x="461" y="1126"/>
                  <a:pt x="435" y="1103"/>
                  <a:pt x="413" y="1074"/>
                </a:cubicBezTo>
                <a:cubicBezTo>
                  <a:pt x="400" y="1027"/>
                  <a:pt x="387" y="985"/>
                  <a:pt x="378" y="937"/>
                </a:cubicBezTo>
                <a:cubicBezTo>
                  <a:pt x="389" y="743"/>
                  <a:pt x="380" y="523"/>
                  <a:pt x="370" y="335"/>
                </a:cubicBezTo>
                <a:cubicBezTo>
                  <a:pt x="368" y="294"/>
                  <a:pt x="327" y="229"/>
                  <a:pt x="292" y="206"/>
                </a:cubicBezTo>
                <a:cubicBezTo>
                  <a:pt x="246" y="143"/>
                  <a:pt x="180" y="93"/>
                  <a:pt x="121" y="43"/>
                </a:cubicBezTo>
                <a:cubicBezTo>
                  <a:pt x="97" y="23"/>
                  <a:pt x="65" y="16"/>
                  <a:pt x="35" y="8"/>
                </a:cubicBezTo>
                <a:cubicBezTo>
                  <a:pt x="23" y="5"/>
                  <a:pt x="0" y="0"/>
                  <a:pt x="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pramen"/>
          <p:cNvPicPr/>
          <p:nvPr/>
        </p:nvPicPr>
        <p:blipFill>
          <a:blip r:embed="rId2"/>
          <a:stretch/>
        </p:blipFill>
        <p:spPr>
          <a:xfrm>
            <a:off x="1403280" y="3500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ramen"/>
          <p:cNvPicPr/>
          <p:nvPr/>
        </p:nvPicPr>
        <p:blipFill>
          <a:blip r:embed="rId3"/>
          <a:stretch/>
        </p:blipFill>
        <p:spPr>
          <a:xfrm>
            <a:off x="34920" y="364500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pramen"/>
          <p:cNvPicPr/>
          <p:nvPr/>
        </p:nvPicPr>
        <p:blipFill>
          <a:blip r:embed="rId4"/>
          <a:stretch/>
        </p:blipFill>
        <p:spPr>
          <a:xfrm>
            <a:off x="5651640" y="32846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6"/>
          <p:cNvSpPr/>
          <p:nvPr/>
        </p:nvSpPr>
        <p:spPr>
          <a:xfrm>
            <a:off x="398520" y="5649840"/>
            <a:ext cx="1062000" cy="1038240"/>
          </a:xfrm>
          <a:custGeom>
            <a:avLst/>
            <a:gdLst/>
            <a:ahLst/>
            <a:rect l="l" t="t" r="r" b="b"/>
            <a:pathLst>
              <a:path w="669" h="654">
                <a:moveTo>
                  <a:pt x="316" y="0"/>
                </a:moveTo>
                <a:cubicBezTo>
                  <a:pt x="223" y="60"/>
                  <a:pt x="138" y="124"/>
                  <a:pt x="50" y="189"/>
                </a:cubicBezTo>
                <a:cubicBezTo>
                  <a:pt x="39" y="206"/>
                  <a:pt x="27" y="224"/>
                  <a:pt x="16" y="241"/>
                </a:cubicBezTo>
                <a:cubicBezTo>
                  <a:pt x="0" y="265"/>
                  <a:pt x="19" y="299"/>
                  <a:pt x="24" y="327"/>
                </a:cubicBezTo>
                <a:cubicBezTo>
                  <a:pt x="35" y="389"/>
                  <a:pt x="83" y="431"/>
                  <a:pt x="101" y="490"/>
                </a:cubicBezTo>
                <a:cubicBezTo>
                  <a:pt x="104" y="510"/>
                  <a:pt x="100" y="532"/>
                  <a:pt x="110" y="550"/>
                </a:cubicBezTo>
                <a:cubicBezTo>
                  <a:pt x="122" y="572"/>
                  <a:pt x="215" y="588"/>
                  <a:pt x="239" y="593"/>
                </a:cubicBezTo>
                <a:cubicBezTo>
                  <a:pt x="271" y="590"/>
                  <a:pt x="303" y="591"/>
                  <a:pt x="334" y="585"/>
                </a:cubicBezTo>
                <a:cubicBezTo>
                  <a:pt x="370" y="578"/>
                  <a:pt x="386" y="545"/>
                  <a:pt x="420" y="533"/>
                </a:cubicBezTo>
                <a:cubicBezTo>
                  <a:pt x="484" y="483"/>
                  <a:pt x="466" y="479"/>
                  <a:pt x="549" y="490"/>
                </a:cubicBezTo>
                <a:cubicBezTo>
                  <a:pt x="557" y="496"/>
                  <a:pt x="566" y="500"/>
                  <a:pt x="574" y="507"/>
                </a:cubicBezTo>
                <a:cubicBezTo>
                  <a:pt x="589" y="520"/>
                  <a:pt x="617" y="550"/>
                  <a:pt x="617" y="550"/>
                </a:cubicBezTo>
                <a:cubicBezTo>
                  <a:pt x="633" y="596"/>
                  <a:pt x="621" y="568"/>
                  <a:pt x="660" y="628"/>
                </a:cubicBezTo>
                <a:cubicBezTo>
                  <a:pt x="665" y="636"/>
                  <a:pt x="669" y="654"/>
                  <a:pt x="669" y="6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3711600" y="3425760"/>
            <a:ext cx="914400" cy="1297080"/>
          </a:xfrm>
          <a:custGeom>
            <a:avLst/>
            <a:gdLst/>
            <a:ahLst/>
            <a:rect l="l" t="t" r="r" b="b"/>
            <a:pathLst>
              <a:path w="576" h="817">
                <a:moveTo>
                  <a:pt x="43" y="817"/>
                </a:moveTo>
                <a:cubicBezTo>
                  <a:pt x="52" y="814"/>
                  <a:pt x="63" y="814"/>
                  <a:pt x="69" y="808"/>
                </a:cubicBezTo>
                <a:cubicBezTo>
                  <a:pt x="75" y="802"/>
                  <a:pt x="74" y="790"/>
                  <a:pt x="78" y="782"/>
                </a:cubicBezTo>
                <a:cubicBezTo>
                  <a:pt x="92" y="749"/>
                  <a:pt x="104" y="724"/>
                  <a:pt x="112" y="688"/>
                </a:cubicBezTo>
                <a:cubicBezTo>
                  <a:pt x="94" y="607"/>
                  <a:pt x="62" y="529"/>
                  <a:pt x="26" y="455"/>
                </a:cubicBezTo>
                <a:cubicBezTo>
                  <a:pt x="0" y="346"/>
                  <a:pt x="40" y="311"/>
                  <a:pt x="121" y="266"/>
                </a:cubicBezTo>
                <a:cubicBezTo>
                  <a:pt x="139" y="256"/>
                  <a:pt x="155" y="243"/>
                  <a:pt x="172" y="232"/>
                </a:cubicBezTo>
                <a:cubicBezTo>
                  <a:pt x="180" y="227"/>
                  <a:pt x="245" y="216"/>
                  <a:pt x="250" y="215"/>
                </a:cubicBezTo>
                <a:cubicBezTo>
                  <a:pt x="291" y="205"/>
                  <a:pt x="327" y="195"/>
                  <a:pt x="370" y="189"/>
                </a:cubicBezTo>
                <a:cubicBezTo>
                  <a:pt x="409" y="175"/>
                  <a:pt x="410" y="156"/>
                  <a:pt x="430" y="120"/>
                </a:cubicBezTo>
                <a:cubicBezTo>
                  <a:pt x="454" y="77"/>
                  <a:pt x="524" y="0"/>
                  <a:pt x="576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518000" y="4284720"/>
            <a:ext cx="1700280" cy="1216080"/>
          </a:xfrm>
          <a:custGeom>
            <a:avLst/>
            <a:gdLst/>
            <a:ahLst/>
            <a:rect l="l" t="t" r="r" b="b"/>
            <a:pathLst>
              <a:path w="1071" h="766">
                <a:moveTo>
                  <a:pt x="0" y="43"/>
                </a:moveTo>
                <a:cubicBezTo>
                  <a:pt x="121" y="46"/>
                  <a:pt x="262" y="0"/>
                  <a:pt x="361" y="69"/>
                </a:cubicBezTo>
                <a:cubicBezTo>
                  <a:pt x="378" y="81"/>
                  <a:pt x="387" y="101"/>
                  <a:pt x="404" y="112"/>
                </a:cubicBezTo>
                <a:cubicBezTo>
                  <a:pt x="412" y="118"/>
                  <a:pt x="421" y="123"/>
                  <a:pt x="429" y="129"/>
                </a:cubicBezTo>
                <a:cubicBezTo>
                  <a:pt x="464" y="126"/>
                  <a:pt x="499" y="129"/>
                  <a:pt x="533" y="121"/>
                </a:cubicBezTo>
                <a:cubicBezTo>
                  <a:pt x="547" y="118"/>
                  <a:pt x="555" y="102"/>
                  <a:pt x="567" y="95"/>
                </a:cubicBezTo>
                <a:cubicBezTo>
                  <a:pt x="572" y="92"/>
                  <a:pt x="614" y="80"/>
                  <a:pt x="619" y="78"/>
                </a:cubicBezTo>
                <a:cubicBezTo>
                  <a:pt x="633" y="79"/>
                  <a:pt x="703" y="79"/>
                  <a:pt x="730" y="95"/>
                </a:cubicBezTo>
                <a:cubicBezTo>
                  <a:pt x="775" y="122"/>
                  <a:pt x="801" y="192"/>
                  <a:pt x="816" y="241"/>
                </a:cubicBezTo>
                <a:cubicBezTo>
                  <a:pt x="823" y="322"/>
                  <a:pt x="835" y="395"/>
                  <a:pt x="851" y="473"/>
                </a:cubicBezTo>
                <a:cubicBezTo>
                  <a:pt x="783" y="577"/>
                  <a:pt x="969" y="571"/>
                  <a:pt x="1023" y="576"/>
                </a:cubicBezTo>
                <a:cubicBezTo>
                  <a:pt x="1037" y="590"/>
                  <a:pt x="1071" y="599"/>
                  <a:pt x="1066" y="619"/>
                </a:cubicBezTo>
                <a:cubicBezTo>
                  <a:pt x="1058" y="649"/>
                  <a:pt x="1058" y="697"/>
                  <a:pt x="1040" y="723"/>
                </a:cubicBezTo>
                <a:cubicBezTo>
                  <a:pt x="1033" y="733"/>
                  <a:pt x="1023" y="739"/>
                  <a:pt x="1014" y="748"/>
                </a:cubicBezTo>
                <a:cubicBezTo>
                  <a:pt x="1008" y="754"/>
                  <a:pt x="997" y="766"/>
                  <a:pt x="997" y="76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587520" y="3274920"/>
            <a:ext cx="631800" cy="1706760"/>
          </a:xfrm>
          <a:custGeom>
            <a:avLst/>
            <a:gdLst/>
            <a:ahLst/>
            <a:rect l="l" t="t" r="r" b="b"/>
            <a:pathLst>
              <a:path w="398" h="1075">
                <a:moveTo>
                  <a:pt x="129" y="1075"/>
                </a:moveTo>
                <a:cubicBezTo>
                  <a:pt x="189" y="1054"/>
                  <a:pt x="247" y="1008"/>
                  <a:pt x="292" y="963"/>
                </a:cubicBezTo>
                <a:cubicBezTo>
                  <a:pt x="301" y="928"/>
                  <a:pt x="318" y="904"/>
                  <a:pt x="326" y="869"/>
                </a:cubicBezTo>
                <a:cubicBezTo>
                  <a:pt x="320" y="794"/>
                  <a:pt x="309" y="728"/>
                  <a:pt x="301" y="654"/>
                </a:cubicBezTo>
                <a:cubicBezTo>
                  <a:pt x="306" y="539"/>
                  <a:pt x="262" y="442"/>
                  <a:pt x="369" y="404"/>
                </a:cubicBezTo>
                <a:cubicBezTo>
                  <a:pt x="392" y="372"/>
                  <a:pt x="398" y="376"/>
                  <a:pt x="378" y="327"/>
                </a:cubicBezTo>
                <a:cubicBezTo>
                  <a:pt x="370" y="308"/>
                  <a:pt x="344" y="275"/>
                  <a:pt x="344" y="275"/>
                </a:cubicBezTo>
                <a:cubicBezTo>
                  <a:pt x="331" y="227"/>
                  <a:pt x="284" y="183"/>
                  <a:pt x="249" y="146"/>
                </a:cubicBezTo>
                <a:cubicBezTo>
                  <a:pt x="240" y="120"/>
                  <a:pt x="235" y="89"/>
                  <a:pt x="215" y="69"/>
                </a:cubicBezTo>
                <a:cubicBezTo>
                  <a:pt x="180" y="34"/>
                  <a:pt x="72" y="16"/>
                  <a:pt x="25" y="9"/>
                </a:cubicBezTo>
                <a:cubicBezTo>
                  <a:pt x="17" y="6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6156360" y="3357720"/>
            <a:ext cx="2238480" cy="3342960"/>
          </a:xfrm>
          <a:custGeom>
            <a:avLst/>
            <a:gdLst/>
            <a:ahLst/>
            <a:rect l="l" t="t" r="r" b="b"/>
            <a:pathLst>
              <a:path w="1410" h="2106">
                <a:moveTo>
                  <a:pt x="353" y="0"/>
                </a:moveTo>
                <a:cubicBezTo>
                  <a:pt x="337" y="93"/>
                  <a:pt x="349" y="194"/>
                  <a:pt x="379" y="284"/>
                </a:cubicBezTo>
                <a:cubicBezTo>
                  <a:pt x="390" y="318"/>
                  <a:pt x="416" y="346"/>
                  <a:pt x="430" y="378"/>
                </a:cubicBezTo>
                <a:cubicBezTo>
                  <a:pt x="451" y="425"/>
                  <a:pt x="462" y="470"/>
                  <a:pt x="499" y="507"/>
                </a:cubicBezTo>
                <a:cubicBezTo>
                  <a:pt x="500" y="510"/>
                  <a:pt x="514" y="556"/>
                  <a:pt x="516" y="559"/>
                </a:cubicBezTo>
                <a:cubicBezTo>
                  <a:pt x="531" y="577"/>
                  <a:pt x="580" y="592"/>
                  <a:pt x="602" y="593"/>
                </a:cubicBezTo>
                <a:cubicBezTo>
                  <a:pt x="711" y="598"/>
                  <a:pt x="820" y="599"/>
                  <a:pt x="929" y="602"/>
                </a:cubicBezTo>
                <a:cubicBezTo>
                  <a:pt x="998" y="613"/>
                  <a:pt x="1070" y="626"/>
                  <a:pt x="1135" y="653"/>
                </a:cubicBezTo>
                <a:cubicBezTo>
                  <a:pt x="1190" y="676"/>
                  <a:pt x="1237" y="713"/>
                  <a:pt x="1290" y="739"/>
                </a:cubicBezTo>
                <a:cubicBezTo>
                  <a:pt x="1351" y="833"/>
                  <a:pt x="1260" y="700"/>
                  <a:pt x="1333" y="782"/>
                </a:cubicBezTo>
                <a:cubicBezTo>
                  <a:pt x="1349" y="800"/>
                  <a:pt x="1376" y="842"/>
                  <a:pt x="1376" y="842"/>
                </a:cubicBezTo>
                <a:cubicBezTo>
                  <a:pt x="1388" y="880"/>
                  <a:pt x="1395" y="917"/>
                  <a:pt x="1410" y="954"/>
                </a:cubicBezTo>
                <a:cubicBezTo>
                  <a:pt x="1401" y="1087"/>
                  <a:pt x="1404" y="1094"/>
                  <a:pt x="1324" y="1186"/>
                </a:cubicBezTo>
                <a:cubicBezTo>
                  <a:pt x="1293" y="1221"/>
                  <a:pt x="1276" y="1247"/>
                  <a:pt x="1230" y="1264"/>
                </a:cubicBezTo>
                <a:cubicBezTo>
                  <a:pt x="1197" y="1296"/>
                  <a:pt x="1183" y="1299"/>
                  <a:pt x="1135" y="1307"/>
                </a:cubicBezTo>
                <a:cubicBezTo>
                  <a:pt x="1037" y="1371"/>
                  <a:pt x="1190" y="1276"/>
                  <a:pt x="1075" y="1332"/>
                </a:cubicBezTo>
                <a:cubicBezTo>
                  <a:pt x="1062" y="1338"/>
                  <a:pt x="1053" y="1352"/>
                  <a:pt x="1040" y="1358"/>
                </a:cubicBezTo>
                <a:cubicBezTo>
                  <a:pt x="958" y="1395"/>
                  <a:pt x="832" y="1404"/>
                  <a:pt x="748" y="1410"/>
                </a:cubicBezTo>
                <a:cubicBezTo>
                  <a:pt x="682" y="1426"/>
                  <a:pt x="644" y="1437"/>
                  <a:pt x="576" y="1444"/>
                </a:cubicBezTo>
                <a:cubicBezTo>
                  <a:pt x="548" y="1454"/>
                  <a:pt x="528" y="1466"/>
                  <a:pt x="507" y="1487"/>
                </a:cubicBezTo>
                <a:cubicBezTo>
                  <a:pt x="490" y="1504"/>
                  <a:pt x="456" y="1539"/>
                  <a:pt x="456" y="1539"/>
                </a:cubicBezTo>
                <a:cubicBezTo>
                  <a:pt x="447" y="1673"/>
                  <a:pt x="472" y="1806"/>
                  <a:pt x="336" y="1874"/>
                </a:cubicBezTo>
                <a:cubicBezTo>
                  <a:pt x="291" y="1939"/>
                  <a:pt x="179" y="1973"/>
                  <a:pt x="103" y="1986"/>
                </a:cubicBezTo>
                <a:cubicBezTo>
                  <a:pt x="51" y="2038"/>
                  <a:pt x="74" y="2014"/>
                  <a:pt x="35" y="2055"/>
                </a:cubicBezTo>
                <a:cubicBezTo>
                  <a:pt x="26" y="2079"/>
                  <a:pt x="19" y="2089"/>
                  <a:pt x="0" y="210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8388360" y="3645000"/>
            <a:ext cx="463680" cy="1160280"/>
          </a:xfrm>
          <a:custGeom>
            <a:avLst/>
            <a:gdLst/>
            <a:ahLst/>
            <a:rect l="l" t="t" r="r" b="b"/>
            <a:pathLst>
              <a:path w="292" h="731">
                <a:moveTo>
                  <a:pt x="0" y="731"/>
                </a:moveTo>
                <a:cubicBezTo>
                  <a:pt x="47" y="716"/>
                  <a:pt x="88" y="697"/>
                  <a:pt x="137" y="688"/>
                </a:cubicBezTo>
                <a:cubicBezTo>
                  <a:pt x="171" y="666"/>
                  <a:pt x="192" y="668"/>
                  <a:pt x="206" y="628"/>
                </a:cubicBezTo>
                <a:cubicBezTo>
                  <a:pt x="195" y="556"/>
                  <a:pt x="169" y="495"/>
                  <a:pt x="137" y="430"/>
                </a:cubicBezTo>
                <a:cubicBezTo>
                  <a:pt x="124" y="403"/>
                  <a:pt x="120" y="379"/>
                  <a:pt x="103" y="353"/>
                </a:cubicBezTo>
                <a:cubicBezTo>
                  <a:pt x="95" y="315"/>
                  <a:pt x="80" y="293"/>
                  <a:pt x="69" y="258"/>
                </a:cubicBezTo>
                <a:cubicBezTo>
                  <a:pt x="77" y="150"/>
                  <a:pt x="68" y="146"/>
                  <a:pt x="154" y="95"/>
                </a:cubicBezTo>
                <a:cubicBezTo>
                  <a:pt x="188" y="75"/>
                  <a:pt x="292" y="44"/>
                  <a:pt x="292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6732720" y="4437000"/>
            <a:ext cx="963360" cy="1133640"/>
          </a:xfrm>
          <a:custGeom>
            <a:avLst/>
            <a:gdLst/>
            <a:ahLst/>
            <a:rect l="l" t="t" r="r" b="b"/>
            <a:pathLst>
              <a:path w="607" h="714">
                <a:moveTo>
                  <a:pt x="607" y="714"/>
                </a:moveTo>
                <a:cubicBezTo>
                  <a:pt x="596" y="665"/>
                  <a:pt x="586" y="647"/>
                  <a:pt x="556" y="602"/>
                </a:cubicBezTo>
                <a:cubicBezTo>
                  <a:pt x="544" y="584"/>
                  <a:pt x="514" y="593"/>
                  <a:pt x="495" y="585"/>
                </a:cubicBezTo>
                <a:cubicBezTo>
                  <a:pt x="483" y="580"/>
                  <a:pt x="473" y="571"/>
                  <a:pt x="461" y="568"/>
                </a:cubicBezTo>
                <a:cubicBezTo>
                  <a:pt x="427" y="559"/>
                  <a:pt x="392" y="556"/>
                  <a:pt x="358" y="550"/>
                </a:cubicBezTo>
                <a:cubicBezTo>
                  <a:pt x="344" y="547"/>
                  <a:pt x="315" y="542"/>
                  <a:pt x="315" y="542"/>
                </a:cubicBezTo>
                <a:cubicBezTo>
                  <a:pt x="279" y="524"/>
                  <a:pt x="242" y="511"/>
                  <a:pt x="203" y="499"/>
                </a:cubicBezTo>
                <a:cubicBezTo>
                  <a:pt x="164" y="440"/>
                  <a:pt x="176" y="466"/>
                  <a:pt x="160" y="422"/>
                </a:cubicBezTo>
                <a:cubicBezTo>
                  <a:pt x="149" y="340"/>
                  <a:pt x="141" y="262"/>
                  <a:pt x="100" y="189"/>
                </a:cubicBezTo>
                <a:cubicBezTo>
                  <a:pt x="78" y="150"/>
                  <a:pt x="39" y="116"/>
                  <a:pt x="14" y="78"/>
                </a:cubicBezTo>
                <a:cubicBezTo>
                  <a:pt x="0" y="56"/>
                  <a:pt x="14" y="26"/>
                  <a:pt x="14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559320" y="230184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Schéma říční sít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1603440" y="34732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8169840" y="38606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evý přít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6656760" y="450864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avý přít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28"/>
          <p:cNvSpPr/>
          <p:nvPr/>
        </p:nvSpPr>
        <p:spPr>
          <a:xfrm>
            <a:off x="5796000" y="3213000"/>
            <a:ext cx="934920" cy="3311640"/>
          </a:xfrm>
          <a:custGeom>
            <a:avLst/>
            <a:gdLst/>
            <a:ahLst/>
            <a:rect l="l" t="t" r="r" b="b"/>
            <a:pathLst>
              <a:path w="589" h="2086">
                <a:moveTo>
                  <a:pt x="272" y="0"/>
                </a:moveTo>
                <a:cubicBezTo>
                  <a:pt x="430" y="415"/>
                  <a:pt x="589" y="831"/>
                  <a:pt x="544" y="1179"/>
                </a:cubicBezTo>
                <a:cubicBezTo>
                  <a:pt x="499" y="1527"/>
                  <a:pt x="249" y="1806"/>
                  <a:pt x="0" y="2086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 rot="15243000">
            <a:off x="5934960" y="40824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vod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3712680" y="609300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říční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32"/>
          <p:cNvSpPr/>
          <p:nvPr/>
        </p:nvSpPr>
        <p:spPr>
          <a:xfrm>
            <a:off x="-36360" y="2924280"/>
            <a:ext cx="9216720" cy="936360"/>
          </a:xfrm>
          <a:custGeom>
            <a:avLst/>
            <a:gdLst/>
            <a:ahLst/>
            <a:rect l="l" t="t" r="r" b="b"/>
            <a:pathLst>
              <a:path w="5806" h="590">
                <a:moveTo>
                  <a:pt x="0" y="273"/>
                </a:moveTo>
                <a:lnTo>
                  <a:pt x="907" y="46"/>
                </a:lnTo>
                <a:lnTo>
                  <a:pt x="4082" y="0"/>
                </a:lnTo>
                <a:lnTo>
                  <a:pt x="5715" y="409"/>
                </a:lnTo>
                <a:lnTo>
                  <a:pt x="5806" y="590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3423960" y="263700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moří, bezodtoká ob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34"/>
          <p:cNvSpPr/>
          <p:nvPr/>
        </p:nvSpPr>
        <p:spPr>
          <a:xfrm>
            <a:off x="3016080" y="3054240"/>
            <a:ext cx="3291120" cy="2595600"/>
          </a:xfrm>
          <a:custGeom>
            <a:avLst/>
            <a:gdLst/>
            <a:ahLst/>
            <a:rect l="l" t="t" r="r" b="b"/>
            <a:pathLst>
              <a:path w="2073" h="1635">
                <a:moveTo>
                  <a:pt x="180" y="1317"/>
                </a:moveTo>
                <a:cubicBezTo>
                  <a:pt x="147" y="1295"/>
                  <a:pt x="119" y="1270"/>
                  <a:pt x="86" y="1248"/>
                </a:cubicBezTo>
                <a:cubicBezTo>
                  <a:pt x="77" y="1242"/>
                  <a:pt x="60" y="1231"/>
                  <a:pt x="60" y="1231"/>
                </a:cubicBezTo>
                <a:cubicBezTo>
                  <a:pt x="22" y="1174"/>
                  <a:pt x="22" y="1156"/>
                  <a:pt x="0" y="1094"/>
                </a:cubicBezTo>
                <a:cubicBezTo>
                  <a:pt x="9" y="1044"/>
                  <a:pt x="6" y="986"/>
                  <a:pt x="26" y="939"/>
                </a:cubicBezTo>
                <a:cubicBezTo>
                  <a:pt x="29" y="932"/>
                  <a:pt x="58" y="864"/>
                  <a:pt x="60" y="861"/>
                </a:cubicBezTo>
                <a:cubicBezTo>
                  <a:pt x="104" y="795"/>
                  <a:pt x="71" y="875"/>
                  <a:pt x="103" y="810"/>
                </a:cubicBezTo>
                <a:cubicBezTo>
                  <a:pt x="111" y="794"/>
                  <a:pt x="111" y="774"/>
                  <a:pt x="120" y="758"/>
                </a:cubicBezTo>
                <a:cubicBezTo>
                  <a:pt x="145" y="713"/>
                  <a:pt x="182" y="667"/>
                  <a:pt x="215" y="629"/>
                </a:cubicBezTo>
                <a:cubicBezTo>
                  <a:pt x="231" y="611"/>
                  <a:pt x="266" y="578"/>
                  <a:pt x="266" y="578"/>
                </a:cubicBezTo>
                <a:cubicBezTo>
                  <a:pt x="279" y="542"/>
                  <a:pt x="289" y="531"/>
                  <a:pt x="327" y="543"/>
                </a:cubicBezTo>
                <a:cubicBezTo>
                  <a:pt x="360" y="495"/>
                  <a:pt x="410" y="460"/>
                  <a:pt x="447" y="414"/>
                </a:cubicBezTo>
                <a:cubicBezTo>
                  <a:pt x="490" y="360"/>
                  <a:pt x="524" y="309"/>
                  <a:pt x="593" y="285"/>
                </a:cubicBezTo>
                <a:cubicBezTo>
                  <a:pt x="622" y="243"/>
                  <a:pt x="652" y="231"/>
                  <a:pt x="696" y="208"/>
                </a:cubicBezTo>
                <a:cubicBezTo>
                  <a:pt x="803" y="153"/>
                  <a:pt x="875" y="119"/>
                  <a:pt x="997" y="105"/>
                </a:cubicBezTo>
                <a:cubicBezTo>
                  <a:pt x="1054" y="85"/>
                  <a:pt x="996" y="103"/>
                  <a:pt x="1100" y="88"/>
                </a:cubicBezTo>
                <a:cubicBezTo>
                  <a:pt x="1206" y="73"/>
                  <a:pt x="1311" y="49"/>
                  <a:pt x="1418" y="36"/>
                </a:cubicBezTo>
                <a:cubicBezTo>
                  <a:pt x="1573" y="41"/>
                  <a:pt x="1711" y="0"/>
                  <a:pt x="1823" y="105"/>
                </a:cubicBezTo>
                <a:cubicBezTo>
                  <a:pt x="1829" y="125"/>
                  <a:pt x="1831" y="146"/>
                  <a:pt x="1840" y="165"/>
                </a:cubicBezTo>
                <a:cubicBezTo>
                  <a:pt x="1849" y="184"/>
                  <a:pt x="1874" y="217"/>
                  <a:pt x="1874" y="217"/>
                </a:cubicBezTo>
                <a:cubicBezTo>
                  <a:pt x="1907" y="436"/>
                  <a:pt x="1868" y="666"/>
                  <a:pt x="1934" y="879"/>
                </a:cubicBezTo>
                <a:cubicBezTo>
                  <a:pt x="1941" y="948"/>
                  <a:pt x="1940" y="1002"/>
                  <a:pt x="1977" y="1059"/>
                </a:cubicBezTo>
                <a:cubicBezTo>
                  <a:pt x="1991" y="1113"/>
                  <a:pt x="2006" y="1167"/>
                  <a:pt x="2037" y="1214"/>
                </a:cubicBezTo>
                <a:cubicBezTo>
                  <a:pt x="2044" y="1263"/>
                  <a:pt x="2055" y="1305"/>
                  <a:pt x="2072" y="1351"/>
                </a:cubicBezTo>
                <a:cubicBezTo>
                  <a:pt x="2070" y="1384"/>
                  <a:pt x="2073" y="1511"/>
                  <a:pt x="2046" y="1558"/>
                </a:cubicBezTo>
                <a:cubicBezTo>
                  <a:pt x="2017" y="1608"/>
                  <a:pt x="1926" y="1623"/>
                  <a:pt x="1874" y="1635"/>
                </a:cubicBezTo>
                <a:cubicBezTo>
                  <a:pt x="1851" y="1629"/>
                  <a:pt x="1826" y="1629"/>
                  <a:pt x="1805" y="1618"/>
                </a:cubicBezTo>
                <a:cubicBezTo>
                  <a:pt x="1759" y="1593"/>
                  <a:pt x="1739" y="1533"/>
                  <a:pt x="1702" y="1498"/>
                </a:cubicBezTo>
                <a:cubicBezTo>
                  <a:pt x="1685" y="1463"/>
                  <a:pt x="1668" y="1422"/>
                  <a:pt x="1642" y="1394"/>
                </a:cubicBezTo>
                <a:cubicBezTo>
                  <a:pt x="1635" y="1373"/>
                  <a:pt x="1623" y="1355"/>
                  <a:pt x="1616" y="1334"/>
                </a:cubicBezTo>
                <a:cubicBezTo>
                  <a:pt x="1589" y="1251"/>
                  <a:pt x="1606" y="1264"/>
                  <a:pt x="1556" y="1188"/>
                </a:cubicBezTo>
                <a:cubicBezTo>
                  <a:pt x="1550" y="1179"/>
                  <a:pt x="1548" y="1168"/>
                  <a:pt x="1539" y="1162"/>
                </a:cubicBezTo>
                <a:cubicBezTo>
                  <a:pt x="1522" y="1151"/>
                  <a:pt x="1504" y="1139"/>
                  <a:pt x="1487" y="1128"/>
                </a:cubicBezTo>
                <a:cubicBezTo>
                  <a:pt x="1473" y="1119"/>
                  <a:pt x="1453" y="1122"/>
                  <a:pt x="1436" y="1119"/>
                </a:cubicBezTo>
                <a:cubicBezTo>
                  <a:pt x="1401" y="1105"/>
                  <a:pt x="1367" y="1097"/>
                  <a:pt x="1332" y="1085"/>
                </a:cubicBezTo>
                <a:cubicBezTo>
                  <a:pt x="1177" y="1091"/>
                  <a:pt x="1134" y="1091"/>
                  <a:pt x="1014" y="1119"/>
                </a:cubicBezTo>
                <a:cubicBezTo>
                  <a:pt x="968" y="1152"/>
                  <a:pt x="1008" y="1129"/>
                  <a:pt x="928" y="1145"/>
                </a:cubicBezTo>
                <a:cubicBezTo>
                  <a:pt x="898" y="1151"/>
                  <a:pt x="873" y="1176"/>
                  <a:pt x="842" y="1180"/>
                </a:cubicBezTo>
                <a:cubicBezTo>
                  <a:pt x="802" y="1185"/>
                  <a:pt x="762" y="1185"/>
                  <a:pt x="722" y="1188"/>
                </a:cubicBezTo>
                <a:cubicBezTo>
                  <a:pt x="606" y="1219"/>
                  <a:pt x="446" y="1212"/>
                  <a:pt x="327" y="1223"/>
                </a:cubicBezTo>
                <a:cubicBezTo>
                  <a:pt x="298" y="1226"/>
                  <a:pt x="241" y="1231"/>
                  <a:pt x="241" y="1231"/>
                </a:cubicBezTo>
                <a:cubicBezTo>
                  <a:pt x="227" y="1238"/>
                  <a:pt x="155" y="1259"/>
                  <a:pt x="155" y="1283"/>
                </a:cubicBezTo>
                <a:cubicBezTo>
                  <a:pt x="155" y="1297"/>
                  <a:pt x="172" y="1306"/>
                  <a:pt x="180" y="1317"/>
                </a:cubicBezTo>
                <a:close/>
              </a:path>
            </a:pathLst>
          </a:custGeom>
          <a:solidFill>
            <a:srgbClr val="c0c0c0">
              <a:alpha val="33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212720" y="3500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o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6066360" y="62816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s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 rot="20208000">
            <a:off x="1385640" y="570672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ní t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8"/>
          <p:cNvSpPr/>
          <p:nvPr/>
        </p:nvSpPr>
        <p:spPr>
          <a:xfrm rot="1338600">
            <a:off x="539280" y="3284640"/>
            <a:ext cx="432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759960" y="306864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zero, nádr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1"/>
          <p:cNvSpPr/>
          <p:nvPr/>
        </p:nvSpPr>
        <p:spPr>
          <a:xfrm>
            <a:off x="1403280" y="645336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2"/>
          <p:cNvSpPr/>
          <p:nvPr/>
        </p:nvSpPr>
        <p:spPr>
          <a:xfrm>
            <a:off x="1619280" y="6597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43"/>
          <p:cNvSpPr/>
          <p:nvPr/>
        </p:nvSpPr>
        <p:spPr>
          <a:xfrm>
            <a:off x="1332000" y="6524640"/>
            <a:ext cx="215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1476360" y="666900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5"/>
          <p:cNvSpPr/>
          <p:nvPr/>
        </p:nvSpPr>
        <p:spPr>
          <a:xfrm>
            <a:off x="1258920" y="674208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1187280" y="6597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7"/>
          <p:cNvSpPr/>
          <p:nvPr/>
        </p:nvSpPr>
        <p:spPr>
          <a:xfrm>
            <a:off x="1042920" y="666900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1692360" y="6381720"/>
            <a:ext cx="215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1042920" y="652464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1116000" y="6381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1550160" y="6237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kř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3"/>
          <p:cNvSpPr/>
          <p:nvPr/>
        </p:nvSpPr>
        <p:spPr>
          <a:xfrm>
            <a:off x="4500000" y="64911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ře, je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6948360" y="5661000"/>
            <a:ext cx="1881360" cy="841320"/>
          </a:xfrm>
          <a:custGeom>
            <a:avLst/>
            <a:gdLst/>
            <a:ahLst/>
            <a:rect l="l" t="t" r="r" b="b"/>
            <a:pathLst>
              <a:path w="1185" h="530">
                <a:moveTo>
                  <a:pt x="52" y="23"/>
                </a:moveTo>
                <a:cubicBezTo>
                  <a:pt x="98" y="7"/>
                  <a:pt x="91" y="0"/>
                  <a:pt x="138" y="23"/>
                </a:cubicBezTo>
                <a:cubicBezTo>
                  <a:pt x="120" y="75"/>
                  <a:pt x="125" y="94"/>
                  <a:pt x="69" y="109"/>
                </a:cubicBezTo>
                <a:cubicBezTo>
                  <a:pt x="63" y="118"/>
                  <a:pt x="59" y="128"/>
                  <a:pt x="52" y="135"/>
                </a:cubicBezTo>
                <a:cubicBezTo>
                  <a:pt x="45" y="142"/>
                  <a:pt x="31" y="143"/>
                  <a:pt x="26" y="152"/>
                </a:cubicBezTo>
                <a:cubicBezTo>
                  <a:pt x="18" y="167"/>
                  <a:pt x="21" y="186"/>
                  <a:pt x="17" y="203"/>
                </a:cubicBezTo>
                <a:cubicBezTo>
                  <a:pt x="15" y="212"/>
                  <a:pt x="0" y="226"/>
                  <a:pt x="9" y="229"/>
                </a:cubicBezTo>
                <a:cubicBezTo>
                  <a:pt x="28" y="235"/>
                  <a:pt x="49" y="223"/>
                  <a:pt x="69" y="220"/>
                </a:cubicBezTo>
                <a:cubicBezTo>
                  <a:pt x="120" y="186"/>
                  <a:pt x="148" y="128"/>
                  <a:pt x="206" y="109"/>
                </a:cubicBezTo>
                <a:cubicBezTo>
                  <a:pt x="236" y="80"/>
                  <a:pt x="262" y="70"/>
                  <a:pt x="301" y="57"/>
                </a:cubicBezTo>
                <a:cubicBezTo>
                  <a:pt x="315" y="60"/>
                  <a:pt x="334" y="55"/>
                  <a:pt x="344" y="66"/>
                </a:cubicBezTo>
                <a:cubicBezTo>
                  <a:pt x="350" y="73"/>
                  <a:pt x="341" y="85"/>
                  <a:pt x="335" y="92"/>
                </a:cubicBezTo>
                <a:cubicBezTo>
                  <a:pt x="323" y="108"/>
                  <a:pt x="306" y="121"/>
                  <a:pt x="292" y="135"/>
                </a:cubicBezTo>
                <a:cubicBezTo>
                  <a:pt x="285" y="142"/>
                  <a:pt x="283" y="154"/>
                  <a:pt x="275" y="160"/>
                </a:cubicBezTo>
                <a:cubicBezTo>
                  <a:pt x="268" y="166"/>
                  <a:pt x="258" y="166"/>
                  <a:pt x="249" y="169"/>
                </a:cubicBezTo>
                <a:cubicBezTo>
                  <a:pt x="191" y="229"/>
                  <a:pt x="181" y="312"/>
                  <a:pt x="129" y="367"/>
                </a:cubicBezTo>
                <a:cubicBezTo>
                  <a:pt x="146" y="448"/>
                  <a:pt x="156" y="428"/>
                  <a:pt x="241" y="418"/>
                </a:cubicBezTo>
                <a:cubicBezTo>
                  <a:pt x="243" y="412"/>
                  <a:pt x="254" y="373"/>
                  <a:pt x="258" y="367"/>
                </a:cubicBezTo>
                <a:cubicBezTo>
                  <a:pt x="300" y="298"/>
                  <a:pt x="248" y="410"/>
                  <a:pt x="292" y="324"/>
                </a:cubicBezTo>
                <a:cubicBezTo>
                  <a:pt x="296" y="316"/>
                  <a:pt x="295" y="305"/>
                  <a:pt x="301" y="298"/>
                </a:cubicBezTo>
                <a:cubicBezTo>
                  <a:pt x="308" y="290"/>
                  <a:pt x="319" y="288"/>
                  <a:pt x="327" y="281"/>
                </a:cubicBezTo>
                <a:cubicBezTo>
                  <a:pt x="342" y="268"/>
                  <a:pt x="356" y="253"/>
                  <a:pt x="370" y="238"/>
                </a:cubicBezTo>
                <a:cubicBezTo>
                  <a:pt x="402" y="204"/>
                  <a:pt x="426" y="166"/>
                  <a:pt x="473" y="152"/>
                </a:cubicBezTo>
                <a:cubicBezTo>
                  <a:pt x="502" y="133"/>
                  <a:pt x="525" y="126"/>
                  <a:pt x="559" y="117"/>
                </a:cubicBezTo>
                <a:cubicBezTo>
                  <a:pt x="565" y="123"/>
                  <a:pt x="575" y="127"/>
                  <a:pt x="576" y="135"/>
                </a:cubicBezTo>
                <a:cubicBezTo>
                  <a:pt x="579" y="153"/>
                  <a:pt x="561" y="182"/>
                  <a:pt x="550" y="195"/>
                </a:cubicBezTo>
                <a:cubicBezTo>
                  <a:pt x="520" y="231"/>
                  <a:pt x="486" y="272"/>
                  <a:pt x="447" y="298"/>
                </a:cubicBezTo>
                <a:cubicBezTo>
                  <a:pt x="433" y="343"/>
                  <a:pt x="410" y="382"/>
                  <a:pt x="396" y="427"/>
                </a:cubicBezTo>
                <a:cubicBezTo>
                  <a:pt x="403" y="484"/>
                  <a:pt x="394" y="512"/>
                  <a:pt x="447" y="530"/>
                </a:cubicBezTo>
                <a:cubicBezTo>
                  <a:pt x="493" y="507"/>
                  <a:pt x="521" y="470"/>
                  <a:pt x="533" y="418"/>
                </a:cubicBezTo>
                <a:cubicBezTo>
                  <a:pt x="537" y="401"/>
                  <a:pt x="540" y="361"/>
                  <a:pt x="550" y="341"/>
                </a:cubicBezTo>
                <a:cubicBezTo>
                  <a:pt x="574" y="292"/>
                  <a:pt x="628" y="247"/>
                  <a:pt x="679" y="229"/>
                </a:cubicBezTo>
                <a:cubicBezTo>
                  <a:pt x="733" y="248"/>
                  <a:pt x="713" y="292"/>
                  <a:pt x="722" y="349"/>
                </a:cubicBezTo>
                <a:cubicBezTo>
                  <a:pt x="727" y="380"/>
                  <a:pt x="738" y="404"/>
                  <a:pt x="757" y="427"/>
                </a:cubicBezTo>
                <a:cubicBezTo>
                  <a:pt x="764" y="435"/>
                  <a:pt x="765" y="448"/>
                  <a:pt x="774" y="453"/>
                </a:cubicBezTo>
                <a:cubicBezTo>
                  <a:pt x="787" y="460"/>
                  <a:pt x="802" y="460"/>
                  <a:pt x="817" y="461"/>
                </a:cubicBezTo>
                <a:cubicBezTo>
                  <a:pt x="869" y="465"/>
                  <a:pt x="920" y="467"/>
                  <a:pt x="972" y="470"/>
                </a:cubicBezTo>
                <a:cubicBezTo>
                  <a:pt x="992" y="467"/>
                  <a:pt x="1013" y="468"/>
                  <a:pt x="1032" y="461"/>
                </a:cubicBezTo>
                <a:cubicBezTo>
                  <a:pt x="1072" y="446"/>
                  <a:pt x="1093" y="412"/>
                  <a:pt x="1126" y="392"/>
                </a:cubicBezTo>
                <a:cubicBezTo>
                  <a:pt x="1185" y="356"/>
                  <a:pt x="1123" y="413"/>
                  <a:pt x="1169" y="36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7454880" y="56610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ean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7380360" y="4221000"/>
            <a:ext cx="1008000" cy="360360"/>
          </a:xfrm>
          <a:custGeom>
            <a:avLst/>
            <a:gdLst/>
            <a:ahLst/>
            <a:rect l="l" t="t" r="r" b="b"/>
            <a:pathLst>
              <a:path w="635" h="227">
                <a:moveTo>
                  <a:pt x="0" y="0"/>
                </a:moveTo>
                <a:cubicBezTo>
                  <a:pt x="174" y="3"/>
                  <a:pt x="348" y="7"/>
                  <a:pt x="454" y="45"/>
                </a:cubicBezTo>
                <a:cubicBezTo>
                  <a:pt x="560" y="83"/>
                  <a:pt x="605" y="197"/>
                  <a:pt x="635" y="22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8"/>
          <p:cNvSpPr/>
          <p:nvPr/>
        </p:nvSpPr>
        <p:spPr>
          <a:xfrm>
            <a:off x="6951960" y="40053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ěr 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9" descr="pramen"/>
          <p:cNvPicPr/>
          <p:nvPr/>
        </p:nvPicPr>
        <p:blipFill>
          <a:blip r:embed="rId5"/>
          <a:stretch/>
        </p:blipFill>
        <p:spPr>
          <a:xfrm>
            <a:off x="468360" y="285264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7" descr="colorad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57200"/>
            <a:ext cx="4321440" cy="61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9" descr="Victoria-Falls-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11600" y="457200"/>
            <a:ext cx="45324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003640" y="1341360"/>
          <a:ext cx="3996000" cy="396072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  <a:gridCol w="444600"/>
                <a:gridCol w="444600"/>
                <a:gridCol w="442800"/>
                <a:gridCol w="444600"/>
                <a:gridCol w="444600"/>
                <a:gridCol w="442800"/>
                <a:gridCol w="444600"/>
              </a:tblGrid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88"/>
          <p:cNvSpPr/>
          <p:nvPr/>
        </p:nvSpPr>
        <p:spPr>
          <a:xfrm>
            <a:off x="395280" y="1390320"/>
            <a:ext cx="4465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YDROSFÉRA – ŘE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osmisměrce jsou ukryty názvy 14ti světových veletoků a jednoho významného jez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hledané veletoky lokalizujte na mapě a určete, do kterého toku, či moře ústí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jenka: _ _ _ _ _ _ _ _ _ _ _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9"/>
          <p:cNvSpPr/>
          <p:nvPr/>
        </p:nvSpPr>
        <p:spPr>
          <a:xfrm>
            <a:off x="5651640" y="23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0"/>
          <p:cNvSpPr/>
          <p:nvPr/>
        </p:nvSpPr>
        <p:spPr>
          <a:xfrm>
            <a:off x="7599240" y="551664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smisměr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00720" y="1052640"/>
          <a:ext cx="4464000" cy="4248000"/>
        </p:xfrm>
        <a:graphic>
          <a:graphicData uri="http://schemas.openxmlformats.org/drawingml/2006/table">
            <a:tbl>
              <a:tblPr/>
              <a:tblGrid>
                <a:gridCol w="495000"/>
                <a:gridCol w="497160"/>
                <a:gridCol w="495000"/>
                <a:gridCol w="497160"/>
                <a:gridCol w="495360"/>
                <a:gridCol w="496800"/>
                <a:gridCol w="495360"/>
                <a:gridCol w="496800"/>
                <a:gridCol w="495360"/>
              </a:tblGrid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964800"/>
            <a:ext cx="31068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mbe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mazon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una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uk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isso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da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jk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ajenka: MISSISSIPP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9"/>
          <p:cNvSpPr/>
          <p:nvPr/>
        </p:nvSpPr>
        <p:spPr>
          <a:xfrm>
            <a:off x="4572000" y="5084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0"/>
          <p:cNvSpPr/>
          <p:nvPr/>
        </p:nvSpPr>
        <p:spPr>
          <a:xfrm flipH="1">
            <a:off x="5651640" y="1341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1"/>
          <p:cNvSpPr/>
          <p:nvPr/>
        </p:nvSpPr>
        <p:spPr>
          <a:xfrm flipV="1">
            <a:off x="8244000" y="2060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2"/>
          <p:cNvSpPr/>
          <p:nvPr/>
        </p:nvSpPr>
        <p:spPr>
          <a:xfrm>
            <a:off x="4572000" y="1844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93"/>
          <p:cNvSpPr/>
          <p:nvPr/>
        </p:nvSpPr>
        <p:spPr>
          <a:xfrm flipH="1" flipV="1">
            <a:off x="6084720" y="3068280"/>
            <a:ext cx="215928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4"/>
          <p:cNvSpPr/>
          <p:nvPr/>
        </p:nvSpPr>
        <p:spPr>
          <a:xfrm flipH="1" flipV="1">
            <a:off x="5148000" y="1699920"/>
            <a:ext cx="367164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5"/>
          <p:cNvSpPr/>
          <p:nvPr/>
        </p:nvSpPr>
        <p:spPr>
          <a:xfrm flipH="1">
            <a:off x="6084360" y="2205000"/>
            <a:ext cx="23036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6"/>
          <p:cNvSpPr/>
          <p:nvPr/>
        </p:nvSpPr>
        <p:spPr>
          <a:xfrm>
            <a:off x="5148360" y="2637000"/>
            <a:ext cx="223200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7"/>
          <p:cNvSpPr/>
          <p:nvPr/>
        </p:nvSpPr>
        <p:spPr>
          <a:xfrm flipV="1">
            <a:off x="4716360" y="263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8"/>
          <p:cNvSpPr/>
          <p:nvPr/>
        </p:nvSpPr>
        <p:spPr>
          <a:xfrm flipH="1">
            <a:off x="4643280" y="2276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9"/>
          <p:cNvSpPr/>
          <p:nvPr/>
        </p:nvSpPr>
        <p:spPr>
          <a:xfrm flipH="1">
            <a:off x="4642920" y="1268280"/>
            <a:ext cx="367380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nk 100" descr=""/>
          <p:cNvPicPr/>
          <p:nvPr/>
        </p:nvPicPr>
        <p:blipFill>
          <a:blip r:embed="rId1"/>
          <a:stretch/>
        </p:blipFill>
        <p:spPr>
          <a:xfrm>
            <a:off x="4475160" y="1079640"/>
            <a:ext cx="1106640" cy="515880"/>
          </a:xfrm>
          <a:prstGeom prst="rect">
            <a:avLst/>
          </a:prstGeom>
          <a:ln w="0">
            <a:noFill/>
          </a:ln>
        </p:spPr>
      </p:pic>
      <p:pic>
        <p:nvPicPr>
          <p:cNvPr id="125" name="Ink 101" descr=""/>
          <p:cNvPicPr/>
          <p:nvPr/>
        </p:nvPicPr>
        <p:blipFill>
          <a:blip r:embed="rId2"/>
          <a:stretch/>
        </p:blipFill>
        <p:spPr>
          <a:xfrm>
            <a:off x="7947000" y="1558800"/>
            <a:ext cx="496800" cy="405000"/>
          </a:xfrm>
          <a:prstGeom prst="rect">
            <a:avLst/>
          </a:prstGeom>
          <a:ln w="0">
            <a:noFill/>
          </a:ln>
        </p:spPr>
      </p:pic>
      <p:pic>
        <p:nvPicPr>
          <p:cNvPr id="126" name="Ink 102" descr=""/>
          <p:cNvPicPr/>
          <p:nvPr/>
        </p:nvPicPr>
        <p:blipFill>
          <a:blip r:embed="rId3"/>
          <a:stretch/>
        </p:blipFill>
        <p:spPr>
          <a:xfrm>
            <a:off x="7020000" y="2562120"/>
            <a:ext cx="438120" cy="354240"/>
          </a:xfrm>
          <a:prstGeom prst="rect">
            <a:avLst/>
          </a:prstGeom>
          <a:ln w="0">
            <a:noFill/>
          </a:ln>
        </p:spPr>
      </p:pic>
      <p:pic>
        <p:nvPicPr>
          <p:cNvPr id="127" name="Ink 103" descr=""/>
          <p:cNvPicPr/>
          <p:nvPr/>
        </p:nvPicPr>
        <p:blipFill>
          <a:blip r:embed="rId4"/>
          <a:stretch/>
        </p:blipFill>
        <p:spPr>
          <a:xfrm>
            <a:off x="7508880" y="3086280"/>
            <a:ext cx="558720" cy="352080"/>
          </a:xfrm>
          <a:prstGeom prst="rect">
            <a:avLst/>
          </a:prstGeom>
          <a:ln w="0">
            <a:noFill/>
          </a:ln>
        </p:spPr>
      </p:pic>
      <p:pic>
        <p:nvPicPr>
          <p:cNvPr id="128" name="Ink 104" descr=""/>
          <p:cNvPicPr/>
          <p:nvPr/>
        </p:nvPicPr>
        <p:blipFill>
          <a:blip r:embed="rId5"/>
          <a:stretch/>
        </p:blipFill>
        <p:spPr>
          <a:xfrm>
            <a:off x="5519880" y="3933720"/>
            <a:ext cx="438120" cy="430200"/>
          </a:xfrm>
          <a:prstGeom prst="rect">
            <a:avLst/>
          </a:prstGeom>
          <a:ln w="0">
            <a:noFill/>
          </a:ln>
        </p:spPr>
      </p:pic>
      <p:pic>
        <p:nvPicPr>
          <p:cNvPr id="129" name="Ink 105" descr=""/>
          <p:cNvPicPr/>
          <p:nvPr/>
        </p:nvPicPr>
        <p:blipFill>
          <a:blip r:embed="rId6"/>
          <a:stretch/>
        </p:blipFill>
        <p:spPr>
          <a:xfrm>
            <a:off x="5022720" y="4457880"/>
            <a:ext cx="463680" cy="299880"/>
          </a:xfrm>
          <a:prstGeom prst="rect">
            <a:avLst/>
          </a:prstGeom>
          <a:ln w="0">
            <a:noFill/>
          </a:ln>
        </p:spPr>
      </p:pic>
      <p:pic>
        <p:nvPicPr>
          <p:cNvPr id="130" name="Ink 106" descr=""/>
          <p:cNvPicPr/>
          <p:nvPr/>
        </p:nvPicPr>
        <p:blipFill>
          <a:blip r:embed="rId7"/>
          <a:stretch/>
        </p:blipFill>
        <p:spPr>
          <a:xfrm>
            <a:off x="6026040" y="4440240"/>
            <a:ext cx="944640" cy="334800"/>
          </a:xfrm>
          <a:prstGeom prst="rect">
            <a:avLst/>
          </a:prstGeom>
          <a:ln w="0">
            <a:noFill/>
          </a:ln>
        </p:spPr>
      </p:pic>
      <p:sp>
        <p:nvSpPr>
          <p:cNvPr id="131" name="Line 107"/>
          <p:cNvSpPr/>
          <p:nvPr/>
        </p:nvSpPr>
        <p:spPr>
          <a:xfrm>
            <a:off x="7093080" y="1700280"/>
            <a:ext cx="1726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8"/>
          <p:cNvSpPr/>
          <p:nvPr/>
        </p:nvSpPr>
        <p:spPr>
          <a:xfrm flipH="1">
            <a:off x="514800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9"/>
          <p:cNvSpPr/>
          <p:nvPr/>
        </p:nvSpPr>
        <p:spPr>
          <a:xfrm>
            <a:off x="8675640" y="1197000"/>
            <a:ext cx="7308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nk 110" descr=""/>
          <p:cNvPicPr/>
          <p:nvPr/>
        </p:nvPicPr>
        <p:blipFill>
          <a:blip r:embed="rId8"/>
          <a:stretch/>
        </p:blipFill>
        <p:spPr>
          <a:xfrm>
            <a:off x="5494320" y="2597040"/>
            <a:ext cx="455760" cy="319320"/>
          </a:xfrm>
          <a:prstGeom prst="rect">
            <a:avLst/>
          </a:prstGeom>
          <a:ln w="0">
            <a:noFill/>
          </a:ln>
        </p:spPr>
      </p:pic>
      <p:pic>
        <p:nvPicPr>
          <p:cNvPr id="135" name="Ink 111" descr=""/>
          <p:cNvPicPr/>
          <p:nvPr/>
        </p:nvPicPr>
        <p:blipFill>
          <a:blip r:embed="rId9"/>
          <a:stretch/>
        </p:blipFill>
        <p:spPr>
          <a:xfrm>
            <a:off x="7500960" y="3540240"/>
            <a:ext cx="463680" cy="301680"/>
          </a:xfrm>
          <a:prstGeom prst="rect">
            <a:avLst/>
          </a:prstGeom>
          <a:ln w="0">
            <a:noFill/>
          </a:ln>
        </p:spPr>
      </p:pic>
      <p:sp>
        <p:nvSpPr>
          <p:cNvPr id="136" name="Line 112"/>
          <p:cNvSpPr/>
          <p:nvPr/>
        </p:nvSpPr>
        <p:spPr>
          <a:xfrm>
            <a:off x="5219640" y="2060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smisměrka (řešení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oda se zpomaleným oběhem v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6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da se na pevnině zadržu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rodní nádrže (jezera – hloubka x rozloha, složení v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znik je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rásněním, zbytky moře (Kaspické, Aralsk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kopové propadliny (Bajkal, východoafrická jeze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edovcové (Velká jeze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iné (sesuvy, ledovcovými splazy, v kráterech aj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piš 3 největší jezera světa (podle rozloh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ělé nádrže (přehrady – různé funkce a rybní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68400" y="3429000"/>
            <a:ext cx="7200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http://www.atlastours.net/jordan/dead_sea_sunset.jpg"/>
          <p:cNvPicPr/>
          <p:nvPr/>
        </p:nvPicPr>
        <p:blipFill>
          <a:blip r:embed="rId1"/>
          <a:stretch/>
        </p:blipFill>
        <p:spPr>
          <a:xfrm>
            <a:off x="0" y="0"/>
            <a:ext cx="4876920" cy="3403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51920" y="35812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rtvé moř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http://www.everestnews2004.com/4002expcoverage/pictures/pm-2%20Lake%20Titicaca.jpg"/>
          <p:cNvPicPr/>
          <p:nvPr/>
        </p:nvPicPr>
        <p:blipFill>
          <a:blip r:embed="rId2"/>
          <a:stretch/>
        </p:blipFill>
        <p:spPr>
          <a:xfrm>
            <a:off x="1828800" y="360684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08040" y="6400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itic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http://www.dustydavis.com/blogimages/crater_lake_large.jpg"/>
          <p:cNvPicPr/>
          <p:nvPr/>
        </p:nvPicPr>
        <p:blipFill>
          <a:blip r:embed="rId3"/>
          <a:stretch/>
        </p:blipFill>
        <p:spPr>
          <a:xfrm>
            <a:off x="4419720" y="647640"/>
            <a:ext cx="453204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7221960" y="1936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ater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20:22:07Z</dcterms:created>
  <dc:creator>kk</dc:creator>
  <dc:description/>
  <dc:language>en-US</dc:language>
  <cp:lastModifiedBy>Uživatel</cp:lastModifiedBy>
  <dcterms:modified xsi:type="dcterms:W3CDTF">2014-02-01T18:05:13Z</dcterms:modified>
  <cp:revision>13</cp:revision>
  <dc:subject/>
  <dc:title>POVRCHOVÁ VODA</dc:title>
</cp:coreProperties>
</file>