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535-780C-4AE5-BDD8-8D5ACF76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5AE-5DA0-49F3-96D7-01D22D8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D83-04AC-47FF-B4AD-B4C3D40F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567-BE3C-4324-9C57-3FF3625E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05C-8274-4EA1-AC3D-D4F26B2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0EC-7E6D-4808-BD42-63AEC8B2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F7E-CD18-4574-AB77-2E0E40C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E80-1190-4A3C-9E9F-0CE7F6E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C94-0F60-4C5C-B8C5-ED74E4E1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AD-3ABA-4EB6-989F-ACD09AC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D97-1DB7-40AF-BEFC-1144154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AB0-D245-4429-B14B-165A3BB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06A-9EE7-420E-8496-715C96F4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Y A VELEH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nik, vývoj a zá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nik pohoří – ovlivňují především vnitřní čin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saze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uvolněné zvětraliny (eroze) jsou přemísťovány (transport) a ukládány (akumula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Kern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íky tlakům v kůře vznikne zlom. Kolem něho se pak zlomená kůra propadá (příkopová propadlina)  nebo vyzvedává (pohoří - hrásť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rás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pokud je hornina více poddajná nezlomí se, ale „pouze“ se zprohýbá do tzv. vrás. Pohybem litosférických desek dochází ke zprohýbání. A vyzdvižení usazených hornin na povr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pečn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(viz. prezentace sopky a zemětřese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3213000"/>
            <a:ext cx="438156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43640" y="2637000"/>
            <a:ext cx="2494080" cy="33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1280" y="5019840"/>
            <a:ext cx="2943000" cy="183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52920" y="5942160"/>
            <a:ext cx="27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znikla jednotliv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hoří na obrázku? Najet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brázek získáš odpově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51280" y="4437000"/>
            <a:ext cx="2303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voj a zánik – ovlivňují především vnitřní činitelé (ero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á pohoří jsou zarovnan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nší výškové rozdíly, jsou způsobeny erozí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ladá poho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jí naopa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é tv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iéfu (nejvyšší pohoří svě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8200" y="61657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konoše – „stará“ pohoř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4200" y="623736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py – „mladá“ pohoř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176640"/>
            <a:ext cx="3961080" cy="296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0320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89520" y="64501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680" y="184320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úru co nejlé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plánov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5160" y="277812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edovat předpově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čas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1680" y="3716280"/>
            <a:ext cx="26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ředat všem účastníků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ce o túř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1520" y="4651200"/>
            <a:ext cx="26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mět pracovat s map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turistické značk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2240" y="5586480"/>
            <a:ext cx="24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typy výstražn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bulí a jejich význ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1320" y="1770120"/>
            <a:ext cx="243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pohybovat se m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ačené ces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5320" y="2421000"/>
            <a:ext cx="270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ít sebou lékárnič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mět poskytnout prv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mo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3880" y="3357720"/>
            <a:ext cx="302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kontakty na záchran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ém a horskou služb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ít nabitý mobilní telef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52080" y="4365720"/>
            <a:ext cx="34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zásady chování pro pří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abloudění, pádu lavin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bo zřícení svah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88080" y="64501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á pohoř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3623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712944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19640" y="1989000"/>
            <a:ext cx="5364000" cy="2264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13880" y="16779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íkopová propad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77440" y="17002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á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rásová pohoř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6762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7138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35:30Z</dcterms:created>
  <dc:creator>kk</dc:creator>
  <dc:description/>
  <dc:language>en-US</dc:language>
  <cp:lastModifiedBy>Administrator</cp:lastModifiedBy>
  <dcterms:modified xsi:type="dcterms:W3CDTF">2009-12-02T13:02:03Z</dcterms:modified>
  <cp:revision>13</cp:revision>
  <dc:subject/>
  <dc:title>HORY A VELEHORY</dc:title>
</cp:coreProperties>
</file>