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D48-6373-459A-9D0C-692362E8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DC5-CEC2-46B6-98D6-B5A940EC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9EE-17B5-49E2-ADE9-2FCB2759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244-4524-41E3-B1E0-482C7F33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BD8-81FC-476E-BA39-32F9433F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976-F3AB-4169-B069-5254499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F7A-4088-41EA-B52C-02BC28FF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9FD-8122-46DE-9756-1C7B3918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38A-B877-45C7-93ED-8CD42358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475-F8E3-4114-8DE9-84FD8D25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64B-3205-420F-BCA8-4A332C7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061-4865-4EA5-A93A-13F8F4D2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45B9-D8A4-4AED-AD69-113439AA8325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3240" y="345960"/>
          <a:ext cx="9140760" cy="651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345960"/>
                    <a:ext cx="9140760" cy="6512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8748720" y="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9:13:44Z</dcterms:created>
  <dc:creator/>
  <dc:description/>
  <dc:language>en-US</dc:language>
  <cp:lastModifiedBy>t166626</cp:lastModifiedBy>
  <dcterms:modified xsi:type="dcterms:W3CDTF">2006-08-08T07:52:29Z</dcterms:modified>
  <cp:revision>2</cp:revision>
  <dc:subject/>
  <dc:title>Folie 1</dc:title>
</cp:coreProperties>
</file>