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E8AC-E315-4A16-87B3-E82B0A2B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35FB-0D8A-4CC7-8F98-623B1CA1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BD3-11F0-4705-9595-C86C1A3F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089-2BA4-4677-A22D-B66C4795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0FB-1455-4DC6-BEB7-FEEE26B1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6986-2F0C-412F-9815-BA86B3F1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6E6-59DF-44B1-B403-A5802E41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11C-9A86-4B3E-9DA9-1AF5754D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2A1-1BE6-4FEA-B60B-3FE913B4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AD6-8996-4A27-AF31-3779C87F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D3B-ED85-487F-BBE9-E94C0601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1A8-4A5E-4239-A804-E43F5CCD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FB6E-7C99-4FDC-AE84-3644BBE8F45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DOKÁŽE EROZ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mrsthordarson.edublogs.org/files/2011/01/california-yosemite-half-dome-3-15b9xu3.jpg"/>
          <p:cNvPicPr/>
          <p:nvPr/>
        </p:nvPicPr>
        <p:blipFill>
          <a:blip r:embed="rId1"/>
          <a:stretch/>
        </p:blipFill>
        <p:spPr>
          <a:xfrm>
            <a:off x="0" y="27000"/>
            <a:ext cx="91281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9360" y="2880"/>
            <a:ext cx="9144000" cy="10810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ORMOVÁNÍ POVRCH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19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nitřní a vnější čini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Diagram 2" descr=""/>
          <p:cNvPicPr/>
          <p:nvPr/>
        </p:nvPicPr>
        <p:blipFill>
          <a:blip r:embed="rId1"/>
          <a:stretch/>
        </p:blipFill>
        <p:spPr>
          <a:xfrm>
            <a:off x="1401840" y="1792440"/>
            <a:ext cx="68403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a povrch (reliéf) působí mnoho s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nitřní sí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rásnění, kerné pohyby, sopečná činno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tvoří relié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nější sí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– voda, led, vítr, slunce, rostliny, člově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ozměňují reliéf (snižují, zarovnávají, přemísťuj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537080" cy="3592440"/>
          </a:xfrm>
          <a:prstGeom prst="rect">
            <a:avLst/>
          </a:prstGeom>
          <a:ln w="0">
            <a:noFill/>
          </a:ln>
        </p:spPr>
      </p:pic>
      <p:sp>
        <p:nvSpPr>
          <p:cNvPr id="57" name="Line 6"/>
          <p:cNvSpPr/>
          <p:nvPr/>
        </p:nvSpPr>
        <p:spPr>
          <a:xfrm flipV="1">
            <a:off x="5796000" y="465264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208560" y="4483080"/>
            <a:ext cx="177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dsouváním litosférický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esek vznikají na mořské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ně hlubokomořské příkop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V="1">
            <a:off x="4788000" y="3716280"/>
            <a:ext cx="936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725080" y="3500280"/>
            <a:ext cx="150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Ledovcové toky unáš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větraliny a postupně 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ukládaj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 flipV="1">
            <a:off x="4427640" y="2781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5775480" y="2611440"/>
            <a:ext cx="228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Ledovce rozrušují a ohlazuj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kalní povrch, přemísťují ledovcov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větraliny a vytvářejí údolí ve tvaru 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 flipV="1">
            <a:off x="4140360" y="2133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427280" y="1773360"/>
            <a:ext cx="2131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ysoká pohoří vznikají vrásnění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ři styku dvou litosférických dese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 flipH="1" flipV="1">
            <a:off x="3132000" y="256500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618920" y="1700280"/>
            <a:ext cx="2475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odní toky se postupn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hlubují do skalního podloží – 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tvaru V. Rozrušují povrch, Unáší zvětral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 erodovaný materiál. Ten postupn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ukládají ve svém korytě a v deltě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 flipH="1">
            <a:off x="1979280" y="3500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0" y="31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394200" y="3284640"/>
            <a:ext cx="1646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Erozní činností vět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 vody vznikají v suchý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oblastech zvláštní tv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reliéfu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 flipH="1">
            <a:off x="2339640" y="400536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610920" y="4221000"/>
            <a:ext cx="1916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nější činitelé povrch Zem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stupně snižují a zarovnávaj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2"/>
          <p:cNvSpPr/>
          <p:nvPr/>
        </p:nvSpPr>
        <p:spPr>
          <a:xfrm flipH="1">
            <a:off x="3059280" y="4221000"/>
            <a:ext cx="1296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1332720" y="5445000"/>
            <a:ext cx="2201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odní toky ukládají unášen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materiál nejen ve svém korytě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ředevším na dolním toku řeky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le také při jeho ústí např. do moř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stupně tak rozšiřují pevninu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590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ělení povrchu (reliéf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7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odle výškových rozdílů: roviny, pahorkatiny, vrchoviny, hornatiny, velehornatin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7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odle nadmořské výšky: nížiny a vysočin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0" y="1874880"/>
            <a:ext cx="6300720" cy="4830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5292720" y="1052640"/>
            <a:ext cx="3851280" cy="1877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1765080" y="170028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PLŇ OBRÁ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98160" y="292428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dmořská vý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3350160" y="285264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škový rozdí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97800" y="4149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378720" y="5465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4554000" y="337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575600" y="378936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hork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4554360" y="43848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ch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4575240" y="51577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rn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54360" y="62564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eh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-2880" y="6564240"/>
            <a:ext cx="178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zeměpis Holu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Soubor:Im Salar de Uyuni.jpg"/>
          <p:cNvPicPr/>
          <p:nvPr/>
        </p:nvPicPr>
        <p:blipFill>
          <a:blip r:embed="rId1"/>
          <a:stretch/>
        </p:blipFill>
        <p:spPr>
          <a:xfrm>
            <a:off x="930240" y="692280"/>
            <a:ext cx="76201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ile:Tafoni 03.jpg"/>
          <p:cNvPicPr/>
          <p:nvPr/>
        </p:nvPicPr>
        <p:blipFill>
          <a:blip r:embed="rId1"/>
          <a:stretch/>
        </p:blipFill>
        <p:spPr>
          <a:xfrm>
            <a:off x="684360" y="620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ile:Rummu aherainemägi2.jpg"/>
          <p:cNvPicPr/>
          <p:nvPr/>
        </p:nvPicPr>
        <p:blipFill>
          <a:blip r:embed="rId1"/>
          <a:stretch/>
        </p:blipFill>
        <p:spPr>
          <a:xfrm>
            <a:off x="-184320" y="1916280"/>
            <a:ext cx="927108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ile:Wavecut platform southerndown pano.jpg"/>
          <p:cNvPicPr/>
          <p:nvPr/>
        </p:nvPicPr>
        <p:blipFill>
          <a:blip r:embed="rId1"/>
          <a:stretch/>
        </p:blipFill>
        <p:spPr>
          <a:xfrm>
            <a:off x="-28440" y="1052640"/>
            <a:ext cx="9050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55640" y="1062000"/>
            <a:ext cx="75279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parameter.sk/sites/default/files/article_image/cheddar-cave.jpg"/>
          <p:cNvPicPr/>
          <p:nvPr/>
        </p:nvPicPr>
        <p:blipFill>
          <a:blip r:embed="rId1"/>
          <a:stretch/>
        </p:blipFill>
        <p:spPr>
          <a:xfrm>
            <a:off x="611280" y="6397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cestujeme365.cz/wp-content/uploads/2012/11/GrandCanyon1331071283.jpg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erosioncontrolpro.com/wp-content/uploads/2013/09/Glacier-erosion.jpg"/>
          <p:cNvPicPr/>
          <p:nvPr/>
        </p:nvPicPr>
        <p:blipFill>
          <a:blip r:embed="rId1"/>
          <a:stretch/>
        </p:blipFill>
        <p:spPr>
          <a:xfrm>
            <a:off x="0" y="404640"/>
            <a:ext cx="5295960" cy="394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b.static.trunity.net/files/156701_156800/156767/ushapedvalleyut.jpg"/>
          <p:cNvPicPr/>
          <p:nvPr/>
        </p:nvPicPr>
        <p:blipFill>
          <a:blip r:embed="rId2"/>
          <a:stretch/>
        </p:blipFill>
        <p:spPr>
          <a:xfrm>
            <a:off x="3487680" y="3645000"/>
            <a:ext cx="56563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8:02:33Z</dcterms:created>
  <dc:creator>jj</dc:creator>
  <dc:description/>
  <dc:language>en-US</dc:language>
  <cp:lastModifiedBy>PC</cp:lastModifiedBy>
  <dcterms:modified xsi:type="dcterms:W3CDTF">2014-01-05T10:41:43Z</dcterms:modified>
  <cp:revision>15</cp:revision>
  <dc:subject/>
  <dc:title>FORMOVÁNÍ POVRCHU</dc:title>
</cp:coreProperties>
</file>