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64E-DE1C-4E9A-8952-7249CEA3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40F-D8CF-443B-A125-FB0304E6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74A-17BB-4DE7-A94B-33EC760E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B5DE-3DC7-496B-9259-4B1C0FBA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9AB8-1C9F-45EB-96D0-3E24A0A5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98BB-098B-424C-9B3D-8ED42649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91F4-E40C-439B-B238-059FF558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0947-5216-474D-A56D-220C8B8C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63C-F6BF-4B34-9FA3-2450B0D7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7B6-5063-413C-B89B-F7CE09E2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62D-9598-4E1C-BFA7-6F85FA10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6F21-5544-404F-9123-BC26FDB2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AAA2-B4A0-46B7-881E-BC4E93E67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s.wikipedia.org/wiki/Z&#225;padn&#237;_Evropa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PADNÍ EV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4815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padní Evropa - úv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0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řírodní podmín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ížinaté oblasti, nebo stará zarovnaná pohoří (jádra kontinentů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znamné toky (s malým spádem) propojeny kaná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írný pás (oceánský, přechodn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ční pás – převážně listnaté lesy + kulturní kraj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cioekonomické podmín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áty EU (Velká Británie a Francie v Radě OS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lický a francouzský jazyk – celosvět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vyspělejší část Evr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á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ká Británie, Irsko, Francie, Belgie, Nizozemí, Lucembur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47080" y="582444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lší informace najdete Z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ká Británie – Londýn (královstv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ží na Britských ostrovech (nakresli mapu a zakresli důležité části povrchu, vodstvo, měs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ákladní inform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rozloha: 244 tis.k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počet obyvatel: 58 mil. (z toho 90% ve městech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Království tvoří čtyři země: Anglie (Londýn), Wales (Cardiff), Skotsko (Edinburgh), Severní Irsko (Belfast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krajina=vřesoviště a zelené pastvin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intenzivní zemědělství (ovce, skot, pšenice, ječmen, brambory, chmel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těžba zemního plynu a ropy (Severní moř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ůmysl: strojírenský (Londýn, Birmingham, Liverpool, Leeds) a textilní (Manchester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doprava na vysoké úrovni (Heathrow, Gatwick, Londýnské doky, Eurotune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29264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ská republika - Dub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157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ížiny s ledovcovými jezery a přímořské podnebí= vhodné pro pastevectví dobytka a zemědělstv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posledních letech velký nárůst specializované průmyslové výroby (díky vstupu do EU) – přesné strojírenství, léčiva, výpočetní techni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4248000" cy="315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427640" y="3357720"/>
            <a:ext cx="4503600" cy="337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258920" y="3573360"/>
            <a:ext cx="1942920" cy="301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572000" y="260280"/>
            <a:ext cx="434808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24000" y="981000"/>
            <a:ext cx="4813200" cy="5732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rysová ma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5597280" cy="666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372360" y="549360"/>
            <a:ext cx="57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03800" y="63972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hetlan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1268280"/>
            <a:ext cx="648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74880" y="1125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kne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19280" y="69228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46360" y="35244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nější Hebr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2771280" y="1989000"/>
            <a:ext cx="129708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98360" y="16477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nitřní Hebr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916000" y="4292640"/>
            <a:ext cx="143964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6520" y="6491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0360" y="5950080"/>
            <a:ext cx="14436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5734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378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068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2997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4724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4653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1964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5727600"/>
            <a:ext cx="876240" cy="324000"/>
          </a:xfrm>
          <a:custGeom>
            <a:avLst/>
            <a:gdLst/>
            <a:ahLst/>
            <a:rect l="l" t="t" r="r" b="b"/>
            <a:pathLst>
              <a:path w="552" h="204">
                <a:moveTo>
                  <a:pt x="0" y="0"/>
                </a:moveTo>
                <a:cubicBezTo>
                  <a:pt x="3" y="8"/>
                  <a:pt x="2" y="18"/>
                  <a:pt x="8" y="24"/>
                </a:cubicBezTo>
                <a:cubicBezTo>
                  <a:pt x="22" y="38"/>
                  <a:pt x="56" y="56"/>
                  <a:pt x="56" y="56"/>
                </a:cubicBezTo>
                <a:cubicBezTo>
                  <a:pt x="155" y="204"/>
                  <a:pt x="147" y="160"/>
                  <a:pt x="384" y="168"/>
                </a:cubicBezTo>
                <a:cubicBezTo>
                  <a:pt x="416" y="171"/>
                  <a:pt x="448" y="172"/>
                  <a:pt x="480" y="176"/>
                </a:cubicBezTo>
                <a:cubicBezTo>
                  <a:pt x="505" y="179"/>
                  <a:pt x="526" y="192"/>
                  <a:pt x="552" y="192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21240" y="2130480"/>
            <a:ext cx="406440" cy="422280"/>
          </a:xfrm>
          <a:custGeom>
            <a:avLst/>
            <a:gdLst/>
            <a:ahLst/>
            <a:rect l="l" t="t" r="r" b="b"/>
            <a:pathLst>
              <a:path w="256" h="266">
                <a:moveTo>
                  <a:pt x="0" y="266"/>
                </a:moveTo>
                <a:cubicBezTo>
                  <a:pt x="16" y="255"/>
                  <a:pt x="32" y="245"/>
                  <a:pt x="48" y="234"/>
                </a:cubicBezTo>
                <a:cubicBezTo>
                  <a:pt x="72" y="218"/>
                  <a:pt x="66" y="181"/>
                  <a:pt x="88" y="162"/>
                </a:cubicBezTo>
                <a:cubicBezTo>
                  <a:pt x="102" y="149"/>
                  <a:pt x="120" y="141"/>
                  <a:pt x="136" y="130"/>
                </a:cubicBezTo>
                <a:cubicBezTo>
                  <a:pt x="144" y="125"/>
                  <a:pt x="160" y="114"/>
                  <a:pt x="160" y="114"/>
                </a:cubicBezTo>
                <a:cubicBezTo>
                  <a:pt x="197" y="58"/>
                  <a:pt x="176" y="77"/>
                  <a:pt x="216" y="50"/>
                </a:cubicBezTo>
                <a:cubicBezTo>
                  <a:pt x="249" y="0"/>
                  <a:pt x="229" y="2"/>
                  <a:pt x="256" y="2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249228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596360" y="5013360"/>
            <a:ext cx="1412640" cy="1628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27600" y="5661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08560" y="551664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ard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522936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irmingh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1280" y="479736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62200" y="45086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ch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55840" y="306720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dinbur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08920" y="277956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asg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15840" y="349884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lf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5240" y="45813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4508640"/>
            <a:ext cx="144360" cy="142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2920" y="24210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Ben Nev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96760" y="206064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3333ff"/>
                </a:solidFill>
                <a:latin typeface="Arial"/>
              </a:rPr>
              <a:t>Kaledonský průpla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7080" y="595008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ff"/>
                </a:solidFill>
                <a:latin typeface="Arial"/>
              </a:rPr>
              <a:t>Temž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4:39:14Z</dcterms:created>
  <dc:creator>kk</dc:creator>
  <dc:description/>
  <dc:language>en-US</dc:language>
  <cp:lastModifiedBy>jj</cp:lastModifiedBy>
  <dcterms:modified xsi:type="dcterms:W3CDTF">2008-10-13T13:33:30Z</dcterms:modified>
  <cp:revision>9</cp:revision>
  <dc:subject/>
  <dc:title>ZÁPADNÍ EVROPA</dc:title>
</cp:coreProperties>
</file>