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77D-C3CD-4ECE-A4B9-192744C9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8EC-CE89-479D-91B9-B3D6938B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B08-0432-412E-AADF-75C2F75C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8DA-70B7-4C6D-A423-26F6C326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E97-6606-41B6-BDD4-CAF700FD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C9F-0DDD-47F4-9A97-5DC0BB56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3C7-22CF-44C6-8257-6C772E19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F8E-0585-4DA2-A5D7-86409CE4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553-7886-49F0-925B-A75E5237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6AF-3317-450D-81D7-C94A63F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0FF-DAA9-40F2-9D80-3811CF9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392-691C-4FB2-B8C9-5F274A6B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683F-6E27-49C0-9B0A-D9599520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41440" y="5876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CHODNÍ EV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55166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ývalé státy Sovětského sv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43840" cy="517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32720" y="4292640"/>
            <a:ext cx="2119320" cy="240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60280"/>
            <a:ext cx="295272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50920" y="981000"/>
            <a:ext cx="2520720" cy="194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8360" y="316404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588000" y="2732040"/>
            <a:ext cx="2401920" cy="133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2000" y="260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Z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060640"/>
            <a:ext cx="18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492360" y="3068280"/>
            <a:ext cx="1295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651280" y="2133720"/>
            <a:ext cx="215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156000" y="2492280"/>
            <a:ext cx="431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219280" y="3428640"/>
            <a:ext cx="1513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y východní Evropy vyplňují ½ rozlohy Evro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vážně nížinatý povr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inentální podneb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ěrem od jihu k severu: stepi, tajga, tundr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bohatství umožnilo rozvoj průmyslu (ropa, uhlí, kovy, dřevo, pů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nice mezi Evropou a Asi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CIOEKONOMICKÉ PODMÍN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tor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lá oblast byla nejprve součástí carského Ruska a později SSSR (do 8. 12. 199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yvatelst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lované, pravoslavná církev, ve většině států se lze domluvit rusky (azbuka), nízká lidnat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spodářstv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ižší ekonomická vyspělost, prochází obdobím ekonomické transformace, důležitá odvětví (zemědělství, těžba, těžký průmys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TÁ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obaltské stá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mezi světovými válkami nezávislé, někdy se řadí k severní Evropě. Důležité je potravinářství (zpracování ryb). Vstup do EU 1. května 2004 (jako Č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Lit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ilnius): největší z pobaltských států, dříve Polsko-litevský stát (13. – 18. stolet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Lotyš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Riga): nejprůmyslovější z pobaltských republik, početná ruská menš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ston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allinn): ugrofinský ná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Bělorus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insk): tvrdě zkoušená za II. světové války (vypáleno asi 9000 vesnic), chemický průmysl, zpracování dře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kraj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Kyjev): druhá nejrozlehlejší země Evropy, stepi=zemědělství, splavný Dněpr, Donbas=průmyslová oblast (hutnictví, strojírenství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oldavs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Kišiněv): románi, národnostní nepok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us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oskva): největší stát světa (asijská a evropská část), nejlidnatější stát Evropy (8. ve světě), veletoky, národnostní menšiny (Povolží), nerovnoměrné osídlení (8 ob./k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, pokles významu průmyslu v celosvětovém měřítku (chemický, těžební, těžké strojírenství, výroba nákladních aut), problémem je doprava (ropovody, TRAM, BA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íl evropské a asijské části Ruska (200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989000"/>
          <a:ext cx="3174840" cy="26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317484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03640" y="1989000"/>
          <a:ext cx="3024000" cy="267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989000"/>
                    <a:ext cx="302400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84360" y="20606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na rozl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360" y="206064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na počtu oby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227640" y="1989000"/>
          <a:ext cx="2916360" cy="2667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989000"/>
                    <a:ext cx="29163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443640" y="20606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na hospodář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7440" y="630864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 NA PREZENT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8:07:43Z</dcterms:created>
  <dc:creator>kk</dc:creator>
  <dc:description/>
  <dc:language>en-US</dc:language>
  <cp:lastModifiedBy>kk</cp:lastModifiedBy>
  <dcterms:modified xsi:type="dcterms:W3CDTF">2007-01-07T20:02:13Z</dcterms:modified>
  <cp:revision>16</cp:revision>
  <dc:subject/>
  <dc:title>VÝCHODNÍ EVROPA</dc:title>
</cp:coreProperties>
</file>