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AD1-7027-46F1-A968-0B578929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159-EC69-4166-AF4A-3F4C87DF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54E-F3FD-4C47-8925-46837D60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66E-C6D7-485B-9AB8-C3949682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3B9-9FED-4D0D-8550-D1E26790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6D1-7317-4094-9344-A378E0E4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51C-1018-4721-A42A-47CE7B88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0D8-6B86-428E-9503-C2EB5AF5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357-7C98-42E8-BBC7-DDD64652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864-F158-45C5-B0EF-A15F4769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10B-F883-4EEE-82BB-8B2494C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1BF-2899-4087-BC49-84D0AF49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11DA-320B-4F73-BF42-9CE4FA535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rop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DST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600720" cy="281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444840"/>
            <a:ext cx="5148360" cy="3413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ropa má hustě vyvinutou říční síť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mladší na severu – čtvrtohory (po ústupu ledovc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yužití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ergetika, doprava (kanály, přístavy), rybolov, zavlažování, rekreace,a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ělení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 pevninu (oceán, moře, záliv, průl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pevnině (řeky, jezera, ledovce, kanály,přehrady a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MO PEVN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Oce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Atlantský, Severní ledový + bezodtoké obl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oř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apište a podtrhnuté zakreslete do map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tředozem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igurské, Tyrhénské, Jaderské, Jónské, Egejské, Krétské)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Černé, Severní, Baltské, Norské,Barentsovo, Bílé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elts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Záli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apište a zakreslete do mapy)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iskajský, Botn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ůli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yhledejt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spor, Dardanely, Giblartarský, La Manche, Skagerrak a Katteg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3529080"/>
            <a:ext cx="47530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PEVN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Ře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doplňte do závorky zkratkou názvy států, kterými protékají řeky a podtržené zakreslete do map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Atlantský oceán a jeho moře: Tajo, Duero, Garonna, Loira, Seina, Temže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ý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L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Středozemní moře: Ebro, Rhona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á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Černé moře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unaj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něstr, Dně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 Kaspické moře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olh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ezer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řevážně ledovcového původu): Ladožské, Oněžské, Vanern, Finská jezerní plo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Ledov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horské (Alpy, Pyreneje), pevninské (Island, Špicber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9:54:25Z</dcterms:created>
  <dc:creator>kk</dc:creator>
  <dc:description/>
  <dc:language>en-US</dc:language>
  <cp:lastModifiedBy>kk</cp:lastModifiedBy>
  <dcterms:modified xsi:type="dcterms:W3CDTF">2006-09-18T19:20:17Z</dcterms:modified>
  <cp:revision>7</cp:revision>
  <dc:subject/>
  <dc:title> Evropa VODSTVO</dc:title>
</cp:coreProperties>
</file>