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AC4-13BC-455C-BBA2-34422056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1F1-31A2-429C-98C8-588B691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123-F06C-4CD8-93AB-DF5939D1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D34-60D5-4A6A-B887-7209CF17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EF9-A206-4096-B486-CA4A804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4E4-A677-4291-8A8F-83F4600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999-779A-42D5-97B7-A5F7DAC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3F9-F568-4755-9644-D9D145F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EFB-34B9-401F-AE26-4D0D6533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A54-ADDA-4649-9298-1A3CAEE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686-C30A-4101-A485-CAB2A80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8D6-84F0-4EBE-A2E8-A34F251D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A8A7-38D1-459E-B3C5-FBC440169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5.xm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DNÍ EVRO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LOVENSKO – Bratislava (re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ornatý stát s krásnou přírod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paty (Vysoké Tatry) – rozvodí Baltského a Černého m., Slovenský kras (největší krasový útvar ve střední Evropě), podnebí přechodné a vysokohorsk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lavní průmyslová oblast Pováží, zemědělství na ji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ospodářstv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roce 1945 období zprůmyslnění a modernizace, po roce 1993 ekonomicko-sociální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er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jaderná (Jaslavské Bohunice, Mochovce), vodní (Vážská kaskáda, Gabčíkovo-Nagyma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yvatelstv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lované (na jihu s maďarskou menšin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nt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ratislava, Prešov, Košice, Trenčín, Trnava, Nitra, Bánská Bystrica, Žilina (8 kraj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17640" y="6184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F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AĎARSKO – Budapešť (re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rch tvořen nížinami (pouze sever vulkanická pohoří). Kontinentální podnebí – stepi (pus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ostatek surovin (jen bauxit), vhodné podmínky pro zemědělství (60% orná půda po Dánsku na 2. místě v Evropě). Průmysl potravinářský a farmaceutick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yvatelstvo – ugrofinské (centra – Debrecén, Segedín), 19 ž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2954160"/>
            <a:ext cx="6193080" cy="245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4587840"/>
            <a:ext cx="3025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LSKO – Varšava (re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krajem nížin (vyplněna jezery) na jihu horské pásma, úmoří Baltského moř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á surovinová základna (uhlí, rudy, síra), tepelné elektrárny (znečištění ovzduší), 50% orná půda a lesy (brambory obilniny, cukrovka), přístavy Gdyně a Štětín (využívá i Č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yvatelstvo – Slované (jednotné, křesťanství (Wroclaw,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ź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Kraków), 16 vojvod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84720" y="299736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4753080" cy="299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34275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45880" y="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KRAČOVAT V PREZENT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404640"/>
            <a:ext cx="4392720" cy="329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51280" y="3560760"/>
            <a:ext cx="4392720" cy="329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58920" y="4530600"/>
            <a:ext cx="3384360" cy="232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305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5:15:21Z</dcterms:created>
  <dc:creator>kk</dc:creator>
  <dc:description/>
  <dc:language>en-US</dc:language>
  <cp:lastModifiedBy>kk</cp:lastModifiedBy>
  <dcterms:modified xsi:type="dcterms:W3CDTF">2006-12-10T19:00:05Z</dcterms:modified>
  <cp:revision>7</cp:revision>
  <dc:subject/>
  <dc:title>STŘEDNÍ EVROPA </dc:title>
</cp:coreProperties>
</file>