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9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F3EB-0A34-43B8-8FC9-0AB95FE9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A74C-97B0-4854-98E1-9EB228F6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7DA9-F784-45EB-BEE5-8B2F81F7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A37B-ED0D-4BD9-AC8D-D97650B8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EEE6-FAD5-482C-ADF6-E606A55F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EC09-5657-4299-AA85-48622BEC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7616-5ED1-4A20-AFCA-7247A941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096F-3EB2-4D44-9A6D-953ECFEA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E73C-1010-4338-B355-9242B0B1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708C-D884-4408-8045-2D2A2CA3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3B59-522A-401C-9934-2BBB2E49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02AF-9A8E-444C-8F42-6F1D2C36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0F4A-4B38-4E96-8348-12B70FC85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s.wikipedia.org/wiki/St&#345;edn&#237;_Evropa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hyperlink" Target="http://www.zemepis.com/Nemecko.php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hyperlink" Target="http://www.zemepis.com/Svycarsko.php" TargetMode="External"/><Relationship Id="rId10" Type="http://schemas.openxmlformats.org/officeDocument/2006/relationships/image" Target="../media/image7.png"/><Relationship Id="rId11" Type="http://schemas.openxmlformats.org/officeDocument/2006/relationships/hyperlink" Target="http://www.zemepis.com/Lichtenstejsko.php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image" Target="../media/image10.jpeg"/><Relationship Id="rId4" Type="http://schemas.openxmlformats.org/officeDocument/2006/relationships/slide" Target="slide5.xml"/><Relationship Id="rId5" Type="http://schemas.openxmlformats.org/officeDocument/2006/relationships/image" Target="../media/image11.jpeg"/><Relationship Id="rId6" Type="http://schemas.openxmlformats.org/officeDocument/2006/relationships/slide" Target="slide5.xml"/><Relationship Id="rId7" Type="http://schemas.openxmlformats.org/officeDocument/2006/relationships/image" Target="../media/image12.jpeg"/><Relationship Id="rId8" Type="http://schemas.openxmlformats.org/officeDocument/2006/relationships/slide" Target="slide5.xm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image" Target="../media/image15.jpeg"/><Relationship Id="rId5" Type="http://schemas.openxmlformats.org/officeDocument/2006/relationships/slide" Target="slide6.xml"/><Relationship Id="rId6" Type="http://schemas.openxmlformats.org/officeDocument/2006/relationships/image" Target="../media/image16.jpeg"/><Relationship Id="rId7" Type="http://schemas.openxmlformats.org/officeDocument/2006/relationships/slide" Target="slide6.xml"/><Relationship Id="rId8" Type="http://schemas.openxmlformats.org/officeDocument/2006/relationships/image" Target="../media/image17.jpeg"/><Relationship Id="rId9" Type="http://schemas.openxmlformats.org/officeDocument/2006/relationships/hyperlink" Target="http://www.alpy-turistika.cz/" TargetMode="Externa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ŘEDNÍ EVRO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436000" y="6308640"/>
            <a:ext cx="35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ÍCE O STŘEDNÍ EVROPĚ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Z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308720" y="3860640"/>
            <a:ext cx="1584360" cy="1057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219640" y="5013360"/>
            <a:ext cx="1629000" cy="1009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236000" y="765000"/>
            <a:ext cx="1584000" cy="1057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765000"/>
            <a:ext cx="1800360" cy="1111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236000" y="2349360"/>
            <a:ext cx="1633320" cy="1025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771640" y="5013360"/>
            <a:ext cx="1584360" cy="1050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920" y="2349360"/>
            <a:ext cx="1655640" cy="1103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0920" y="4005360"/>
            <a:ext cx="1728720" cy="1038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40" y="6613560"/>
            <a:ext cx="366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LIKNUTÍM NA VLAJKU STÁTU ZÍSKÁTE VÍCE INFORMAC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Soubor:Central Europe.png"/>
          <p:cNvPicPr/>
          <p:nvPr/>
        </p:nvPicPr>
        <p:blipFill>
          <a:blip r:embed="rId13"/>
          <a:stretch/>
        </p:blipFill>
        <p:spPr>
          <a:xfrm>
            <a:off x="2268360" y="692280"/>
            <a:ext cx="48294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áty Střední Evrop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Státy tzv. Visegrádské čtyřky (Česko, Polsko, Slovensko, Maďarsk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Alpské země (Švýcarsko, Rakousko, Německo, Lichtenštejnsko) + někdy Slovi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řírodní podmín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írný pás s oceánským až kontinentálním podnebím (+vysokohorské), listnaté a smíšené lesy, pestrý povrch (mladé velehory, usazeninami vyplněné kotliny , stará erodovaná pohoří, ledovcem zarovnané nížiny), řeky (Dunaj – Černé m.), Labe, Rýn (Severní moře), Odra, Visla (Baltské moř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cioekonomické podmín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dobný kulturně-historický vývoj, státní zřízení republiky (kromě Lichtenštejnska), většina členy EU (kromě Švýcarska a Lichtenštejnsk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02520" y="609300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VYHLEDEJ NA MAP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915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ĚMECKO – Berlín (rep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 roce 1990 vzniklo nové Německo (SRN, ND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2. nejlidnatější stát (16. spolkových zemí), nejvyspělejší stát Evro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Přírodní podmín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- 4 oblasti: Severoněmecká nížina (ř. Labe, Wesser, Emže), Středoněmecká vysočina (ř. Rýn), Bavorská plošina (ř. Dunaj), Alpy (Zugspitze 2963 m.n.m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- mírné přímořské/přechodné podnebí, 1/3 pokryta les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Hospodářství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všestranně rozvinutý stá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- zemědělství (obilniny, brambory, chmel, víno) 1/3 orná pů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- těžba (uhlí, draselné soli, kaolí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- průmysl (automobilový, elektronický – Grundig, Siemens, chemický, potravinářský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- doprava hustá síť silnic a železnic, letiště (Frankfurt), přístav (Hamburg – námořní, Duisburg – říční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Obyvatelstvo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ěmčina, přistěhovalectví, centra (Bonn – sídlo presidenta, Mnichov, Essen, Dortmund, Stuttgart, Hannover, Lipsk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82680" y="63295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FOTA Z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PSKÉ STÁ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¾ rozlohy vyplňují hory (horské ledovce), horské podnebí s náhlými změnami počas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Švýcarsko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Bern (konfederace, 26 kanton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Alpy (Dufourspitze), Ženevské j. (R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ô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), Bodamské j. (Rý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chudé na přírodní zdroje, nejvyspělejší průmysl na světě (léčiva, optika, jemná mechanika, finančnictví, 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4 úřední jazyky (N, F, I, rétororománšt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centra: Curych, Ženeva (mezinárodní organiz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Rakousk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Vídeň (rep. tvořena 9 spol. zeměm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Alpy (Grossglockner), Vídeňská pánev, Dun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vyspělé hospodářství (potravinářský, chemický, strojní, těžba – soli, žel.rudy, C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centra:Insbruck a Kitzbuhel (lyžařské centra) , Linec, Salzburg (Mozart), Graz (Schwarzene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Lichtenštejnsk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Vaduz (knížectví) velmi bohatá země (CR, bankovnictví, opti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458840" y="18900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FOTA Z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2960" y="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ZPĚT NA PREZENT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79280" y="404640"/>
            <a:ext cx="4953240" cy="3314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716360" y="3500280"/>
            <a:ext cx="4076640" cy="3038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187280" y="3848040"/>
            <a:ext cx="2857680" cy="3009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156360" y="0"/>
            <a:ext cx="25066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4140000" cy="3313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33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6800" y="20808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ZPĚT NA PREZENT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859280" y="4005360"/>
            <a:ext cx="3556080" cy="2668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708360" y="0"/>
            <a:ext cx="5435640" cy="4079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620640"/>
            <a:ext cx="3492360" cy="2619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092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2160" y="6308640"/>
            <a:ext cx="24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Další fota na 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áce s mapou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hoří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lpy (Bernské, Taury), Karpaty (Tatry), Schwarzwald, Bavorský les, Durynský les, Šumava, Krkonoše, Slovenské rudohoř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Nížiny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everoněmecká, Pobaltská, Mazovská, Velkopolská, Slezská, Podunajská, Malá uherská, Velká uher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Řeky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Dunaj (Morava, Váh, Tisza), Labe, Rýn (Mohan, Mosela), Odra, Vis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Jezera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Ženevské, Bodamské, Blatenské (Balaton), Meklenburská jezerní plošina, Pomořanská a Mazurská jezerní ploš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Města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Berlín, Bern, Vídeň, Praha, Bratislava, Varšava, Budapešť, Vad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60560" y="632952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ZPĚT NA PREZENT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7:29:42Z</dcterms:created>
  <dc:creator>kk</dc:creator>
  <dc:description/>
  <dc:language>en-US</dc:language>
  <cp:lastModifiedBy>jj</cp:lastModifiedBy>
  <dcterms:modified xsi:type="dcterms:W3CDTF">2008-11-12T17:58:46Z</dcterms:modified>
  <cp:revision>11</cp:revision>
  <dc:subject/>
  <dc:title>STŘEDNÍ EVROPA</dc:title>
</cp:coreProperties>
</file>