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FF5-1082-4D93-A9DE-C95B2B00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70E-E297-426E-92E8-FB31E393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262-A22A-4D76-9107-489606CB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E88-3BD3-454B-B5FE-DF4BF113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7D0-8A21-4822-88E8-C082D594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E45-6022-4B84-B12F-0D455574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734-7794-4F97-89AA-BB50958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7D0-BF28-4353-B039-5CD29BF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CAF-22FB-44AC-93AE-7EC03C1D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1D9-AFB6-418A-BDB8-13D398B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EA3-FF06-4E58-8A70-3DF9010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844-DC89-4C64-AF9E-2059663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715C-4068-45BC-9C1B-AC917664A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jindrichpolak.wz.cz/download/mapaevropy.pps" TargetMode="External"/><Relationship Id="rId4" Type="http://schemas.openxmlformats.org/officeDocument/2006/relationships/hyperlink" Target="http://www.jindrichpolak.wz.cz/download/mapaevropy.pps" TargetMode="External"/><Relationship Id="rId5" Type="http://schemas.openxmlformats.org/officeDocument/2006/relationships/hyperlink" Target="http://www.jindrichpolak.wz.cz/download/mapaevropy.pps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emepis.com/evropa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ČASNÁ TVÁŘ EV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769080" cy="458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4520" y="60930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ROPA V ROCE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 1989 pád KOMUNISMU ve Východní Evro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704360" cy="5218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1280" y="1282680"/>
            <a:ext cx="7993080" cy="4448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9760" y="623736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dělení Evropy na východní a západní blok v roce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81760" y="5805360"/>
            <a:ext cx="64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ád komunistického bloku v Evropě na konci 90. let 20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současnosti 45 států (rok 2006 vznik Srbsko – Bělehrad, Černá Hora – Podgo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líme je do šesti oblastí: Jižní, Severní, Západní, Střední, Východní a Jihovýchodní Ev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87280" y="1628640"/>
          <a:ext cx="69138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913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944320" y="630864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oskládáš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uzz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Evropy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op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– 27 států (rok 2007) + kandidáti Turecko, Chorvat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VO (Evropské sdružení volného obcho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O (Severoatlantická ali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regiony – příhraniční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2111400"/>
            <a:ext cx="5184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iš všech 45 států Evropy, najdi jejich hlavní měs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8160" y="6093000"/>
            <a:ext cx="48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informací o státech Evropy najdet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30:04Z</dcterms:created>
  <dc:creator>kk</dc:creator>
  <dc:description/>
  <dc:language>en-US</dc:language>
  <cp:lastModifiedBy>Administrator</cp:lastModifiedBy>
  <dcterms:modified xsi:type="dcterms:W3CDTF">2008-10-06T07:49:14Z</dcterms:modified>
  <cp:revision>9</cp:revision>
  <dc:subject/>
  <dc:title>SOUČASNÁ TVÁŘ EVROPY</dc:title>
</cp:coreProperties>
</file>