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BA3-2738-4C9B-A5A9-2E74F9B3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5D5-C896-4085-BA2C-307CF921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EB2-A39E-4BEF-A74B-D8E2058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40F-9C52-4ACE-AA4A-414B4A89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E0A-4772-439D-B34D-7C6A9D2F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B44-E54B-4B9F-B762-A8E46A1F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111-0790-4305-8288-E5ABE73E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690-ACE5-49C5-8431-39F1F4F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1C5-98B8-448A-9A64-7C4FB532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CCB-BB8E-41D4-8C84-7F98B8A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43D-C5FE-4162-A40B-076EC37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1FA-6B9F-4DC1-BDEE-9E861FA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F6D7-6B43-4CF1-A313-0BC82086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k.wikipedia.org/wiki/Bratislavsk&#253;_kraj" TargetMode="External"/><Relationship Id="rId3" Type="http://schemas.openxmlformats.org/officeDocument/2006/relationships/hyperlink" Target="http://sk.wikipedia.org/wiki/Trnavsk&#253;_kraj" TargetMode="External"/><Relationship Id="rId4" Type="http://schemas.openxmlformats.org/officeDocument/2006/relationships/hyperlink" Target="http://sk.wikipedia.org/wiki/Tren&#269;iansky_kraj" TargetMode="External"/><Relationship Id="rId5" Type="http://schemas.openxmlformats.org/officeDocument/2006/relationships/hyperlink" Target="http://sk.wikipedia.org/wiki/Nitriansky_kraj" TargetMode="External"/><Relationship Id="rId6" Type="http://schemas.openxmlformats.org/officeDocument/2006/relationships/hyperlink" Target="http://sk.wikipedia.org/wiki/&#381;ilinsk&#253;_kraj" TargetMode="External"/><Relationship Id="rId7" Type="http://schemas.openxmlformats.org/officeDocument/2006/relationships/hyperlink" Target="http://sk.wikipedia.org/wiki/Banskobystrick&#253;_kraj" TargetMode="External"/><Relationship Id="rId8" Type="http://schemas.openxmlformats.org/officeDocument/2006/relationships/hyperlink" Target="http://sk.wikipedia.org/wiki/Pre&#353;ovsk&#253;_kraj" TargetMode="External"/><Relationship Id="rId9" Type="http://schemas.openxmlformats.org/officeDocument/2006/relationships/hyperlink" Target="http://sk.wikipedia.org/wiki/&#381;ilinsk&#253;_kraj" TargetMode="External"/><Relationship Id="rId10" Type="http://schemas.openxmlformats.org/officeDocument/2006/relationships/hyperlink" Target="http://sk.wikipedia.org/wiki/Zoznam_krajov_na_Slovensku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360" y="29242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tivní mapa administrativního členění kr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" y="1219320"/>
            <a:ext cx="9077040" cy="441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3120" y="6499080"/>
            <a:ext cx="768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ávod k použití: Najetím na kraj a kliknutím získáš více informací o krajích na Slovensku (zdroj: http://sk.wikipedia.org/wiki/Sloven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/>
          </p:cNvPr>
          <p:cNvSpPr/>
          <p:nvPr/>
        </p:nvSpPr>
        <p:spPr>
          <a:xfrm>
            <a:off x="114480" y="3321000"/>
            <a:ext cx="1002960" cy="1470240"/>
          </a:xfrm>
          <a:custGeom>
            <a:avLst/>
            <a:gdLst/>
            <a:ahLst/>
            <a:rect l="l" t="t" r="r" b="b"/>
            <a:pathLst>
              <a:path w="632" h="926">
                <a:moveTo>
                  <a:pt x="328" y="900"/>
                </a:moveTo>
                <a:cubicBezTo>
                  <a:pt x="263" y="889"/>
                  <a:pt x="207" y="873"/>
                  <a:pt x="152" y="836"/>
                </a:cubicBezTo>
                <a:cubicBezTo>
                  <a:pt x="149" y="828"/>
                  <a:pt x="141" y="820"/>
                  <a:pt x="144" y="812"/>
                </a:cubicBezTo>
                <a:cubicBezTo>
                  <a:pt x="150" y="794"/>
                  <a:pt x="176" y="764"/>
                  <a:pt x="176" y="764"/>
                </a:cubicBezTo>
                <a:cubicBezTo>
                  <a:pt x="158" y="692"/>
                  <a:pt x="87" y="657"/>
                  <a:pt x="64" y="588"/>
                </a:cubicBezTo>
                <a:cubicBezTo>
                  <a:pt x="58" y="544"/>
                  <a:pt x="52" y="510"/>
                  <a:pt x="40" y="468"/>
                </a:cubicBezTo>
                <a:cubicBezTo>
                  <a:pt x="37" y="457"/>
                  <a:pt x="35" y="447"/>
                  <a:pt x="32" y="436"/>
                </a:cubicBezTo>
                <a:cubicBezTo>
                  <a:pt x="27" y="420"/>
                  <a:pt x="16" y="388"/>
                  <a:pt x="16" y="388"/>
                </a:cubicBezTo>
                <a:cubicBezTo>
                  <a:pt x="20" y="321"/>
                  <a:pt x="0" y="212"/>
                  <a:pt x="72" y="164"/>
                </a:cubicBezTo>
                <a:cubicBezTo>
                  <a:pt x="87" y="154"/>
                  <a:pt x="105" y="150"/>
                  <a:pt x="120" y="140"/>
                </a:cubicBezTo>
                <a:cubicBezTo>
                  <a:pt x="169" y="67"/>
                  <a:pt x="282" y="103"/>
                  <a:pt x="360" y="100"/>
                </a:cubicBezTo>
                <a:cubicBezTo>
                  <a:pt x="376" y="95"/>
                  <a:pt x="394" y="93"/>
                  <a:pt x="408" y="84"/>
                </a:cubicBezTo>
                <a:cubicBezTo>
                  <a:pt x="416" y="79"/>
                  <a:pt x="423" y="72"/>
                  <a:pt x="432" y="68"/>
                </a:cubicBezTo>
                <a:cubicBezTo>
                  <a:pt x="447" y="61"/>
                  <a:pt x="480" y="52"/>
                  <a:pt x="480" y="52"/>
                </a:cubicBezTo>
                <a:cubicBezTo>
                  <a:pt x="483" y="48"/>
                  <a:pt x="512" y="0"/>
                  <a:pt x="520" y="4"/>
                </a:cubicBezTo>
                <a:cubicBezTo>
                  <a:pt x="533" y="11"/>
                  <a:pt x="497" y="57"/>
                  <a:pt x="496" y="60"/>
                </a:cubicBezTo>
                <a:cubicBezTo>
                  <a:pt x="471" y="116"/>
                  <a:pt x="467" y="179"/>
                  <a:pt x="448" y="236"/>
                </a:cubicBezTo>
                <a:cubicBezTo>
                  <a:pt x="454" y="253"/>
                  <a:pt x="461" y="279"/>
                  <a:pt x="472" y="292"/>
                </a:cubicBezTo>
                <a:cubicBezTo>
                  <a:pt x="488" y="311"/>
                  <a:pt x="524" y="318"/>
                  <a:pt x="544" y="332"/>
                </a:cubicBezTo>
                <a:cubicBezTo>
                  <a:pt x="556" y="369"/>
                  <a:pt x="587" y="389"/>
                  <a:pt x="600" y="428"/>
                </a:cubicBezTo>
                <a:cubicBezTo>
                  <a:pt x="589" y="461"/>
                  <a:pt x="597" y="471"/>
                  <a:pt x="616" y="500"/>
                </a:cubicBezTo>
                <a:cubicBezTo>
                  <a:pt x="621" y="519"/>
                  <a:pt x="632" y="537"/>
                  <a:pt x="632" y="556"/>
                </a:cubicBezTo>
                <a:cubicBezTo>
                  <a:pt x="632" y="590"/>
                  <a:pt x="611" y="628"/>
                  <a:pt x="600" y="660"/>
                </a:cubicBezTo>
                <a:cubicBezTo>
                  <a:pt x="597" y="670"/>
                  <a:pt x="599" y="683"/>
                  <a:pt x="592" y="692"/>
                </a:cubicBezTo>
                <a:cubicBezTo>
                  <a:pt x="587" y="699"/>
                  <a:pt x="576" y="697"/>
                  <a:pt x="568" y="700"/>
                </a:cubicBezTo>
                <a:cubicBezTo>
                  <a:pt x="497" y="686"/>
                  <a:pt x="507" y="700"/>
                  <a:pt x="464" y="748"/>
                </a:cubicBezTo>
                <a:cubicBezTo>
                  <a:pt x="440" y="775"/>
                  <a:pt x="416" y="789"/>
                  <a:pt x="400" y="820"/>
                </a:cubicBezTo>
                <a:cubicBezTo>
                  <a:pt x="390" y="839"/>
                  <a:pt x="395" y="853"/>
                  <a:pt x="376" y="868"/>
                </a:cubicBezTo>
                <a:cubicBezTo>
                  <a:pt x="362" y="879"/>
                  <a:pt x="304" y="889"/>
                  <a:pt x="304" y="916"/>
                </a:cubicBezTo>
                <a:cubicBezTo>
                  <a:pt x="304" y="926"/>
                  <a:pt x="320" y="905"/>
                  <a:pt x="328" y="9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/>
          </p:cNvPr>
          <p:cNvSpPr/>
          <p:nvPr/>
        </p:nvSpPr>
        <p:spPr>
          <a:xfrm>
            <a:off x="241200" y="2768760"/>
            <a:ext cx="1625760" cy="2641320"/>
          </a:xfrm>
          <a:custGeom>
            <a:avLst/>
            <a:gdLst/>
            <a:ahLst/>
            <a:rect l="l" t="t" r="r" b="b"/>
            <a:pathLst>
              <a:path w="1024" h="1664">
                <a:moveTo>
                  <a:pt x="264" y="1256"/>
                </a:moveTo>
                <a:cubicBezTo>
                  <a:pt x="319" y="1293"/>
                  <a:pt x="258" y="1246"/>
                  <a:pt x="304" y="1304"/>
                </a:cubicBezTo>
                <a:cubicBezTo>
                  <a:pt x="318" y="1322"/>
                  <a:pt x="336" y="1336"/>
                  <a:pt x="352" y="1352"/>
                </a:cubicBezTo>
                <a:cubicBezTo>
                  <a:pt x="366" y="1366"/>
                  <a:pt x="373" y="1384"/>
                  <a:pt x="384" y="1400"/>
                </a:cubicBezTo>
                <a:cubicBezTo>
                  <a:pt x="389" y="1407"/>
                  <a:pt x="387" y="1417"/>
                  <a:pt x="392" y="1424"/>
                </a:cubicBezTo>
                <a:cubicBezTo>
                  <a:pt x="406" y="1442"/>
                  <a:pt x="440" y="1472"/>
                  <a:pt x="440" y="1472"/>
                </a:cubicBezTo>
                <a:cubicBezTo>
                  <a:pt x="457" y="1523"/>
                  <a:pt x="434" y="1468"/>
                  <a:pt x="480" y="1520"/>
                </a:cubicBezTo>
                <a:cubicBezTo>
                  <a:pt x="493" y="1534"/>
                  <a:pt x="501" y="1552"/>
                  <a:pt x="512" y="1568"/>
                </a:cubicBezTo>
                <a:cubicBezTo>
                  <a:pt x="523" y="1584"/>
                  <a:pt x="544" y="1589"/>
                  <a:pt x="560" y="1600"/>
                </a:cubicBezTo>
                <a:cubicBezTo>
                  <a:pt x="610" y="1633"/>
                  <a:pt x="633" y="1646"/>
                  <a:pt x="688" y="1664"/>
                </a:cubicBezTo>
                <a:cubicBezTo>
                  <a:pt x="785" y="1640"/>
                  <a:pt x="804" y="1531"/>
                  <a:pt x="832" y="1448"/>
                </a:cubicBezTo>
                <a:cubicBezTo>
                  <a:pt x="839" y="1428"/>
                  <a:pt x="856" y="1412"/>
                  <a:pt x="864" y="1392"/>
                </a:cubicBezTo>
                <a:cubicBezTo>
                  <a:pt x="893" y="1321"/>
                  <a:pt x="865" y="1366"/>
                  <a:pt x="896" y="1320"/>
                </a:cubicBezTo>
                <a:cubicBezTo>
                  <a:pt x="893" y="1288"/>
                  <a:pt x="892" y="1256"/>
                  <a:pt x="888" y="1224"/>
                </a:cubicBezTo>
                <a:cubicBezTo>
                  <a:pt x="882" y="1180"/>
                  <a:pt x="830" y="1134"/>
                  <a:pt x="800" y="1104"/>
                </a:cubicBezTo>
                <a:cubicBezTo>
                  <a:pt x="774" y="1027"/>
                  <a:pt x="812" y="1034"/>
                  <a:pt x="872" y="1024"/>
                </a:cubicBezTo>
                <a:cubicBezTo>
                  <a:pt x="908" y="988"/>
                  <a:pt x="892" y="1011"/>
                  <a:pt x="912" y="952"/>
                </a:cubicBezTo>
                <a:cubicBezTo>
                  <a:pt x="915" y="944"/>
                  <a:pt x="920" y="928"/>
                  <a:pt x="920" y="928"/>
                </a:cubicBezTo>
                <a:cubicBezTo>
                  <a:pt x="915" y="883"/>
                  <a:pt x="897" y="815"/>
                  <a:pt x="936" y="776"/>
                </a:cubicBezTo>
                <a:cubicBezTo>
                  <a:pt x="982" y="730"/>
                  <a:pt x="938" y="795"/>
                  <a:pt x="984" y="736"/>
                </a:cubicBezTo>
                <a:cubicBezTo>
                  <a:pt x="996" y="721"/>
                  <a:pt x="1016" y="688"/>
                  <a:pt x="1016" y="688"/>
                </a:cubicBezTo>
                <a:cubicBezTo>
                  <a:pt x="1008" y="623"/>
                  <a:pt x="1005" y="597"/>
                  <a:pt x="960" y="552"/>
                </a:cubicBezTo>
                <a:cubicBezTo>
                  <a:pt x="951" y="525"/>
                  <a:pt x="932" y="488"/>
                  <a:pt x="952" y="480"/>
                </a:cubicBezTo>
                <a:cubicBezTo>
                  <a:pt x="974" y="471"/>
                  <a:pt x="1000" y="475"/>
                  <a:pt x="1024" y="472"/>
                </a:cubicBezTo>
                <a:cubicBezTo>
                  <a:pt x="1014" y="433"/>
                  <a:pt x="1001" y="422"/>
                  <a:pt x="968" y="400"/>
                </a:cubicBezTo>
                <a:cubicBezTo>
                  <a:pt x="929" y="342"/>
                  <a:pt x="862" y="344"/>
                  <a:pt x="800" y="328"/>
                </a:cubicBezTo>
                <a:cubicBezTo>
                  <a:pt x="768" y="331"/>
                  <a:pt x="736" y="331"/>
                  <a:pt x="704" y="336"/>
                </a:cubicBezTo>
                <a:cubicBezTo>
                  <a:pt x="687" y="339"/>
                  <a:pt x="672" y="347"/>
                  <a:pt x="656" y="352"/>
                </a:cubicBezTo>
                <a:cubicBezTo>
                  <a:pt x="648" y="355"/>
                  <a:pt x="632" y="360"/>
                  <a:pt x="632" y="360"/>
                </a:cubicBezTo>
                <a:cubicBezTo>
                  <a:pt x="608" y="336"/>
                  <a:pt x="595" y="320"/>
                  <a:pt x="584" y="288"/>
                </a:cubicBezTo>
                <a:cubicBezTo>
                  <a:pt x="577" y="206"/>
                  <a:pt x="585" y="201"/>
                  <a:pt x="536" y="152"/>
                </a:cubicBezTo>
                <a:cubicBezTo>
                  <a:pt x="514" y="86"/>
                  <a:pt x="529" y="118"/>
                  <a:pt x="488" y="56"/>
                </a:cubicBezTo>
                <a:cubicBezTo>
                  <a:pt x="479" y="42"/>
                  <a:pt x="440" y="40"/>
                  <a:pt x="440" y="40"/>
                </a:cubicBezTo>
                <a:cubicBezTo>
                  <a:pt x="435" y="32"/>
                  <a:pt x="432" y="21"/>
                  <a:pt x="424" y="16"/>
                </a:cubicBezTo>
                <a:cubicBezTo>
                  <a:pt x="410" y="7"/>
                  <a:pt x="376" y="0"/>
                  <a:pt x="376" y="0"/>
                </a:cubicBezTo>
                <a:cubicBezTo>
                  <a:pt x="349" y="3"/>
                  <a:pt x="322" y="0"/>
                  <a:pt x="296" y="8"/>
                </a:cubicBezTo>
                <a:cubicBezTo>
                  <a:pt x="285" y="11"/>
                  <a:pt x="281" y="25"/>
                  <a:pt x="272" y="32"/>
                </a:cubicBezTo>
                <a:cubicBezTo>
                  <a:pt x="257" y="44"/>
                  <a:pt x="240" y="53"/>
                  <a:pt x="224" y="64"/>
                </a:cubicBezTo>
                <a:cubicBezTo>
                  <a:pt x="208" y="75"/>
                  <a:pt x="192" y="85"/>
                  <a:pt x="176" y="96"/>
                </a:cubicBezTo>
                <a:cubicBezTo>
                  <a:pt x="168" y="101"/>
                  <a:pt x="152" y="112"/>
                  <a:pt x="152" y="112"/>
                </a:cubicBezTo>
                <a:cubicBezTo>
                  <a:pt x="127" y="149"/>
                  <a:pt x="109" y="183"/>
                  <a:pt x="72" y="208"/>
                </a:cubicBezTo>
                <a:cubicBezTo>
                  <a:pt x="62" y="239"/>
                  <a:pt x="37" y="251"/>
                  <a:pt x="24" y="280"/>
                </a:cubicBezTo>
                <a:cubicBezTo>
                  <a:pt x="17" y="295"/>
                  <a:pt x="13" y="312"/>
                  <a:pt x="8" y="328"/>
                </a:cubicBezTo>
                <a:cubicBezTo>
                  <a:pt x="5" y="336"/>
                  <a:pt x="0" y="352"/>
                  <a:pt x="0" y="352"/>
                </a:cubicBezTo>
                <a:cubicBezTo>
                  <a:pt x="7" y="416"/>
                  <a:pt x="0" y="432"/>
                  <a:pt x="48" y="464"/>
                </a:cubicBezTo>
                <a:cubicBezTo>
                  <a:pt x="67" y="461"/>
                  <a:pt x="86" y="461"/>
                  <a:pt x="104" y="456"/>
                </a:cubicBezTo>
                <a:cubicBezTo>
                  <a:pt x="131" y="448"/>
                  <a:pt x="153" y="415"/>
                  <a:pt x="176" y="400"/>
                </a:cubicBezTo>
                <a:cubicBezTo>
                  <a:pt x="243" y="408"/>
                  <a:pt x="261" y="416"/>
                  <a:pt x="328" y="408"/>
                </a:cubicBezTo>
                <a:cubicBezTo>
                  <a:pt x="349" y="322"/>
                  <a:pt x="333" y="351"/>
                  <a:pt x="464" y="360"/>
                </a:cubicBezTo>
                <a:cubicBezTo>
                  <a:pt x="426" y="417"/>
                  <a:pt x="446" y="394"/>
                  <a:pt x="408" y="432"/>
                </a:cubicBezTo>
                <a:cubicBezTo>
                  <a:pt x="393" y="476"/>
                  <a:pt x="396" y="442"/>
                  <a:pt x="424" y="464"/>
                </a:cubicBezTo>
                <a:cubicBezTo>
                  <a:pt x="432" y="470"/>
                  <a:pt x="435" y="480"/>
                  <a:pt x="440" y="488"/>
                </a:cubicBezTo>
                <a:cubicBezTo>
                  <a:pt x="447" y="568"/>
                  <a:pt x="460" y="701"/>
                  <a:pt x="536" y="752"/>
                </a:cubicBezTo>
                <a:cubicBezTo>
                  <a:pt x="542" y="769"/>
                  <a:pt x="559" y="782"/>
                  <a:pt x="560" y="800"/>
                </a:cubicBezTo>
                <a:cubicBezTo>
                  <a:pt x="562" y="859"/>
                  <a:pt x="556" y="917"/>
                  <a:pt x="552" y="976"/>
                </a:cubicBezTo>
                <a:cubicBezTo>
                  <a:pt x="543" y="1100"/>
                  <a:pt x="460" y="1092"/>
                  <a:pt x="392" y="1168"/>
                </a:cubicBezTo>
                <a:cubicBezTo>
                  <a:pt x="324" y="1244"/>
                  <a:pt x="391" y="1195"/>
                  <a:pt x="336" y="1232"/>
                </a:cubicBezTo>
                <a:cubicBezTo>
                  <a:pt x="321" y="1277"/>
                  <a:pt x="307" y="1265"/>
                  <a:pt x="264" y="125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/>
          </p:cNvPr>
          <p:cNvSpPr/>
          <p:nvPr/>
        </p:nvSpPr>
        <p:spPr>
          <a:xfrm>
            <a:off x="1041480" y="1865160"/>
            <a:ext cx="2209680" cy="1908360"/>
          </a:xfrm>
          <a:custGeom>
            <a:avLst/>
            <a:gdLst/>
            <a:ahLst/>
            <a:rect l="l" t="t" r="r" b="b"/>
            <a:pathLst>
              <a:path w="1392" h="1202">
                <a:moveTo>
                  <a:pt x="544" y="1001"/>
                </a:moveTo>
                <a:cubicBezTo>
                  <a:pt x="497" y="985"/>
                  <a:pt x="466" y="965"/>
                  <a:pt x="424" y="937"/>
                </a:cubicBezTo>
                <a:cubicBezTo>
                  <a:pt x="395" y="918"/>
                  <a:pt x="338" y="911"/>
                  <a:pt x="304" y="905"/>
                </a:cubicBezTo>
                <a:cubicBezTo>
                  <a:pt x="264" y="908"/>
                  <a:pt x="218" y="899"/>
                  <a:pt x="184" y="921"/>
                </a:cubicBezTo>
                <a:cubicBezTo>
                  <a:pt x="124" y="961"/>
                  <a:pt x="193" y="934"/>
                  <a:pt x="136" y="953"/>
                </a:cubicBezTo>
                <a:cubicBezTo>
                  <a:pt x="128" y="950"/>
                  <a:pt x="117" y="952"/>
                  <a:pt x="112" y="945"/>
                </a:cubicBezTo>
                <a:cubicBezTo>
                  <a:pt x="104" y="934"/>
                  <a:pt x="108" y="918"/>
                  <a:pt x="104" y="905"/>
                </a:cubicBezTo>
                <a:cubicBezTo>
                  <a:pt x="94" y="868"/>
                  <a:pt x="84" y="840"/>
                  <a:pt x="64" y="809"/>
                </a:cubicBezTo>
                <a:cubicBezTo>
                  <a:pt x="52" y="725"/>
                  <a:pt x="54" y="743"/>
                  <a:pt x="0" y="689"/>
                </a:cubicBezTo>
                <a:cubicBezTo>
                  <a:pt x="25" y="613"/>
                  <a:pt x="250" y="649"/>
                  <a:pt x="256" y="649"/>
                </a:cubicBezTo>
                <a:cubicBezTo>
                  <a:pt x="272" y="644"/>
                  <a:pt x="288" y="638"/>
                  <a:pt x="304" y="633"/>
                </a:cubicBezTo>
                <a:cubicBezTo>
                  <a:pt x="315" y="629"/>
                  <a:pt x="319" y="616"/>
                  <a:pt x="328" y="609"/>
                </a:cubicBezTo>
                <a:cubicBezTo>
                  <a:pt x="349" y="592"/>
                  <a:pt x="352" y="593"/>
                  <a:pt x="376" y="585"/>
                </a:cubicBezTo>
                <a:cubicBezTo>
                  <a:pt x="415" y="546"/>
                  <a:pt x="466" y="483"/>
                  <a:pt x="520" y="465"/>
                </a:cubicBezTo>
                <a:cubicBezTo>
                  <a:pt x="561" y="404"/>
                  <a:pt x="622" y="384"/>
                  <a:pt x="680" y="345"/>
                </a:cubicBezTo>
                <a:cubicBezTo>
                  <a:pt x="699" y="332"/>
                  <a:pt x="728" y="297"/>
                  <a:pt x="728" y="297"/>
                </a:cubicBezTo>
                <a:cubicBezTo>
                  <a:pt x="736" y="273"/>
                  <a:pt x="744" y="249"/>
                  <a:pt x="752" y="225"/>
                </a:cubicBezTo>
                <a:cubicBezTo>
                  <a:pt x="755" y="217"/>
                  <a:pt x="760" y="201"/>
                  <a:pt x="760" y="201"/>
                </a:cubicBezTo>
                <a:cubicBezTo>
                  <a:pt x="763" y="166"/>
                  <a:pt x="760" y="131"/>
                  <a:pt x="768" y="97"/>
                </a:cubicBezTo>
                <a:cubicBezTo>
                  <a:pt x="771" y="86"/>
                  <a:pt x="783" y="80"/>
                  <a:pt x="792" y="73"/>
                </a:cubicBezTo>
                <a:cubicBezTo>
                  <a:pt x="827" y="46"/>
                  <a:pt x="869" y="15"/>
                  <a:pt x="912" y="1"/>
                </a:cubicBezTo>
                <a:cubicBezTo>
                  <a:pt x="933" y="4"/>
                  <a:pt x="956" y="0"/>
                  <a:pt x="976" y="9"/>
                </a:cubicBezTo>
                <a:cubicBezTo>
                  <a:pt x="982" y="11"/>
                  <a:pt x="989" y="60"/>
                  <a:pt x="992" y="73"/>
                </a:cubicBezTo>
                <a:cubicBezTo>
                  <a:pt x="1000" y="104"/>
                  <a:pt x="997" y="95"/>
                  <a:pt x="1024" y="113"/>
                </a:cubicBezTo>
                <a:cubicBezTo>
                  <a:pt x="1045" y="145"/>
                  <a:pt x="1062" y="160"/>
                  <a:pt x="1096" y="177"/>
                </a:cubicBezTo>
                <a:cubicBezTo>
                  <a:pt x="1114" y="204"/>
                  <a:pt x="1137" y="218"/>
                  <a:pt x="1160" y="241"/>
                </a:cubicBezTo>
                <a:cubicBezTo>
                  <a:pt x="1167" y="332"/>
                  <a:pt x="1199" y="458"/>
                  <a:pt x="1128" y="529"/>
                </a:cubicBezTo>
                <a:cubicBezTo>
                  <a:pt x="1103" y="603"/>
                  <a:pt x="1206" y="553"/>
                  <a:pt x="1240" y="545"/>
                </a:cubicBezTo>
                <a:cubicBezTo>
                  <a:pt x="1283" y="610"/>
                  <a:pt x="1286" y="692"/>
                  <a:pt x="1320" y="761"/>
                </a:cubicBezTo>
                <a:cubicBezTo>
                  <a:pt x="1339" y="799"/>
                  <a:pt x="1362" y="827"/>
                  <a:pt x="1392" y="857"/>
                </a:cubicBezTo>
                <a:cubicBezTo>
                  <a:pt x="1389" y="868"/>
                  <a:pt x="1389" y="879"/>
                  <a:pt x="1384" y="889"/>
                </a:cubicBezTo>
                <a:cubicBezTo>
                  <a:pt x="1375" y="906"/>
                  <a:pt x="1352" y="937"/>
                  <a:pt x="1352" y="937"/>
                </a:cubicBezTo>
                <a:cubicBezTo>
                  <a:pt x="1340" y="986"/>
                  <a:pt x="1340" y="1020"/>
                  <a:pt x="1296" y="1049"/>
                </a:cubicBezTo>
                <a:cubicBezTo>
                  <a:pt x="1246" y="1123"/>
                  <a:pt x="1167" y="1100"/>
                  <a:pt x="1080" y="1105"/>
                </a:cubicBezTo>
                <a:cubicBezTo>
                  <a:pt x="1053" y="1114"/>
                  <a:pt x="1027" y="1120"/>
                  <a:pt x="1000" y="1129"/>
                </a:cubicBezTo>
                <a:cubicBezTo>
                  <a:pt x="974" y="1155"/>
                  <a:pt x="958" y="1178"/>
                  <a:pt x="928" y="1201"/>
                </a:cubicBezTo>
                <a:cubicBezTo>
                  <a:pt x="899" y="1198"/>
                  <a:pt x="868" y="1202"/>
                  <a:pt x="840" y="1193"/>
                </a:cubicBezTo>
                <a:cubicBezTo>
                  <a:pt x="831" y="1190"/>
                  <a:pt x="830" y="1176"/>
                  <a:pt x="824" y="1169"/>
                </a:cubicBezTo>
                <a:cubicBezTo>
                  <a:pt x="809" y="1152"/>
                  <a:pt x="776" y="1121"/>
                  <a:pt x="776" y="1121"/>
                </a:cubicBezTo>
                <a:cubicBezTo>
                  <a:pt x="764" y="1086"/>
                  <a:pt x="769" y="1077"/>
                  <a:pt x="800" y="1057"/>
                </a:cubicBezTo>
                <a:cubicBezTo>
                  <a:pt x="792" y="1033"/>
                  <a:pt x="726" y="948"/>
                  <a:pt x="704" y="929"/>
                </a:cubicBezTo>
                <a:cubicBezTo>
                  <a:pt x="682" y="910"/>
                  <a:pt x="656" y="897"/>
                  <a:pt x="632" y="881"/>
                </a:cubicBezTo>
                <a:cubicBezTo>
                  <a:pt x="624" y="876"/>
                  <a:pt x="608" y="865"/>
                  <a:pt x="608" y="865"/>
                </a:cubicBezTo>
                <a:cubicBezTo>
                  <a:pt x="603" y="876"/>
                  <a:pt x="594" y="885"/>
                  <a:pt x="592" y="897"/>
                </a:cubicBezTo>
                <a:cubicBezTo>
                  <a:pt x="591" y="905"/>
                  <a:pt x="600" y="913"/>
                  <a:pt x="600" y="921"/>
                </a:cubicBezTo>
                <a:cubicBezTo>
                  <a:pt x="600" y="926"/>
                  <a:pt x="586" y="975"/>
                  <a:pt x="584" y="977"/>
                </a:cubicBezTo>
                <a:cubicBezTo>
                  <a:pt x="544" y="1006"/>
                  <a:pt x="522" y="979"/>
                  <a:pt x="544" y="100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/>
          </p:cNvPr>
          <p:cNvSpPr/>
          <p:nvPr/>
        </p:nvSpPr>
        <p:spPr>
          <a:xfrm>
            <a:off x="1303200" y="3276720"/>
            <a:ext cx="2229120" cy="2325600"/>
          </a:xfrm>
          <a:custGeom>
            <a:avLst/>
            <a:gdLst/>
            <a:ahLst/>
            <a:rect l="l" t="t" r="r" b="b"/>
            <a:pathLst>
              <a:path w="1404" h="1465">
                <a:moveTo>
                  <a:pt x="19" y="1344"/>
                </a:moveTo>
                <a:cubicBezTo>
                  <a:pt x="37" y="1317"/>
                  <a:pt x="54" y="1273"/>
                  <a:pt x="75" y="1248"/>
                </a:cubicBezTo>
                <a:cubicBezTo>
                  <a:pt x="100" y="1218"/>
                  <a:pt x="139" y="1190"/>
                  <a:pt x="171" y="1168"/>
                </a:cubicBezTo>
                <a:cubicBezTo>
                  <a:pt x="189" y="1141"/>
                  <a:pt x="193" y="1115"/>
                  <a:pt x="211" y="1088"/>
                </a:cubicBezTo>
                <a:cubicBezTo>
                  <a:pt x="226" y="1030"/>
                  <a:pt x="239" y="1008"/>
                  <a:pt x="219" y="936"/>
                </a:cubicBezTo>
                <a:cubicBezTo>
                  <a:pt x="212" y="910"/>
                  <a:pt x="188" y="890"/>
                  <a:pt x="179" y="864"/>
                </a:cubicBezTo>
                <a:cubicBezTo>
                  <a:pt x="182" y="827"/>
                  <a:pt x="176" y="788"/>
                  <a:pt x="187" y="752"/>
                </a:cubicBezTo>
                <a:cubicBezTo>
                  <a:pt x="191" y="739"/>
                  <a:pt x="212" y="739"/>
                  <a:pt x="219" y="728"/>
                </a:cubicBezTo>
                <a:cubicBezTo>
                  <a:pt x="228" y="714"/>
                  <a:pt x="235" y="680"/>
                  <a:pt x="235" y="680"/>
                </a:cubicBezTo>
                <a:cubicBezTo>
                  <a:pt x="226" y="604"/>
                  <a:pt x="203" y="488"/>
                  <a:pt x="275" y="440"/>
                </a:cubicBezTo>
                <a:cubicBezTo>
                  <a:pt x="297" y="408"/>
                  <a:pt x="331" y="382"/>
                  <a:pt x="363" y="360"/>
                </a:cubicBezTo>
                <a:cubicBezTo>
                  <a:pt x="379" y="313"/>
                  <a:pt x="350" y="298"/>
                  <a:pt x="323" y="264"/>
                </a:cubicBezTo>
                <a:cubicBezTo>
                  <a:pt x="311" y="249"/>
                  <a:pt x="291" y="216"/>
                  <a:pt x="291" y="216"/>
                </a:cubicBezTo>
                <a:cubicBezTo>
                  <a:pt x="294" y="200"/>
                  <a:pt x="292" y="183"/>
                  <a:pt x="299" y="168"/>
                </a:cubicBezTo>
                <a:cubicBezTo>
                  <a:pt x="307" y="151"/>
                  <a:pt x="371" y="136"/>
                  <a:pt x="395" y="120"/>
                </a:cubicBezTo>
                <a:cubicBezTo>
                  <a:pt x="405" y="90"/>
                  <a:pt x="406" y="42"/>
                  <a:pt x="419" y="16"/>
                </a:cubicBezTo>
                <a:cubicBezTo>
                  <a:pt x="423" y="7"/>
                  <a:pt x="435" y="5"/>
                  <a:pt x="443" y="0"/>
                </a:cubicBezTo>
                <a:cubicBezTo>
                  <a:pt x="469" y="9"/>
                  <a:pt x="489" y="23"/>
                  <a:pt x="515" y="32"/>
                </a:cubicBezTo>
                <a:cubicBezTo>
                  <a:pt x="531" y="80"/>
                  <a:pt x="564" y="104"/>
                  <a:pt x="611" y="120"/>
                </a:cubicBezTo>
                <a:cubicBezTo>
                  <a:pt x="616" y="131"/>
                  <a:pt x="627" y="140"/>
                  <a:pt x="627" y="152"/>
                </a:cubicBezTo>
                <a:cubicBezTo>
                  <a:pt x="627" y="169"/>
                  <a:pt x="611" y="200"/>
                  <a:pt x="611" y="200"/>
                </a:cubicBezTo>
                <a:cubicBezTo>
                  <a:pt x="620" y="236"/>
                  <a:pt x="623" y="252"/>
                  <a:pt x="659" y="264"/>
                </a:cubicBezTo>
                <a:cubicBezTo>
                  <a:pt x="678" y="292"/>
                  <a:pt x="683" y="312"/>
                  <a:pt x="707" y="336"/>
                </a:cubicBezTo>
                <a:cubicBezTo>
                  <a:pt x="726" y="333"/>
                  <a:pt x="745" y="333"/>
                  <a:pt x="763" y="328"/>
                </a:cubicBezTo>
                <a:cubicBezTo>
                  <a:pt x="792" y="319"/>
                  <a:pt x="812" y="290"/>
                  <a:pt x="843" y="280"/>
                </a:cubicBezTo>
                <a:cubicBezTo>
                  <a:pt x="856" y="319"/>
                  <a:pt x="874" y="346"/>
                  <a:pt x="907" y="368"/>
                </a:cubicBezTo>
                <a:cubicBezTo>
                  <a:pt x="929" y="433"/>
                  <a:pt x="920" y="504"/>
                  <a:pt x="899" y="568"/>
                </a:cubicBezTo>
                <a:cubicBezTo>
                  <a:pt x="911" y="617"/>
                  <a:pt x="916" y="612"/>
                  <a:pt x="963" y="600"/>
                </a:cubicBezTo>
                <a:cubicBezTo>
                  <a:pt x="987" y="584"/>
                  <a:pt x="1015" y="572"/>
                  <a:pt x="1035" y="552"/>
                </a:cubicBezTo>
                <a:cubicBezTo>
                  <a:pt x="1090" y="497"/>
                  <a:pt x="1064" y="517"/>
                  <a:pt x="1107" y="488"/>
                </a:cubicBezTo>
                <a:cubicBezTo>
                  <a:pt x="1115" y="512"/>
                  <a:pt x="1117" y="539"/>
                  <a:pt x="1131" y="560"/>
                </a:cubicBezTo>
                <a:cubicBezTo>
                  <a:pt x="1142" y="576"/>
                  <a:pt x="1163" y="608"/>
                  <a:pt x="1163" y="608"/>
                </a:cubicBezTo>
                <a:cubicBezTo>
                  <a:pt x="1155" y="650"/>
                  <a:pt x="1150" y="694"/>
                  <a:pt x="1139" y="736"/>
                </a:cubicBezTo>
                <a:cubicBezTo>
                  <a:pt x="1132" y="763"/>
                  <a:pt x="1116" y="782"/>
                  <a:pt x="1107" y="808"/>
                </a:cubicBezTo>
                <a:cubicBezTo>
                  <a:pt x="1111" y="843"/>
                  <a:pt x="1096" y="880"/>
                  <a:pt x="1139" y="880"/>
                </a:cubicBezTo>
                <a:cubicBezTo>
                  <a:pt x="1182" y="880"/>
                  <a:pt x="1233" y="868"/>
                  <a:pt x="1275" y="856"/>
                </a:cubicBezTo>
                <a:cubicBezTo>
                  <a:pt x="1291" y="851"/>
                  <a:pt x="1323" y="840"/>
                  <a:pt x="1323" y="840"/>
                </a:cubicBezTo>
                <a:cubicBezTo>
                  <a:pt x="1334" y="843"/>
                  <a:pt x="1346" y="842"/>
                  <a:pt x="1355" y="848"/>
                </a:cubicBezTo>
                <a:cubicBezTo>
                  <a:pt x="1404" y="880"/>
                  <a:pt x="1329" y="942"/>
                  <a:pt x="1299" y="952"/>
                </a:cubicBezTo>
                <a:cubicBezTo>
                  <a:pt x="1238" y="1033"/>
                  <a:pt x="1260" y="1022"/>
                  <a:pt x="1139" y="1032"/>
                </a:cubicBezTo>
                <a:cubicBezTo>
                  <a:pt x="1106" y="1054"/>
                  <a:pt x="1074" y="1091"/>
                  <a:pt x="1059" y="1128"/>
                </a:cubicBezTo>
                <a:cubicBezTo>
                  <a:pt x="1053" y="1144"/>
                  <a:pt x="1043" y="1176"/>
                  <a:pt x="1043" y="1176"/>
                </a:cubicBezTo>
                <a:cubicBezTo>
                  <a:pt x="1056" y="1215"/>
                  <a:pt x="1069" y="1206"/>
                  <a:pt x="1107" y="1216"/>
                </a:cubicBezTo>
                <a:cubicBezTo>
                  <a:pt x="1176" y="1262"/>
                  <a:pt x="1079" y="1363"/>
                  <a:pt x="1035" y="1400"/>
                </a:cubicBezTo>
                <a:cubicBezTo>
                  <a:pt x="957" y="1465"/>
                  <a:pt x="731" y="1424"/>
                  <a:pt x="731" y="1424"/>
                </a:cubicBezTo>
                <a:cubicBezTo>
                  <a:pt x="715" y="1427"/>
                  <a:pt x="699" y="1429"/>
                  <a:pt x="683" y="1432"/>
                </a:cubicBezTo>
                <a:cubicBezTo>
                  <a:pt x="661" y="1437"/>
                  <a:pt x="619" y="1448"/>
                  <a:pt x="619" y="1448"/>
                </a:cubicBezTo>
                <a:cubicBezTo>
                  <a:pt x="472" y="1445"/>
                  <a:pt x="326" y="1445"/>
                  <a:pt x="179" y="1440"/>
                </a:cubicBezTo>
                <a:cubicBezTo>
                  <a:pt x="138" y="1439"/>
                  <a:pt x="77" y="1382"/>
                  <a:pt x="35" y="1368"/>
                </a:cubicBezTo>
                <a:cubicBezTo>
                  <a:pt x="9" y="1342"/>
                  <a:pt x="0" y="1344"/>
                  <a:pt x="19" y="134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/>
          </p:cNvPr>
          <p:cNvSpPr/>
          <p:nvPr/>
        </p:nvSpPr>
        <p:spPr>
          <a:xfrm>
            <a:off x="2666880" y="1333440"/>
            <a:ext cx="2495520" cy="1955880"/>
          </a:xfrm>
          <a:custGeom>
            <a:avLst/>
            <a:gdLst/>
            <a:ahLst/>
            <a:rect l="l" t="t" r="r" b="b"/>
            <a:pathLst>
              <a:path w="1572" h="1232">
                <a:moveTo>
                  <a:pt x="960" y="976"/>
                </a:moveTo>
                <a:cubicBezTo>
                  <a:pt x="954" y="977"/>
                  <a:pt x="877" y="986"/>
                  <a:pt x="872" y="992"/>
                </a:cubicBezTo>
                <a:cubicBezTo>
                  <a:pt x="861" y="1005"/>
                  <a:pt x="868" y="1028"/>
                  <a:pt x="856" y="1040"/>
                </a:cubicBezTo>
                <a:cubicBezTo>
                  <a:pt x="825" y="1071"/>
                  <a:pt x="841" y="1058"/>
                  <a:pt x="808" y="1080"/>
                </a:cubicBezTo>
                <a:cubicBezTo>
                  <a:pt x="797" y="1077"/>
                  <a:pt x="785" y="1078"/>
                  <a:pt x="776" y="1072"/>
                </a:cubicBezTo>
                <a:cubicBezTo>
                  <a:pt x="768" y="1067"/>
                  <a:pt x="766" y="1055"/>
                  <a:pt x="760" y="1048"/>
                </a:cubicBezTo>
                <a:cubicBezTo>
                  <a:pt x="753" y="1039"/>
                  <a:pt x="746" y="1029"/>
                  <a:pt x="736" y="1024"/>
                </a:cubicBezTo>
                <a:cubicBezTo>
                  <a:pt x="721" y="1016"/>
                  <a:pt x="688" y="1008"/>
                  <a:pt x="688" y="1008"/>
                </a:cubicBezTo>
                <a:cubicBezTo>
                  <a:pt x="608" y="1017"/>
                  <a:pt x="548" y="1028"/>
                  <a:pt x="520" y="1112"/>
                </a:cubicBezTo>
                <a:cubicBezTo>
                  <a:pt x="513" y="1180"/>
                  <a:pt x="523" y="1198"/>
                  <a:pt x="472" y="1232"/>
                </a:cubicBezTo>
                <a:cubicBezTo>
                  <a:pt x="407" y="1219"/>
                  <a:pt x="416" y="1200"/>
                  <a:pt x="368" y="1168"/>
                </a:cubicBezTo>
                <a:cubicBezTo>
                  <a:pt x="352" y="1144"/>
                  <a:pt x="336" y="1120"/>
                  <a:pt x="320" y="1096"/>
                </a:cubicBezTo>
                <a:cubicBezTo>
                  <a:pt x="315" y="1088"/>
                  <a:pt x="304" y="1072"/>
                  <a:pt x="304" y="1072"/>
                </a:cubicBezTo>
                <a:cubicBezTo>
                  <a:pt x="294" y="1021"/>
                  <a:pt x="285" y="972"/>
                  <a:pt x="256" y="928"/>
                </a:cubicBezTo>
                <a:cubicBezTo>
                  <a:pt x="244" y="879"/>
                  <a:pt x="212" y="842"/>
                  <a:pt x="184" y="800"/>
                </a:cubicBezTo>
                <a:cubicBezTo>
                  <a:pt x="179" y="793"/>
                  <a:pt x="169" y="748"/>
                  <a:pt x="168" y="744"/>
                </a:cubicBezTo>
                <a:cubicBezTo>
                  <a:pt x="165" y="693"/>
                  <a:pt x="181" y="634"/>
                  <a:pt x="152" y="592"/>
                </a:cubicBezTo>
                <a:cubicBezTo>
                  <a:pt x="139" y="573"/>
                  <a:pt x="120" y="560"/>
                  <a:pt x="104" y="544"/>
                </a:cubicBezTo>
                <a:cubicBezTo>
                  <a:pt x="81" y="521"/>
                  <a:pt x="93" y="522"/>
                  <a:pt x="80" y="496"/>
                </a:cubicBezTo>
                <a:cubicBezTo>
                  <a:pt x="59" y="454"/>
                  <a:pt x="69" y="489"/>
                  <a:pt x="40" y="448"/>
                </a:cubicBezTo>
                <a:cubicBezTo>
                  <a:pt x="24" y="426"/>
                  <a:pt x="9" y="394"/>
                  <a:pt x="0" y="368"/>
                </a:cubicBezTo>
                <a:cubicBezTo>
                  <a:pt x="3" y="339"/>
                  <a:pt x="2" y="309"/>
                  <a:pt x="8" y="280"/>
                </a:cubicBezTo>
                <a:cubicBezTo>
                  <a:pt x="14" y="252"/>
                  <a:pt x="55" y="237"/>
                  <a:pt x="72" y="216"/>
                </a:cubicBezTo>
                <a:cubicBezTo>
                  <a:pt x="112" y="165"/>
                  <a:pt x="126" y="118"/>
                  <a:pt x="192" y="96"/>
                </a:cubicBezTo>
                <a:cubicBezTo>
                  <a:pt x="314" y="111"/>
                  <a:pt x="497" y="30"/>
                  <a:pt x="568" y="136"/>
                </a:cubicBezTo>
                <a:cubicBezTo>
                  <a:pt x="581" y="188"/>
                  <a:pt x="549" y="260"/>
                  <a:pt x="608" y="280"/>
                </a:cubicBezTo>
                <a:cubicBezTo>
                  <a:pt x="659" y="277"/>
                  <a:pt x="710" y="279"/>
                  <a:pt x="760" y="272"/>
                </a:cubicBezTo>
                <a:cubicBezTo>
                  <a:pt x="774" y="270"/>
                  <a:pt x="800" y="239"/>
                  <a:pt x="808" y="232"/>
                </a:cubicBezTo>
                <a:cubicBezTo>
                  <a:pt x="837" y="208"/>
                  <a:pt x="858" y="212"/>
                  <a:pt x="880" y="168"/>
                </a:cubicBezTo>
                <a:cubicBezTo>
                  <a:pt x="893" y="142"/>
                  <a:pt x="896" y="104"/>
                  <a:pt x="912" y="80"/>
                </a:cubicBezTo>
                <a:cubicBezTo>
                  <a:pt x="932" y="50"/>
                  <a:pt x="977" y="30"/>
                  <a:pt x="1008" y="16"/>
                </a:cubicBezTo>
                <a:cubicBezTo>
                  <a:pt x="1023" y="9"/>
                  <a:pt x="1056" y="0"/>
                  <a:pt x="1056" y="0"/>
                </a:cubicBezTo>
                <a:cubicBezTo>
                  <a:pt x="1081" y="37"/>
                  <a:pt x="1083" y="72"/>
                  <a:pt x="1096" y="112"/>
                </a:cubicBezTo>
                <a:cubicBezTo>
                  <a:pt x="1100" y="123"/>
                  <a:pt x="1107" y="133"/>
                  <a:pt x="1112" y="144"/>
                </a:cubicBezTo>
                <a:cubicBezTo>
                  <a:pt x="1115" y="152"/>
                  <a:pt x="1118" y="160"/>
                  <a:pt x="1120" y="168"/>
                </a:cubicBezTo>
                <a:cubicBezTo>
                  <a:pt x="1132" y="211"/>
                  <a:pt x="1155" y="267"/>
                  <a:pt x="1208" y="272"/>
                </a:cubicBezTo>
                <a:cubicBezTo>
                  <a:pt x="1253" y="277"/>
                  <a:pt x="1299" y="277"/>
                  <a:pt x="1344" y="280"/>
                </a:cubicBezTo>
                <a:cubicBezTo>
                  <a:pt x="1395" y="357"/>
                  <a:pt x="1347" y="470"/>
                  <a:pt x="1320" y="552"/>
                </a:cubicBezTo>
                <a:cubicBezTo>
                  <a:pt x="1331" y="629"/>
                  <a:pt x="1322" y="610"/>
                  <a:pt x="1392" y="624"/>
                </a:cubicBezTo>
                <a:cubicBezTo>
                  <a:pt x="1428" y="678"/>
                  <a:pt x="1388" y="611"/>
                  <a:pt x="1416" y="712"/>
                </a:cubicBezTo>
                <a:cubicBezTo>
                  <a:pt x="1429" y="758"/>
                  <a:pt x="1505" y="755"/>
                  <a:pt x="1544" y="768"/>
                </a:cubicBezTo>
                <a:cubicBezTo>
                  <a:pt x="1551" y="788"/>
                  <a:pt x="1572" y="825"/>
                  <a:pt x="1552" y="848"/>
                </a:cubicBezTo>
                <a:cubicBezTo>
                  <a:pt x="1539" y="862"/>
                  <a:pt x="1520" y="869"/>
                  <a:pt x="1504" y="880"/>
                </a:cubicBezTo>
                <a:cubicBezTo>
                  <a:pt x="1496" y="885"/>
                  <a:pt x="1480" y="896"/>
                  <a:pt x="1480" y="896"/>
                </a:cubicBezTo>
                <a:cubicBezTo>
                  <a:pt x="1489" y="964"/>
                  <a:pt x="1494" y="955"/>
                  <a:pt x="1512" y="1008"/>
                </a:cubicBezTo>
                <a:cubicBezTo>
                  <a:pt x="1509" y="1021"/>
                  <a:pt x="1513" y="1038"/>
                  <a:pt x="1504" y="1048"/>
                </a:cubicBezTo>
                <a:cubicBezTo>
                  <a:pt x="1497" y="1056"/>
                  <a:pt x="1483" y="1056"/>
                  <a:pt x="1472" y="1056"/>
                </a:cubicBezTo>
                <a:cubicBezTo>
                  <a:pt x="1430" y="1056"/>
                  <a:pt x="1384" y="1042"/>
                  <a:pt x="1344" y="1032"/>
                </a:cubicBezTo>
                <a:cubicBezTo>
                  <a:pt x="1306" y="1006"/>
                  <a:pt x="1276" y="1007"/>
                  <a:pt x="1232" y="1016"/>
                </a:cubicBezTo>
                <a:cubicBezTo>
                  <a:pt x="1219" y="1013"/>
                  <a:pt x="1204" y="1014"/>
                  <a:pt x="1192" y="1008"/>
                </a:cubicBezTo>
                <a:cubicBezTo>
                  <a:pt x="1181" y="1003"/>
                  <a:pt x="1160" y="969"/>
                  <a:pt x="1144" y="968"/>
                </a:cubicBezTo>
                <a:cubicBezTo>
                  <a:pt x="1083" y="966"/>
                  <a:pt x="1021" y="973"/>
                  <a:pt x="960" y="97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/>
          </p:cNvPr>
          <p:cNvSpPr/>
          <p:nvPr/>
        </p:nvSpPr>
        <p:spPr>
          <a:xfrm>
            <a:off x="2692440" y="2921040"/>
            <a:ext cx="2970000" cy="1981080"/>
          </a:xfrm>
          <a:custGeom>
            <a:avLst/>
            <a:gdLst/>
            <a:ahLst/>
            <a:rect l="l" t="t" r="r" b="b"/>
            <a:pathLst>
              <a:path w="1871" h="1248">
                <a:moveTo>
                  <a:pt x="480" y="1216"/>
                </a:moveTo>
                <a:cubicBezTo>
                  <a:pt x="420" y="1176"/>
                  <a:pt x="465" y="1159"/>
                  <a:pt x="496" y="1128"/>
                </a:cubicBezTo>
                <a:cubicBezTo>
                  <a:pt x="549" y="1075"/>
                  <a:pt x="472" y="1131"/>
                  <a:pt x="536" y="1088"/>
                </a:cubicBezTo>
                <a:cubicBezTo>
                  <a:pt x="533" y="1067"/>
                  <a:pt x="548" y="1031"/>
                  <a:pt x="528" y="1024"/>
                </a:cubicBezTo>
                <a:cubicBezTo>
                  <a:pt x="462" y="1001"/>
                  <a:pt x="408" y="1021"/>
                  <a:pt x="352" y="1040"/>
                </a:cubicBezTo>
                <a:cubicBezTo>
                  <a:pt x="343" y="1049"/>
                  <a:pt x="323" y="1083"/>
                  <a:pt x="304" y="1056"/>
                </a:cubicBezTo>
                <a:cubicBezTo>
                  <a:pt x="294" y="1042"/>
                  <a:pt x="288" y="1008"/>
                  <a:pt x="288" y="1008"/>
                </a:cubicBezTo>
                <a:cubicBezTo>
                  <a:pt x="294" y="932"/>
                  <a:pt x="343" y="754"/>
                  <a:pt x="280" y="704"/>
                </a:cubicBezTo>
                <a:cubicBezTo>
                  <a:pt x="270" y="696"/>
                  <a:pt x="208" y="688"/>
                  <a:pt x="208" y="688"/>
                </a:cubicBezTo>
                <a:cubicBezTo>
                  <a:pt x="164" y="695"/>
                  <a:pt x="128" y="700"/>
                  <a:pt x="88" y="720"/>
                </a:cubicBezTo>
                <a:cubicBezTo>
                  <a:pt x="85" y="728"/>
                  <a:pt x="88" y="744"/>
                  <a:pt x="80" y="744"/>
                </a:cubicBezTo>
                <a:cubicBezTo>
                  <a:pt x="72" y="744"/>
                  <a:pt x="73" y="728"/>
                  <a:pt x="72" y="720"/>
                </a:cubicBezTo>
                <a:cubicBezTo>
                  <a:pt x="68" y="691"/>
                  <a:pt x="72" y="660"/>
                  <a:pt x="64" y="632"/>
                </a:cubicBezTo>
                <a:cubicBezTo>
                  <a:pt x="61" y="621"/>
                  <a:pt x="47" y="617"/>
                  <a:pt x="40" y="608"/>
                </a:cubicBezTo>
                <a:cubicBezTo>
                  <a:pt x="8" y="567"/>
                  <a:pt x="12" y="572"/>
                  <a:pt x="0" y="536"/>
                </a:cubicBezTo>
                <a:cubicBezTo>
                  <a:pt x="3" y="523"/>
                  <a:pt x="2" y="508"/>
                  <a:pt x="8" y="496"/>
                </a:cubicBezTo>
                <a:cubicBezTo>
                  <a:pt x="25" y="462"/>
                  <a:pt x="74" y="450"/>
                  <a:pt x="104" y="440"/>
                </a:cubicBezTo>
                <a:cubicBezTo>
                  <a:pt x="121" y="434"/>
                  <a:pt x="141" y="411"/>
                  <a:pt x="152" y="400"/>
                </a:cubicBezTo>
                <a:cubicBezTo>
                  <a:pt x="247" y="424"/>
                  <a:pt x="255" y="388"/>
                  <a:pt x="320" y="344"/>
                </a:cubicBezTo>
                <a:cubicBezTo>
                  <a:pt x="325" y="336"/>
                  <a:pt x="334" y="329"/>
                  <a:pt x="336" y="320"/>
                </a:cubicBezTo>
                <a:cubicBezTo>
                  <a:pt x="364" y="180"/>
                  <a:pt x="290" y="227"/>
                  <a:pt x="472" y="216"/>
                </a:cubicBezTo>
                <a:cubicBezTo>
                  <a:pt x="501" y="197"/>
                  <a:pt x="501" y="180"/>
                  <a:pt x="520" y="152"/>
                </a:cubicBezTo>
                <a:cubicBezTo>
                  <a:pt x="523" y="123"/>
                  <a:pt x="519" y="92"/>
                  <a:pt x="528" y="64"/>
                </a:cubicBezTo>
                <a:cubicBezTo>
                  <a:pt x="535" y="42"/>
                  <a:pt x="641" y="27"/>
                  <a:pt x="656" y="24"/>
                </a:cubicBezTo>
                <a:cubicBezTo>
                  <a:pt x="680" y="27"/>
                  <a:pt x="705" y="26"/>
                  <a:pt x="728" y="32"/>
                </a:cubicBezTo>
                <a:cubicBezTo>
                  <a:pt x="754" y="38"/>
                  <a:pt x="770" y="73"/>
                  <a:pt x="792" y="88"/>
                </a:cubicBezTo>
                <a:cubicBezTo>
                  <a:pt x="849" y="78"/>
                  <a:pt x="888" y="56"/>
                  <a:pt x="936" y="24"/>
                </a:cubicBezTo>
                <a:cubicBezTo>
                  <a:pt x="953" y="12"/>
                  <a:pt x="1003" y="4"/>
                  <a:pt x="1024" y="0"/>
                </a:cubicBezTo>
                <a:cubicBezTo>
                  <a:pt x="1141" y="3"/>
                  <a:pt x="1259" y="3"/>
                  <a:pt x="1376" y="8"/>
                </a:cubicBezTo>
                <a:cubicBezTo>
                  <a:pt x="1421" y="10"/>
                  <a:pt x="1379" y="22"/>
                  <a:pt x="1424" y="32"/>
                </a:cubicBezTo>
                <a:cubicBezTo>
                  <a:pt x="1450" y="38"/>
                  <a:pt x="1477" y="37"/>
                  <a:pt x="1504" y="40"/>
                </a:cubicBezTo>
                <a:cubicBezTo>
                  <a:pt x="1554" y="52"/>
                  <a:pt x="1584" y="58"/>
                  <a:pt x="1640" y="64"/>
                </a:cubicBezTo>
                <a:cubicBezTo>
                  <a:pt x="1730" y="86"/>
                  <a:pt x="1690" y="219"/>
                  <a:pt x="1664" y="296"/>
                </a:cubicBezTo>
                <a:cubicBezTo>
                  <a:pt x="1667" y="315"/>
                  <a:pt x="1665" y="334"/>
                  <a:pt x="1672" y="352"/>
                </a:cubicBezTo>
                <a:cubicBezTo>
                  <a:pt x="1679" y="370"/>
                  <a:pt x="1698" y="382"/>
                  <a:pt x="1704" y="400"/>
                </a:cubicBezTo>
                <a:cubicBezTo>
                  <a:pt x="1718" y="443"/>
                  <a:pt x="1730" y="486"/>
                  <a:pt x="1744" y="528"/>
                </a:cubicBezTo>
                <a:cubicBezTo>
                  <a:pt x="1751" y="627"/>
                  <a:pt x="1745" y="732"/>
                  <a:pt x="1856" y="760"/>
                </a:cubicBezTo>
                <a:cubicBezTo>
                  <a:pt x="1865" y="787"/>
                  <a:pt x="1871" y="791"/>
                  <a:pt x="1856" y="824"/>
                </a:cubicBezTo>
                <a:cubicBezTo>
                  <a:pt x="1835" y="869"/>
                  <a:pt x="1799" y="907"/>
                  <a:pt x="1768" y="944"/>
                </a:cubicBezTo>
                <a:cubicBezTo>
                  <a:pt x="1748" y="968"/>
                  <a:pt x="1734" y="993"/>
                  <a:pt x="1704" y="1008"/>
                </a:cubicBezTo>
                <a:cubicBezTo>
                  <a:pt x="1674" y="1023"/>
                  <a:pt x="1639" y="1022"/>
                  <a:pt x="1608" y="1032"/>
                </a:cubicBezTo>
                <a:cubicBezTo>
                  <a:pt x="1603" y="1040"/>
                  <a:pt x="1600" y="1050"/>
                  <a:pt x="1592" y="1056"/>
                </a:cubicBezTo>
                <a:cubicBezTo>
                  <a:pt x="1585" y="1061"/>
                  <a:pt x="1574" y="1058"/>
                  <a:pt x="1568" y="1064"/>
                </a:cubicBezTo>
                <a:cubicBezTo>
                  <a:pt x="1554" y="1078"/>
                  <a:pt x="1552" y="1101"/>
                  <a:pt x="1536" y="1112"/>
                </a:cubicBezTo>
                <a:cubicBezTo>
                  <a:pt x="1452" y="1168"/>
                  <a:pt x="1507" y="1143"/>
                  <a:pt x="1360" y="1152"/>
                </a:cubicBezTo>
                <a:cubicBezTo>
                  <a:pt x="1347" y="1155"/>
                  <a:pt x="1334" y="1160"/>
                  <a:pt x="1320" y="1160"/>
                </a:cubicBezTo>
                <a:cubicBezTo>
                  <a:pt x="1259" y="1160"/>
                  <a:pt x="1223" y="1082"/>
                  <a:pt x="1168" y="1064"/>
                </a:cubicBezTo>
                <a:cubicBezTo>
                  <a:pt x="1144" y="1056"/>
                  <a:pt x="1120" y="1048"/>
                  <a:pt x="1096" y="1040"/>
                </a:cubicBezTo>
                <a:cubicBezTo>
                  <a:pt x="1088" y="1037"/>
                  <a:pt x="1072" y="1032"/>
                  <a:pt x="1072" y="1032"/>
                </a:cubicBezTo>
                <a:cubicBezTo>
                  <a:pt x="1056" y="1035"/>
                  <a:pt x="1039" y="1033"/>
                  <a:pt x="1024" y="1040"/>
                </a:cubicBezTo>
                <a:cubicBezTo>
                  <a:pt x="1015" y="1044"/>
                  <a:pt x="1014" y="1057"/>
                  <a:pt x="1008" y="1064"/>
                </a:cubicBezTo>
                <a:cubicBezTo>
                  <a:pt x="979" y="1097"/>
                  <a:pt x="948" y="1128"/>
                  <a:pt x="912" y="1152"/>
                </a:cubicBezTo>
                <a:cubicBezTo>
                  <a:pt x="907" y="1160"/>
                  <a:pt x="900" y="1167"/>
                  <a:pt x="896" y="1176"/>
                </a:cubicBezTo>
                <a:cubicBezTo>
                  <a:pt x="892" y="1184"/>
                  <a:pt x="892" y="1193"/>
                  <a:pt x="888" y="1200"/>
                </a:cubicBezTo>
                <a:cubicBezTo>
                  <a:pt x="879" y="1217"/>
                  <a:pt x="856" y="1248"/>
                  <a:pt x="856" y="1248"/>
                </a:cubicBezTo>
                <a:cubicBezTo>
                  <a:pt x="819" y="1245"/>
                  <a:pt x="781" y="1242"/>
                  <a:pt x="744" y="1240"/>
                </a:cubicBezTo>
                <a:cubicBezTo>
                  <a:pt x="661" y="1236"/>
                  <a:pt x="579" y="1237"/>
                  <a:pt x="496" y="1232"/>
                </a:cubicBezTo>
                <a:cubicBezTo>
                  <a:pt x="461" y="1230"/>
                  <a:pt x="469" y="1227"/>
                  <a:pt x="480" y="12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/>
          </p:cNvPr>
          <p:cNvSpPr/>
          <p:nvPr/>
        </p:nvSpPr>
        <p:spPr>
          <a:xfrm>
            <a:off x="4915080" y="1833480"/>
            <a:ext cx="4109760" cy="1706760"/>
          </a:xfrm>
          <a:custGeom>
            <a:avLst/>
            <a:gdLst/>
            <a:ahLst/>
            <a:rect l="l" t="t" r="r" b="b"/>
            <a:pathLst>
              <a:path w="2589" h="1075">
                <a:moveTo>
                  <a:pt x="0" y="253"/>
                </a:moveTo>
                <a:cubicBezTo>
                  <a:pt x="78" y="259"/>
                  <a:pt x="156" y="270"/>
                  <a:pt x="232" y="245"/>
                </a:cubicBezTo>
                <a:cubicBezTo>
                  <a:pt x="250" y="231"/>
                  <a:pt x="274" y="223"/>
                  <a:pt x="288" y="205"/>
                </a:cubicBezTo>
                <a:cubicBezTo>
                  <a:pt x="304" y="185"/>
                  <a:pt x="294" y="143"/>
                  <a:pt x="312" y="125"/>
                </a:cubicBezTo>
                <a:cubicBezTo>
                  <a:pt x="353" y="84"/>
                  <a:pt x="394" y="84"/>
                  <a:pt x="448" y="77"/>
                </a:cubicBezTo>
                <a:cubicBezTo>
                  <a:pt x="472" y="61"/>
                  <a:pt x="496" y="53"/>
                  <a:pt x="520" y="37"/>
                </a:cubicBezTo>
                <a:cubicBezTo>
                  <a:pt x="634" y="43"/>
                  <a:pt x="735" y="54"/>
                  <a:pt x="848" y="61"/>
                </a:cubicBezTo>
                <a:cubicBezTo>
                  <a:pt x="896" y="77"/>
                  <a:pt x="890" y="116"/>
                  <a:pt x="920" y="149"/>
                </a:cubicBezTo>
                <a:cubicBezTo>
                  <a:pt x="957" y="191"/>
                  <a:pt x="988" y="212"/>
                  <a:pt x="1040" y="229"/>
                </a:cubicBezTo>
                <a:cubicBezTo>
                  <a:pt x="1052" y="228"/>
                  <a:pt x="1120" y="231"/>
                  <a:pt x="1136" y="205"/>
                </a:cubicBezTo>
                <a:cubicBezTo>
                  <a:pt x="1145" y="191"/>
                  <a:pt x="1152" y="157"/>
                  <a:pt x="1152" y="157"/>
                </a:cubicBezTo>
                <a:cubicBezTo>
                  <a:pt x="1149" y="146"/>
                  <a:pt x="1144" y="136"/>
                  <a:pt x="1144" y="125"/>
                </a:cubicBezTo>
                <a:cubicBezTo>
                  <a:pt x="1144" y="12"/>
                  <a:pt x="1253" y="27"/>
                  <a:pt x="1336" y="21"/>
                </a:cubicBezTo>
                <a:cubicBezTo>
                  <a:pt x="1465" y="0"/>
                  <a:pt x="1598" y="35"/>
                  <a:pt x="1728" y="45"/>
                </a:cubicBezTo>
                <a:cubicBezTo>
                  <a:pt x="1771" y="59"/>
                  <a:pt x="1825" y="63"/>
                  <a:pt x="1864" y="85"/>
                </a:cubicBezTo>
                <a:cubicBezTo>
                  <a:pt x="1914" y="113"/>
                  <a:pt x="1918" y="123"/>
                  <a:pt x="1960" y="165"/>
                </a:cubicBezTo>
                <a:cubicBezTo>
                  <a:pt x="1984" y="189"/>
                  <a:pt x="2008" y="213"/>
                  <a:pt x="2032" y="237"/>
                </a:cubicBezTo>
                <a:cubicBezTo>
                  <a:pt x="2040" y="245"/>
                  <a:pt x="2056" y="261"/>
                  <a:pt x="2056" y="261"/>
                </a:cubicBezTo>
                <a:cubicBezTo>
                  <a:pt x="2070" y="303"/>
                  <a:pt x="2100" y="353"/>
                  <a:pt x="2136" y="381"/>
                </a:cubicBezTo>
                <a:cubicBezTo>
                  <a:pt x="2151" y="393"/>
                  <a:pt x="2170" y="399"/>
                  <a:pt x="2184" y="413"/>
                </a:cubicBezTo>
                <a:cubicBezTo>
                  <a:pt x="2203" y="432"/>
                  <a:pt x="2230" y="451"/>
                  <a:pt x="2256" y="461"/>
                </a:cubicBezTo>
                <a:cubicBezTo>
                  <a:pt x="2302" y="478"/>
                  <a:pt x="2353" y="488"/>
                  <a:pt x="2400" y="501"/>
                </a:cubicBezTo>
                <a:cubicBezTo>
                  <a:pt x="2439" y="512"/>
                  <a:pt x="2474" y="526"/>
                  <a:pt x="2512" y="541"/>
                </a:cubicBezTo>
                <a:cubicBezTo>
                  <a:pt x="2528" y="547"/>
                  <a:pt x="2560" y="557"/>
                  <a:pt x="2560" y="557"/>
                </a:cubicBezTo>
                <a:cubicBezTo>
                  <a:pt x="2589" y="601"/>
                  <a:pt x="2580" y="641"/>
                  <a:pt x="2544" y="677"/>
                </a:cubicBezTo>
                <a:cubicBezTo>
                  <a:pt x="2532" y="713"/>
                  <a:pt x="2504" y="738"/>
                  <a:pt x="2488" y="773"/>
                </a:cubicBezTo>
                <a:cubicBezTo>
                  <a:pt x="2457" y="843"/>
                  <a:pt x="2463" y="888"/>
                  <a:pt x="2376" y="917"/>
                </a:cubicBezTo>
                <a:cubicBezTo>
                  <a:pt x="2341" y="913"/>
                  <a:pt x="2286" y="926"/>
                  <a:pt x="2272" y="893"/>
                </a:cubicBezTo>
                <a:cubicBezTo>
                  <a:pt x="2264" y="876"/>
                  <a:pt x="2274" y="853"/>
                  <a:pt x="2264" y="837"/>
                </a:cubicBezTo>
                <a:cubicBezTo>
                  <a:pt x="2254" y="821"/>
                  <a:pt x="2216" y="805"/>
                  <a:pt x="2216" y="805"/>
                </a:cubicBezTo>
                <a:cubicBezTo>
                  <a:pt x="2203" y="808"/>
                  <a:pt x="2187" y="805"/>
                  <a:pt x="2176" y="813"/>
                </a:cubicBezTo>
                <a:cubicBezTo>
                  <a:pt x="2169" y="818"/>
                  <a:pt x="2170" y="829"/>
                  <a:pt x="2168" y="837"/>
                </a:cubicBezTo>
                <a:cubicBezTo>
                  <a:pt x="2154" y="902"/>
                  <a:pt x="2172" y="867"/>
                  <a:pt x="2144" y="909"/>
                </a:cubicBezTo>
                <a:cubicBezTo>
                  <a:pt x="2085" y="906"/>
                  <a:pt x="2027" y="906"/>
                  <a:pt x="1968" y="901"/>
                </a:cubicBezTo>
                <a:cubicBezTo>
                  <a:pt x="1931" y="898"/>
                  <a:pt x="1902" y="862"/>
                  <a:pt x="1864" y="853"/>
                </a:cubicBezTo>
                <a:cubicBezTo>
                  <a:pt x="1848" y="856"/>
                  <a:pt x="1829" y="851"/>
                  <a:pt x="1816" y="861"/>
                </a:cubicBezTo>
                <a:cubicBezTo>
                  <a:pt x="1809" y="866"/>
                  <a:pt x="1824" y="877"/>
                  <a:pt x="1824" y="885"/>
                </a:cubicBezTo>
                <a:cubicBezTo>
                  <a:pt x="1824" y="903"/>
                  <a:pt x="1823" y="967"/>
                  <a:pt x="1808" y="997"/>
                </a:cubicBezTo>
                <a:cubicBezTo>
                  <a:pt x="1794" y="1026"/>
                  <a:pt x="1744" y="1069"/>
                  <a:pt x="1744" y="1069"/>
                </a:cubicBezTo>
                <a:cubicBezTo>
                  <a:pt x="1676" y="1052"/>
                  <a:pt x="1745" y="1075"/>
                  <a:pt x="1688" y="1037"/>
                </a:cubicBezTo>
                <a:cubicBezTo>
                  <a:pt x="1681" y="1032"/>
                  <a:pt x="1671" y="1033"/>
                  <a:pt x="1664" y="1029"/>
                </a:cubicBezTo>
                <a:cubicBezTo>
                  <a:pt x="1647" y="1020"/>
                  <a:pt x="1632" y="1008"/>
                  <a:pt x="1616" y="997"/>
                </a:cubicBezTo>
                <a:cubicBezTo>
                  <a:pt x="1600" y="986"/>
                  <a:pt x="1584" y="976"/>
                  <a:pt x="1568" y="965"/>
                </a:cubicBezTo>
                <a:cubicBezTo>
                  <a:pt x="1560" y="960"/>
                  <a:pt x="1544" y="949"/>
                  <a:pt x="1544" y="949"/>
                </a:cubicBezTo>
                <a:cubicBezTo>
                  <a:pt x="1525" y="892"/>
                  <a:pt x="1552" y="961"/>
                  <a:pt x="1512" y="901"/>
                </a:cubicBezTo>
                <a:cubicBezTo>
                  <a:pt x="1507" y="894"/>
                  <a:pt x="1509" y="884"/>
                  <a:pt x="1504" y="877"/>
                </a:cubicBezTo>
                <a:cubicBezTo>
                  <a:pt x="1493" y="863"/>
                  <a:pt x="1472" y="858"/>
                  <a:pt x="1456" y="853"/>
                </a:cubicBezTo>
                <a:cubicBezTo>
                  <a:pt x="1432" y="856"/>
                  <a:pt x="1407" y="853"/>
                  <a:pt x="1384" y="861"/>
                </a:cubicBezTo>
                <a:cubicBezTo>
                  <a:pt x="1367" y="867"/>
                  <a:pt x="1367" y="898"/>
                  <a:pt x="1360" y="909"/>
                </a:cubicBezTo>
                <a:cubicBezTo>
                  <a:pt x="1354" y="918"/>
                  <a:pt x="1344" y="925"/>
                  <a:pt x="1336" y="933"/>
                </a:cubicBezTo>
                <a:cubicBezTo>
                  <a:pt x="1272" y="920"/>
                  <a:pt x="1291" y="910"/>
                  <a:pt x="1272" y="853"/>
                </a:cubicBezTo>
                <a:cubicBezTo>
                  <a:pt x="1266" y="835"/>
                  <a:pt x="1240" y="832"/>
                  <a:pt x="1224" y="821"/>
                </a:cubicBezTo>
                <a:cubicBezTo>
                  <a:pt x="1172" y="786"/>
                  <a:pt x="1141" y="784"/>
                  <a:pt x="1072" y="773"/>
                </a:cubicBezTo>
                <a:cubicBezTo>
                  <a:pt x="1047" y="756"/>
                  <a:pt x="1004" y="703"/>
                  <a:pt x="976" y="701"/>
                </a:cubicBezTo>
                <a:cubicBezTo>
                  <a:pt x="936" y="698"/>
                  <a:pt x="896" y="696"/>
                  <a:pt x="856" y="693"/>
                </a:cubicBezTo>
                <a:cubicBezTo>
                  <a:pt x="813" y="679"/>
                  <a:pt x="773" y="684"/>
                  <a:pt x="736" y="709"/>
                </a:cubicBezTo>
                <a:cubicBezTo>
                  <a:pt x="709" y="706"/>
                  <a:pt x="682" y="709"/>
                  <a:pt x="656" y="701"/>
                </a:cubicBezTo>
                <a:cubicBezTo>
                  <a:pt x="638" y="695"/>
                  <a:pt x="627" y="674"/>
                  <a:pt x="608" y="669"/>
                </a:cubicBezTo>
                <a:cubicBezTo>
                  <a:pt x="597" y="666"/>
                  <a:pt x="587" y="664"/>
                  <a:pt x="576" y="661"/>
                </a:cubicBezTo>
                <a:cubicBezTo>
                  <a:pt x="528" y="664"/>
                  <a:pt x="469" y="646"/>
                  <a:pt x="432" y="677"/>
                </a:cubicBezTo>
                <a:cubicBezTo>
                  <a:pt x="412" y="694"/>
                  <a:pt x="409" y="714"/>
                  <a:pt x="392" y="733"/>
                </a:cubicBezTo>
                <a:cubicBezTo>
                  <a:pt x="319" y="815"/>
                  <a:pt x="364" y="751"/>
                  <a:pt x="328" y="805"/>
                </a:cubicBezTo>
                <a:cubicBezTo>
                  <a:pt x="277" y="792"/>
                  <a:pt x="305" y="803"/>
                  <a:pt x="248" y="765"/>
                </a:cubicBezTo>
                <a:cubicBezTo>
                  <a:pt x="227" y="751"/>
                  <a:pt x="176" y="745"/>
                  <a:pt x="152" y="741"/>
                </a:cubicBezTo>
                <a:cubicBezTo>
                  <a:pt x="160" y="733"/>
                  <a:pt x="172" y="728"/>
                  <a:pt x="176" y="717"/>
                </a:cubicBezTo>
                <a:cubicBezTo>
                  <a:pt x="184" y="692"/>
                  <a:pt x="143" y="663"/>
                  <a:pt x="128" y="653"/>
                </a:cubicBezTo>
                <a:cubicBezTo>
                  <a:pt x="102" y="615"/>
                  <a:pt x="68" y="593"/>
                  <a:pt x="128" y="573"/>
                </a:cubicBezTo>
                <a:cubicBezTo>
                  <a:pt x="157" y="529"/>
                  <a:pt x="160" y="536"/>
                  <a:pt x="136" y="453"/>
                </a:cubicBezTo>
                <a:cubicBezTo>
                  <a:pt x="129" y="428"/>
                  <a:pt x="64" y="421"/>
                  <a:pt x="64" y="421"/>
                </a:cubicBezTo>
                <a:cubicBezTo>
                  <a:pt x="48" y="397"/>
                  <a:pt x="32" y="373"/>
                  <a:pt x="16" y="349"/>
                </a:cubicBezTo>
                <a:cubicBezTo>
                  <a:pt x="7" y="335"/>
                  <a:pt x="0" y="301"/>
                  <a:pt x="0" y="301"/>
                </a:cubicBezTo>
                <a:cubicBezTo>
                  <a:pt x="9" y="257"/>
                  <a:pt x="18" y="271"/>
                  <a:pt x="0" y="25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/>
          </p:cNvPr>
          <p:cNvSpPr/>
          <p:nvPr/>
        </p:nvSpPr>
        <p:spPr>
          <a:xfrm>
            <a:off x="5338800" y="2863800"/>
            <a:ext cx="3360600" cy="1665360"/>
          </a:xfrm>
          <a:custGeom>
            <a:avLst/>
            <a:gdLst/>
            <a:ahLst/>
            <a:rect l="l" t="t" r="r" b="b"/>
            <a:pathLst>
              <a:path w="2117" h="1049">
                <a:moveTo>
                  <a:pt x="325" y="756"/>
                </a:moveTo>
                <a:cubicBezTo>
                  <a:pt x="256" y="779"/>
                  <a:pt x="144" y="812"/>
                  <a:pt x="117" y="732"/>
                </a:cubicBezTo>
                <a:cubicBezTo>
                  <a:pt x="124" y="675"/>
                  <a:pt x="145" y="605"/>
                  <a:pt x="125" y="548"/>
                </a:cubicBezTo>
                <a:cubicBezTo>
                  <a:pt x="108" y="500"/>
                  <a:pt x="61" y="477"/>
                  <a:pt x="45" y="428"/>
                </a:cubicBezTo>
                <a:cubicBezTo>
                  <a:pt x="38" y="349"/>
                  <a:pt x="0" y="251"/>
                  <a:pt x="93" y="220"/>
                </a:cubicBezTo>
                <a:cubicBezTo>
                  <a:pt x="109" y="204"/>
                  <a:pt x="139" y="195"/>
                  <a:pt x="141" y="172"/>
                </a:cubicBezTo>
                <a:cubicBezTo>
                  <a:pt x="149" y="67"/>
                  <a:pt x="137" y="37"/>
                  <a:pt x="237" y="4"/>
                </a:cubicBezTo>
                <a:cubicBezTo>
                  <a:pt x="296" y="24"/>
                  <a:pt x="360" y="0"/>
                  <a:pt x="413" y="36"/>
                </a:cubicBezTo>
                <a:cubicBezTo>
                  <a:pt x="432" y="64"/>
                  <a:pt x="445" y="73"/>
                  <a:pt x="477" y="84"/>
                </a:cubicBezTo>
                <a:cubicBezTo>
                  <a:pt x="488" y="81"/>
                  <a:pt x="498" y="79"/>
                  <a:pt x="509" y="76"/>
                </a:cubicBezTo>
                <a:cubicBezTo>
                  <a:pt x="525" y="71"/>
                  <a:pt x="557" y="60"/>
                  <a:pt x="557" y="60"/>
                </a:cubicBezTo>
                <a:cubicBezTo>
                  <a:pt x="613" y="69"/>
                  <a:pt x="669" y="77"/>
                  <a:pt x="725" y="84"/>
                </a:cubicBezTo>
                <a:cubicBezTo>
                  <a:pt x="741" y="89"/>
                  <a:pt x="757" y="95"/>
                  <a:pt x="773" y="100"/>
                </a:cubicBezTo>
                <a:cubicBezTo>
                  <a:pt x="789" y="105"/>
                  <a:pt x="784" y="132"/>
                  <a:pt x="789" y="148"/>
                </a:cubicBezTo>
                <a:cubicBezTo>
                  <a:pt x="795" y="165"/>
                  <a:pt x="820" y="178"/>
                  <a:pt x="837" y="180"/>
                </a:cubicBezTo>
                <a:cubicBezTo>
                  <a:pt x="877" y="184"/>
                  <a:pt x="917" y="185"/>
                  <a:pt x="957" y="188"/>
                </a:cubicBezTo>
                <a:cubicBezTo>
                  <a:pt x="1043" y="245"/>
                  <a:pt x="913" y="156"/>
                  <a:pt x="1005" y="228"/>
                </a:cubicBezTo>
                <a:cubicBezTo>
                  <a:pt x="1020" y="240"/>
                  <a:pt x="1053" y="260"/>
                  <a:pt x="1053" y="260"/>
                </a:cubicBezTo>
                <a:cubicBezTo>
                  <a:pt x="1021" y="308"/>
                  <a:pt x="1033" y="310"/>
                  <a:pt x="1085" y="300"/>
                </a:cubicBezTo>
                <a:cubicBezTo>
                  <a:pt x="1114" y="281"/>
                  <a:pt x="1148" y="247"/>
                  <a:pt x="1181" y="236"/>
                </a:cubicBezTo>
                <a:cubicBezTo>
                  <a:pt x="1193" y="240"/>
                  <a:pt x="1222" y="247"/>
                  <a:pt x="1229" y="260"/>
                </a:cubicBezTo>
                <a:cubicBezTo>
                  <a:pt x="1250" y="297"/>
                  <a:pt x="1228" y="321"/>
                  <a:pt x="1269" y="348"/>
                </a:cubicBezTo>
                <a:cubicBezTo>
                  <a:pt x="1311" y="376"/>
                  <a:pt x="1443" y="371"/>
                  <a:pt x="1461" y="372"/>
                </a:cubicBezTo>
                <a:cubicBezTo>
                  <a:pt x="1498" y="381"/>
                  <a:pt x="1521" y="376"/>
                  <a:pt x="1557" y="364"/>
                </a:cubicBezTo>
                <a:cubicBezTo>
                  <a:pt x="1560" y="356"/>
                  <a:pt x="1566" y="348"/>
                  <a:pt x="1565" y="340"/>
                </a:cubicBezTo>
                <a:cubicBezTo>
                  <a:pt x="1563" y="323"/>
                  <a:pt x="1549" y="292"/>
                  <a:pt x="1549" y="292"/>
                </a:cubicBezTo>
                <a:cubicBezTo>
                  <a:pt x="1552" y="281"/>
                  <a:pt x="1550" y="269"/>
                  <a:pt x="1557" y="260"/>
                </a:cubicBezTo>
                <a:cubicBezTo>
                  <a:pt x="1574" y="238"/>
                  <a:pt x="1618" y="262"/>
                  <a:pt x="1637" y="268"/>
                </a:cubicBezTo>
                <a:cubicBezTo>
                  <a:pt x="1709" y="340"/>
                  <a:pt x="1671" y="313"/>
                  <a:pt x="1877" y="284"/>
                </a:cubicBezTo>
                <a:cubicBezTo>
                  <a:pt x="1885" y="283"/>
                  <a:pt x="1881" y="268"/>
                  <a:pt x="1885" y="260"/>
                </a:cubicBezTo>
                <a:cubicBezTo>
                  <a:pt x="1899" y="231"/>
                  <a:pt x="1897" y="237"/>
                  <a:pt x="1925" y="228"/>
                </a:cubicBezTo>
                <a:cubicBezTo>
                  <a:pt x="2000" y="153"/>
                  <a:pt x="1931" y="266"/>
                  <a:pt x="1965" y="276"/>
                </a:cubicBezTo>
                <a:cubicBezTo>
                  <a:pt x="2014" y="291"/>
                  <a:pt x="2066" y="281"/>
                  <a:pt x="2117" y="284"/>
                </a:cubicBezTo>
                <a:cubicBezTo>
                  <a:pt x="2111" y="331"/>
                  <a:pt x="2104" y="374"/>
                  <a:pt x="2093" y="420"/>
                </a:cubicBezTo>
                <a:cubicBezTo>
                  <a:pt x="2096" y="441"/>
                  <a:pt x="2106" y="463"/>
                  <a:pt x="2101" y="484"/>
                </a:cubicBezTo>
                <a:cubicBezTo>
                  <a:pt x="2092" y="528"/>
                  <a:pt x="2059" y="555"/>
                  <a:pt x="2021" y="564"/>
                </a:cubicBezTo>
                <a:cubicBezTo>
                  <a:pt x="2013" y="596"/>
                  <a:pt x="2003" y="626"/>
                  <a:pt x="1981" y="652"/>
                </a:cubicBezTo>
                <a:cubicBezTo>
                  <a:pt x="1963" y="674"/>
                  <a:pt x="1952" y="674"/>
                  <a:pt x="1941" y="700"/>
                </a:cubicBezTo>
                <a:cubicBezTo>
                  <a:pt x="1928" y="729"/>
                  <a:pt x="1911" y="766"/>
                  <a:pt x="1901" y="796"/>
                </a:cubicBezTo>
                <a:cubicBezTo>
                  <a:pt x="1898" y="839"/>
                  <a:pt x="1902" y="882"/>
                  <a:pt x="1893" y="924"/>
                </a:cubicBezTo>
                <a:cubicBezTo>
                  <a:pt x="1865" y="1049"/>
                  <a:pt x="1646" y="1010"/>
                  <a:pt x="1589" y="1012"/>
                </a:cubicBezTo>
                <a:cubicBezTo>
                  <a:pt x="1524" y="1021"/>
                  <a:pt x="1511" y="1029"/>
                  <a:pt x="1437" y="1004"/>
                </a:cubicBezTo>
                <a:cubicBezTo>
                  <a:pt x="1421" y="999"/>
                  <a:pt x="1383" y="935"/>
                  <a:pt x="1381" y="932"/>
                </a:cubicBezTo>
                <a:cubicBezTo>
                  <a:pt x="1310" y="825"/>
                  <a:pt x="1412" y="983"/>
                  <a:pt x="1357" y="884"/>
                </a:cubicBezTo>
                <a:cubicBezTo>
                  <a:pt x="1343" y="859"/>
                  <a:pt x="1318" y="839"/>
                  <a:pt x="1309" y="812"/>
                </a:cubicBezTo>
                <a:cubicBezTo>
                  <a:pt x="1306" y="804"/>
                  <a:pt x="1306" y="795"/>
                  <a:pt x="1301" y="788"/>
                </a:cubicBezTo>
                <a:cubicBezTo>
                  <a:pt x="1293" y="779"/>
                  <a:pt x="1253" y="760"/>
                  <a:pt x="1245" y="756"/>
                </a:cubicBezTo>
                <a:cubicBezTo>
                  <a:pt x="1225" y="725"/>
                  <a:pt x="1206" y="717"/>
                  <a:pt x="1173" y="700"/>
                </a:cubicBezTo>
                <a:cubicBezTo>
                  <a:pt x="1127" y="707"/>
                  <a:pt x="1089" y="717"/>
                  <a:pt x="1045" y="732"/>
                </a:cubicBezTo>
                <a:cubicBezTo>
                  <a:pt x="1004" y="746"/>
                  <a:pt x="960" y="737"/>
                  <a:pt x="917" y="740"/>
                </a:cubicBezTo>
                <a:cubicBezTo>
                  <a:pt x="844" y="764"/>
                  <a:pt x="886" y="754"/>
                  <a:pt x="789" y="764"/>
                </a:cubicBezTo>
                <a:cubicBezTo>
                  <a:pt x="712" y="687"/>
                  <a:pt x="810" y="778"/>
                  <a:pt x="741" y="732"/>
                </a:cubicBezTo>
                <a:cubicBezTo>
                  <a:pt x="703" y="707"/>
                  <a:pt x="732" y="709"/>
                  <a:pt x="693" y="692"/>
                </a:cubicBezTo>
                <a:cubicBezTo>
                  <a:pt x="653" y="674"/>
                  <a:pt x="607" y="663"/>
                  <a:pt x="565" y="652"/>
                </a:cubicBezTo>
                <a:cubicBezTo>
                  <a:pt x="498" y="656"/>
                  <a:pt x="430" y="650"/>
                  <a:pt x="365" y="668"/>
                </a:cubicBezTo>
                <a:cubicBezTo>
                  <a:pt x="348" y="673"/>
                  <a:pt x="334" y="686"/>
                  <a:pt x="317" y="692"/>
                </a:cubicBezTo>
                <a:cubicBezTo>
                  <a:pt x="304" y="730"/>
                  <a:pt x="306" y="708"/>
                  <a:pt x="325" y="75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/>
          </p:cNvPr>
          <p:cNvSpPr/>
          <p:nvPr/>
        </p:nvSpPr>
        <p:spPr>
          <a:xfrm>
            <a:off x="5727600" y="4762440"/>
            <a:ext cx="2800440" cy="638280"/>
          </a:xfrm>
          <a:custGeom>
            <a:avLst/>
            <a:gdLst/>
            <a:ahLst/>
            <a:rect l="l" t="t" r="r" b="b"/>
            <a:pathLst>
              <a:path w="1764" h="402">
                <a:moveTo>
                  <a:pt x="0" y="0"/>
                </a:moveTo>
                <a:cubicBezTo>
                  <a:pt x="7" y="87"/>
                  <a:pt x="29" y="169"/>
                  <a:pt x="40" y="256"/>
                </a:cubicBezTo>
                <a:cubicBezTo>
                  <a:pt x="40" y="260"/>
                  <a:pt x="42" y="346"/>
                  <a:pt x="64" y="360"/>
                </a:cubicBezTo>
                <a:cubicBezTo>
                  <a:pt x="78" y="369"/>
                  <a:pt x="96" y="365"/>
                  <a:pt x="112" y="368"/>
                </a:cubicBezTo>
                <a:cubicBezTo>
                  <a:pt x="681" y="364"/>
                  <a:pt x="1165" y="402"/>
                  <a:pt x="1696" y="296"/>
                </a:cubicBezTo>
                <a:cubicBezTo>
                  <a:pt x="1732" y="224"/>
                  <a:pt x="1764" y="87"/>
                  <a:pt x="1672" y="56"/>
                </a:cubicBezTo>
                <a:cubicBezTo>
                  <a:pt x="859" y="85"/>
                  <a:pt x="1368" y="73"/>
                  <a:pt x="144" y="64"/>
                </a:cubicBezTo>
                <a:cubicBezTo>
                  <a:pt x="68" y="39"/>
                  <a:pt x="65" y="47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informace o Slovens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ký úřad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ěstská a obecní statistika Sloven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édia Sloven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8:03:22Z</dcterms:created>
  <dc:creator>jj</dc:creator>
  <dc:description/>
  <dc:language>en-US</dc:language>
  <cp:lastModifiedBy>jj</cp:lastModifiedBy>
  <dcterms:modified xsi:type="dcterms:W3CDTF">2008-11-23T09:08:51Z</dcterms:modified>
  <cp:revision>4</cp:revision>
  <dc:subject/>
  <dc:title>SLOVENSKO</dc:title>
</cp:coreProperties>
</file>