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B31-B0F0-4744-9B45-7049299A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0EE-D720-4ADE-BD6C-688F5AD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FF5-3856-4B63-8128-D8FE4109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50F-845E-4719-B8F6-23B4BA24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67C-FFE3-48A1-8641-261221C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601-DFEB-44B1-A0C3-605F297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3B3-A215-40CA-926F-D4FC089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AB7-6E78-496D-B103-E8348113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D53-F000-489F-8C5E-D0E20F4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B1D-6660-4986-986C-3084122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9F4-500B-40CC-9304-35042012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93B-7084-45AD-8E19-C8BAC84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CE1F-48BF-4F03-8F47-011F0778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RNÍ EV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68920" y="6113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528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mají společné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) Přírodní 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římořské podnebí na rozhraní mírného a subarktického pásu (ovlivněn Golfským proud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sy (smíšené, jehličnaté – tajga) = zachovaná přír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rátké a prudké řeky (vodní elektrár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) Socioekonomické 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římořské státy – důležitá námořní doprava, rybo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soká životní úrove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áročné stavby v dopravní síti (mosty, tun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ízká hustota zalid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rmánské národy (Finsko – ugrofinsk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ostoucí význam cestovního 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O ZEMÍCH SEVERNÍ EVROPY ZJI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ákladní údaj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lavní město, zřízení, poloha, rozloha, počet obyvatel, hustota zalid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plnění k mapě (například: vodstvo, povrch, členitost, podnebí, vege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oekonomické podmínk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emědělství, těžba, průmysl, doprava, sídla a obyvatelst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RSK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ŠVÉDSK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FINSKO, DÁNSKO,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KRESLI MAPU STÁTŮ SEVERNÍ EVRO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plň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lenitost (poloostrovy, ostrovy), povrch, vodstvo (jezera, ledovce, moře, zálivy aj.), sopky, významné vrc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RSK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– OSLO (král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řský (Skandinávský pol.), 324 tis.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4,2 mil., 13 ob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jordy, podnebí ovlivňuje Golfský proud, protáhlý tvar státu a Skandinávské pohoří, pouze 4% orná pů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olov, těžba dřeva (výroba papíru) a ropy ze Severního moře, výroba vodní el. energie (hliníkárny), velká obchodní flot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islá území: Špicberky, Jan Mayen, Bouvetův ostrov, Ostrov Petr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322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ŠVÉDSK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– STOCKHOLM (král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mořský (Skandinávský pol.), 450 tis.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8,6 mil., 21 ob/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oří a plošiny, ledovcová jezera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⅔ rozlohy taj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ybolov x jih obilniny, těžba železné rudy (Kiruna,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livare) a výroba oceli, strojírenství a dřevozprac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1193760"/>
            <a:ext cx="3744720" cy="245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301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FINSKO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– HELSINKI (rep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40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řský (Skandinávský pol.), 338 tis.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5 mil., 16 ob/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 zarovnán ledovcem – země „tisíce jezer“ (ve skutečnosti přes 60 tisíc), tajga (nejvíce lesů v Evropě) x na severu tun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olov x zemědělství jih, málo nerostů, významná těžba dřeva a dřevařský průmysl, komunikační technika (NOKIA). Ugrofinský národ + sever Laponsk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00720" y="3645000"/>
            <a:ext cx="273060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5688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ÁNSKO – KOBENHAVN (král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4076640"/>
            <a:ext cx="8218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mořský (Jutský pol.), 43 tis.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5 mil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0 ob/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 na rovinatém Jutském poloostrově a přilehlých ostrovech v mírném podnebném pásu. 60% povrchu zaujímá orná půda. Grón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ležité a vyspělé je zemědělství (vývoz), těžba ropy ze Severního moř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nomní území: Grónsko, Faerské ostro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59640" y="2133720"/>
            <a:ext cx="205416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4225680" cy="317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80000" y="765000"/>
            <a:ext cx="518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SLAND – REYKJAVÍK (re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5472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rovní, 103 tis.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3 mil., 3,3 ob/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ečná aktivita (sopky, gejzíry), pevninský ledo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ůležitý rybolov (r. 2006 - zahájený výlov velryb), chov ovcí a roste význam CR. Geotermální energie (vytápění a ohřev vo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4176720" cy="2784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3168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07:24Z</dcterms:created>
  <dc:creator>kk</dc:creator>
  <dc:description/>
  <dc:language>en-US</dc:language>
  <cp:lastModifiedBy>jj</cp:lastModifiedBy>
  <dcterms:modified xsi:type="dcterms:W3CDTF">2008-10-28T10:58:29Z</dcterms:modified>
  <cp:revision>32</cp:revision>
  <dc:subject/>
  <dc:title>SEVERNÍ EVROPA</dc:title>
</cp:coreProperties>
</file>