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028D-3FE0-4508-9B84-79232502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C376-051F-4C7A-A5E3-F0D931ED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434C-91DC-4497-90A7-D7D20A32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63D0-F20B-44A9-9E48-5D87F32A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85A6-B219-4B27-A59D-B5DDFBB0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BF73-9F82-49B0-83CD-518EC16D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3A0-2CB9-4FBC-8794-F369C90F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BD3-C8D0-4E3D-8726-7AE84835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1204-CD7E-486F-9923-21A3CDB7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CC8B-9DA7-4DF9-8817-E34F93DE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F667-4655-4037-9810-B03D8848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2377-E3BD-4B8A-AB0C-620B5E04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3D57-A439-4988-A709-2D3E60C33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VROP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8000" y="-36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hled na Al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225360"/>
            <a:ext cx="4430520" cy="3327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148360" y="1197000"/>
            <a:ext cx="3779640" cy="2536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8360" y="3068640"/>
            <a:ext cx="4430520" cy="3317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716360" y="3429000"/>
            <a:ext cx="376884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hoř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starší část Evropy je na severu - jádro (Skandinávské pohoří) x nejmladší na jihu – třetihorní vrásnění (Al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27640" y="47628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067280" y="3311640"/>
            <a:ext cx="486072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jdi a zakresli (hnědě) v mapě tyto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hoří: Alpy, Karpaty, Pyreneje, Sierra Nevad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a zjistěte jejich vrchol), dál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kandinávské pohoří, Apeniny, Pindos, Dinárské hory a U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jděte tyto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opky: Vesuv, Stromboli, Hekla, Etna, Thira (Théra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rčete jejich nadmořsko výšku a přiřaďte k nim správný tex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- vypíná se na Isla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- je v Evropě nejvyš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- způsobila zkázu starověkých Pompe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- leží na Lipárských ostrov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- též znám pod názvem Santorini (novořec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íž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lednění kdysi sevřelo pevným ledovým krunýřem severní část Evropy a vytvořilo zde řadu nížin, plošin a rov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es hospodářsky a sídelně využívá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4360" y="4292640"/>
            <a:ext cx="30207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jděte a zakreslete (zeleně) na mapě tyto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ížiny: Francouzská, Severoněmecká, Středopolské nížiny, Baltská, Východoevropská rovina, Kaspická nížina (nejnižší bod Evropy), Velká uherská nížina, Rumunská nížina, Pádská nížina, Finská jezerní plošin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9:25:26Z</dcterms:created>
  <dc:creator>kk</dc:creator>
  <dc:description/>
  <dc:language>en-US</dc:language>
  <cp:lastModifiedBy>jj</cp:lastModifiedBy>
  <dcterms:modified xsi:type="dcterms:W3CDTF">2011-09-07T04:57:53Z</dcterms:modified>
  <cp:revision>9</cp:revision>
  <dc:subject/>
  <dc:title>Snímek 1</dc:title>
</cp:coreProperties>
</file>