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1154-1FFC-4143-BEB6-0313404A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4CDB-7245-45C1-8238-DBFD57B5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29CD-6C8E-47F0-A56C-8FEA60F50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B37B-D557-4AAF-9616-9E0875626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3A99-DDE8-4CE1-9A65-40642B2B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658E-9D06-4361-AE25-3BC6FC6B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D6FB-1884-4F00-BE47-54AC5B5E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167B-7602-4B33-ACD8-EDB842FC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EFF5-3C88-409C-8A3F-58B7C1E4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F185-EAAA-4EDE-BB83-2B360791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56EF-3BD3-4AA3-8178-225731A7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6D81-ADDF-42C1-8529-82070C21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9E60-DC13-461D-B5BB-BE33CAC7E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7.jpeg"/><Relationship Id="rId3" Type="http://schemas.openxmlformats.org/officeDocument/2006/relationships/slide" Target="slide6.xm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RO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30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oha, rozloha, členit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68000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Varianty průběhu hranice mezi Evropou a Asií"/>
          <p:cNvPicPr/>
          <p:nvPr/>
        </p:nvPicPr>
        <p:blipFill>
          <a:blip r:embed="rId1"/>
          <a:stretch/>
        </p:blipFill>
        <p:spPr>
          <a:xfrm>
            <a:off x="6012000" y="836640"/>
            <a:ext cx="2857320" cy="5334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Soubor:LocationEurasia.png"/>
          <p:cNvPicPr/>
          <p:nvPr/>
        </p:nvPicPr>
        <p:blipFill>
          <a:blip r:embed="rId2"/>
          <a:stretch/>
        </p:blipFill>
        <p:spPr>
          <a:xfrm>
            <a:off x="250920" y="2349360"/>
            <a:ext cx="5545080" cy="2820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32720" y="263700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as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83640" y="404640"/>
            <a:ext cx="26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 hranice Euras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7854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dstavuje 7% z rozlohy pevniny 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. nejmenší světadíl (10,5 mil.km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jnižší průměrná nadmořská výška a nejčlenitější pobřeží, největší hustota zalidně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19280" y="1413000"/>
            <a:ext cx="626580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1152360" y="0"/>
            <a:ext cx="1029636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Soubor:Seven Sisters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38948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64080" y="0"/>
            <a:ext cx="457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4005000"/>
            <a:ext cx="9144000" cy="26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kterých polokoulích se rozkládá Evrop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 mapy zakreslete hranici mezi Evropou a Asi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kreslete nultý poledník (kterými státy prochází) a severní polární kru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ypiš nejzašší body Evropy (S, J, V, Z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ísmeny označ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poloostrov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Apeninský, Balkánský, Peloponéský, Pyrenejský, Bretaňský, Skandinávský, Jutský, Kola, Kanin, pol. Kry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ísly označ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strovy: Island, Britské ostrovy, Korsika, Sardinie, Sicílie,  Kréta, Baleá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terým státům patří Grónsko a Kanárské ostrovy? Patří k Evrop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97708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20:03:44Z</dcterms:created>
  <dc:creator>kk</dc:creator>
  <dc:description/>
  <dc:language>en-US</dc:language>
  <cp:lastModifiedBy>jj</cp:lastModifiedBy>
  <dcterms:modified xsi:type="dcterms:W3CDTF">2011-09-08T07:37:59Z</dcterms:modified>
  <cp:revision>7</cp:revision>
  <dc:subject/>
  <dc:title>EVROPA</dc:title>
</cp:coreProperties>
</file>