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EBD-DAB6-46B9-AF8E-061A3075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205-7A60-41CD-84AE-D41C565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3C1-AC84-4E7A-9AC6-2C91A04A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965-3C87-4052-B501-029CC13C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131-DCFD-4F5B-BDE3-1E2185E3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5E7-0C63-4438-A966-9759E5D3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14C-DAF2-4DF7-B0CC-40B8399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2BB-19DE-44CA-A88B-5DDA175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EE0-EF51-412A-8836-339B682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2F5-7E4B-43CD-9572-9BF2709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081-E68C-4CCE-AF20-B4F9D1A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E66-9A3C-44DA-9814-0BD4E60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F9B3-DEA8-4C7C-AA4A-2557E492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kyfly.cz/zajimavo/fohn1.htm" TargetMode="External"/><Relationship Id="rId2" Type="http://schemas.openxmlformats.org/officeDocument/2006/relationships/hyperlink" Target="http://www.skyfly.cz/zajimavo/fohn1.htm" TargetMode="External"/><Relationship Id="rId3" Type="http://schemas.openxmlformats.org/officeDocument/2006/relationships/hyperlink" Target="http://www.skyfly.cz/zajimavo/fohn1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5300640"/>
            <a:ext cx="2303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R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916360" cy="436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2682720" cy="4005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11240" y="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NE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7040" y="19875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0920" y="2367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vropská nej – teplot a sráž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LO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villa + 4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, Pustozersk - 5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ÁŽ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rkvice 4626 mm, Astrachan 162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iv zeměpisné šířky na podne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1484280"/>
          <a:ext cx="8497800" cy="3173400"/>
        </p:xfrm>
        <a:graphic>
          <a:graphicData uri="http://schemas.openxmlformats.org/drawingml/2006/table">
            <a:tbl>
              <a:tblPr/>
              <a:tblGrid>
                <a:gridCol w="1885680"/>
                <a:gridCol w="2109960"/>
                <a:gridCol w="2197080"/>
                <a:gridCol w="2305080"/>
              </a:tblGrid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dnebné pá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eměpisná šíř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harakteris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írodní kraj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RKT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0° s.š. a severně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razy po celý rok minimum  sráž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lární mraz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UBARKT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0° s.š - severní polární kruh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hladné zimy, mírná lé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undry a lesotund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ÍRN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everní polární kruh - 45° s.š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 roční obdob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ajga, lesy mírného pásu, ste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UBTROP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ca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5° s.š. a jižně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ca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uché teplé léto, mírná vlhká z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ca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lopouště,středomořská veget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ca2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6360" y="479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hory a vele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5041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liv Atlantského oce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ceánské (Západní E.) – velké množství srážek, malé výkyvy te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inentální (Východní E.) – malé množství srážek, velké výkyvy te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chodné (Střední 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liv Golfského prou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teplení severozápadní a severní Ev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liv západního proudění vzduch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místních větrů (mistrál,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ö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b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580000" y="4365720"/>
            <a:ext cx="3067200" cy="219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748480" y="189000"/>
            <a:ext cx="26906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8:21Z</dcterms:created>
  <dc:creator>kk</dc:creator>
  <dc:description/>
  <dc:language>en-US</dc:language>
  <cp:lastModifiedBy>kk</cp:lastModifiedBy>
  <dcterms:modified xsi:type="dcterms:W3CDTF">2006-09-20T18:55:00Z</dcterms:modified>
  <cp:revision>9</cp:revision>
  <dc:subject/>
  <dc:title>Podnebí, fauna a flóra Evropy</dc:title>
</cp:coreProperties>
</file>