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781-D560-49D5-AB32-22C7352F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E3A-E530-4829-AD22-3A8B5D0C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A46D-C9BF-462C-8CA5-53C92F26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149-A43D-4D0D-B8E8-9A6FFDED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8AF-4405-46EF-BD72-C0BCE133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162-BFA5-48F0-9586-E221B6F9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9E43-2B86-4F9E-95B3-F55DD2A0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D20-CCB4-4FE8-9753-4051E0B5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760-DC05-4F87-8443-4994FA9F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7A6-847A-4B57-8D50-28B107CF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389-4B1D-46C3-9869-F09BEAE1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8AE1-536D-4062-9964-DC034E02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D27A-89BF-4670-811F-B23410971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zemepis.com/gos.php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YVATELSTVO EVR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0 milionů obyva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95640" y="2754360"/>
            <a:ext cx="45370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istorie: Základy dnešního osídlení položilo zemědělství mladší doby kamenné. Populační nárůst během průmyslové revoluce. Na přelomu 19. a20. století vlna emigrace hlavně do Ameriky. V 50. letech 20. století populační explo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hustěji osídlený světadíl (60 ob/km²), 2x více než světový průmě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a = „starý svět“ = opravdu stárne průměrný věk 74 let (rok 2005). Většina států záporný nebo nulový přírůstek obyvat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a se čl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) jádrové oblasti-okolo 150 ob/km²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. Británie-Anglie, Benelux, Severovýchodní Francie, Porúří, Porýní, Sasko, Slezsko, Pádská nížina, Moskevská a Sankt Petěrburská oblast (středisky jsou obrovská měs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) periferní oblasti 35 ob./km²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andinávie, Irsko, Portugalsko, severní Rusko a Ural, I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inu obyvatel tvoří Indoevropská r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byvatelstvo tvoří národy, které hovoří různými jazy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rmánsk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Angličané, Němci, Norové, Islanďané,Nizozemci, Dánové, Švédové Vlámové, Rakušané, Frízov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mánsk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aloni, Francouzi, Portugalci, Rumuni, Španělové, Katalánci, Galilejci, Italové, Moldava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lovansk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Rusové, Bělorusové, Ukrajinci, Češi, Slováci, Poláci, Lužičtí Srbové, Bulhaři, Slovinci, Chorvaté, Srbové, Makedonci, Černohor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eltsk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Irové, Walesané, Bretoňci, Skotov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grofinsk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Maďaři, Finové, Estonci, Karelové (+ malé národy na severu Ruska a Fins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baltsk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Litevci, Lotyš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známý původ Řeků, Albánců, Bask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nšiny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ská,Židovská-po celé Evropě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ísmo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tinka, azbuka, řeč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65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51664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íšení národů vede ke vzájemnému ovlivňování kultur (dříve stěhování národů, dnes migrace) – možnost konfliktů (národnostní, náboženské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áboženstv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Římsko-katolické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lsko, Španělsko, Portugalsko, Itálie, Irsko, Francie, Lucembursko, Belgie, Rakousko aj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stantské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glie, Nizozemí, Švýcarsko, Island, část Německa aj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voslavné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Řecko, Rusko, Bulharsko, Srbsk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ám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sna a Hercegovina, část Albáni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2292480" cy="2520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106800" y="3645000"/>
            <a:ext cx="200340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24360" y="3213000"/>
            <a:ext cx="26672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iš 3 nejlidnatější státy Evr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iš 3 nejhustěji osídlené stá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iš 5 nejlidnatějších mě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edej a zapamatuj si, na kterých řekách leží tato hlavní města: Budapešť, Paříž, Praha, Řím, Vídeň, Bratislava, Londýn, Mad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jte dvoj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gliča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lt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umun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r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rmá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vá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má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ďař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grofin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9800" y="5969160"/>
            <a:ext cx="61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ce informací o obyvatelstvu nejen v Evropě najdet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D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669960"/>
            <a:ext cx="813600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7:58:07Z</dcterms:created>
  <dc:creator>kk</dc:creator>
  <dc:description/>
  <dc:language>en-US</dc:language>
  <cp:lastModifiedBy>kk</cp:lastModifiedBy>
  <dcterms:modified xsi:type="dcterms:W3CDTF">2006-10-26T19:25:42Z</dcterms:modified>
  <cp:revision>10</cp:revision>
  <dc:subject/>
  <dc:title>OBYVATELSTVO EVROPY</dc:title>
</cp:coreProperties>
</file>