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B4F-DFA1-43C3-BBC0-73CB8051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412-162D-4E50-892A-6868AA8E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FBC-EA7F-4EBF-BB2C-E3931CAD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9E4-5AC5-4140-9CAF-74B226FF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BA7-9CDE-4B09-8826-FC95862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98E-9331-448B-86BB-338B3711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9FE-FBC0-4031-9CD6-B2192490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0EF-6818-4E96-B6C2-F9B991C7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72C-0C1C-41E7-B351-FC5301D8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F58-57CE-4CAC-937C-3787E5BB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059-107C-4058-B406-6022A9D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486-6E73-4CE8-B172-AE1CB31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2C2-41B3-4757-B04E-9DFF666F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rmany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s.wikipedia.org/wiki/B&#225;densko-W&#252;rttembersko" TargetMode="External"/><Relationship Id="rId3" Type="http://schemas.openxmlformats.org/officeDocument/2006/relationships/hyperlink" Target="http://cs.wikipedia.org/wiki/Bavorsko" TargetMode="External"/><Relationship Id="rId4" Type="http://schemas.openxmlformats.org/officeDocument/2006/relationships/hyperlink" Target="http://cs.wikipedia.org/wiki/Berl&#237;n" TargetMode="External"/><Relationship Id="rId5" Type="http://schemas.openxmlformats.org/officeDocument/2006/relationships/hyperlink" Target="http://cs.wikipedia.org/wiki/Braniborsko" TargetMode="External"/><Relationship Id="rId6" Type="http://schemas.openxmlformats.org/officeDocument/2006/relationships/hyperlink" Target="http://en.wikipedia.org/wiki/Bremen_(state)" TargetMode="External"/><Relationship Id="rId7" Type="http://schemas.openxmlformats.org/officeDocument/2006/relationships/hyperlink" Target="http://en.wikipedia.org/wiki/Lower_Saxony" TargetMode="External"/><Relationship Id="rId8" Type="http://schemas.openxmlformats.org/officeDocument/2006/relationships/hyperlink" Target="http://cs.wikipedia.org/wiki/Durynsko" TargetMode="External"/><Relationship Id="rId9" Type="http://schemas.openxmlformats.org/officeDocument/2006/relationships/hyperlink" Target="http://cs.wikipedia.org/wiki/Hamburk" TargetMode="External"/><Relationship Id="rId10" Type="http://schemas.openxmlformats.org/officeDocument/2006/relationships/hyperlink" Target="http://cs.wikipedia.org/wiki/Hesensko" TargetMode="External"/><Relationship Id="rId11" Type="http://schemas.openxmlformats.org/officeDocument/2006/relationships/hyperlink" Target="http://cs.wikipedia.org/wiki/Meklenbursko-P&#345;edn&#237;_Pomo&#345;ansko" TargetMode="External"/><Relationship Id="rId12" Type="http://schemas.openxmlformats.org/officeDocument/2006/relationships/hyperlink" Target="http://en.wikipedia.org/wiki/Rhineland-Palatinate" TargetMode="External"/><Relationship Id="rId13" Type="http://schemas.openxmlformats.org/officeDocument/2006/relationships/hyperlink" Target="http://cs.wikipedia.org/wiki/S&#225;rsko" TargetMode="External"/><Relationship Id="rId14" Type="http://schemas.openxmlformats.org/officeDocument/2006/relationships/slide" Target="slide2.xml"/><Relationship Id="rId15" Type="http://schemas.openxmlformats.org/officeDocument/2006/relationships/hyperlink" Target="http://cs.wikipedia.org/wiki/Sasko-Anhaltsko" TargetMode="Externa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s.wikipedia.org/wiki/B&#225;densko-W&#252;rttembersko" TargetMode="External"/><Relationship Id="rId3" Type="http://schemas.openxmlformats.org/officeDocument/2006/relationships/hyperlink" Target="http://cs.wikipedia.org/wiki/Bavorsko" TargetMode="External"/><Relationship Id="rId4" Type="http://schemas.openxmlformats.org/officeDocument/2006/relationships/hyperlink" Target="http://cs.wikipedia.org/wiki/Berl&#237;n" TargetMode="External"/><Relationship Id="rId5" Type="http://schemas.openxmlformats.org/officeDocument/2006/relationships/hyperlink" Target="http://cs.wikipedia.org/wiki/Braniborsko" TargetMode="External"/><Relationship Id="rId6" Type="http://schemas.openxmlformats.org/officeDocument/2006/relationships/hyperlink" Target="http://en.wikipedia.org/wiki/Bremen_(state)" TargetMode="External"/><Relationship Id="rId7" Type="http://schemas.openxmlformats.org/officeDocument/2006/relationships/hyperlink" Target="http://en.wikipedia.org/wiki/Lower_Saxony" TargetMode="External"/><Relationship Id="rId8" Type="http://schemas.openxmlformats.org/officeDocument/2006/relationships/hyperlink" Target="http://cs.wikipedia.org/wiki/Durynsko" TargetMode="External"/><Relationship Id="rId9" Type="http://schemas.openxmlformats.org/officeDocument/2006/relationships/hyperlink" Target="http://cs.wikipedia.org/wiki/Hamburk" TargetMode="External"/><Relationship Id="rId10" Type="http://schemas.openxmlformats.org/officeDocument/2006/relationships/hyperlink" Target="http://cs.wikipedia.org/wiki/Hesensko" TargetMode="External"/><Relationship Id="rId11" Type="http://schemas.openxmlformats.org/officeDocument/2006/relationships/hyperlink" Target="http://cs.wikipedia.org/wiki/Meklenbursko-P&#345;edn&#237;_Pomo&#345;ansko" TargetMode="External"/><Relationship Id="rId12" Type="http://schemas.openxmlformats.org/officeDocument/2006/relationships/hyperlink" Target="http://en.wikipedia.org/wiki/Rhineland-Palatinate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polková republika Německ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38840" cy="6597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0"/>
            <a:ext cx="864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jetím kurzorem a následným kliknutím na spolkové státy Německa zjistíte více informací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451320" y="4645080"/>
            <a:ext cx="1380960" cy="1654200"/>
          </a:xfrm>
          <a:custGeom>
            <a:avLst/>
            <a:gdLst/>
            <a:ahLst/>
            <a:rect l="l" t="t" r="r" b="b"/>
            <a:pathLst>
              <a:path w="870" h="1042">
                <a:moveTo>
                  <a:pt x="2" y="1010"/>
                </a:moveTo>
                <a:cubicBezTo>
                  <a:pt x="5" y="914"/>
                  <a:pt x="3" y="818"/>
                  <a:pt x="10" y="722"/>
                </a:cubicBezTo>
                <a:cubicBezTo>
                  <a:pt x="11" y="712"/>
                  <a:pt x="22" y="707"/>
                  <a:pt x="26" y="698"/>
                </a:cubicBezTo>
                <a:cubicBezTo>
                  <a:pt x="48" y="653"/>
                  <a:pt x="70" y="619"/>
                  <a:pt x="82" y="570"/>
                </a:cubicBezTo>
                <a:cubicBezTo>
                  <a:pt x="86" y="516"/>
                  <a:pt x="63" y="438"/>
                  <a:pt x="122" y="418"/>
                </a:cubicBezTo>
                <a:cubicBezTo>
                  <a:pt x="130" y="410"/>
                  <a:pt x="137" y="400"/>
                  <a:pt x="146" y="394"/>
                </a:cubicBezTo>
                <a:cubicBezTo>
                  <a:pt x="153" y="389"/>
                  <a:pt x="163" y="391"/>
                  <a:pt x="170" y="386"/>
                </a:cubicBezTo>
                <a:cubicBezTo>
                  <a:pt x="178" y="380"/>
                  <a:pt x="179" y="368"/>
                  <a:pt x="186" y="362"/>
                </a:cubicBezTo>
                <a:cubicBezTo>
                  <a:pt x="200" y="349"/>
                  <a:pt x="234" y="330"/>
                  <a:pt x="234" y="330"/>
                </a:cubicBezTo>
                <a:cubicBezTo>
                  <a:pt x="276" y="266"/>
                  <a:pt x="278" y="229"/>
                  <a:pt x="250" y="146"/>
                </a:cubicBezTo>
                <a:cubicBezTo>
                  <a:pt x="253" y="125"/>
                  <a:pt x="243" y="97"/>
                  <a:pt x="258" y="82"/>
                </a:cubicBezTo>
                <a:cubicBezTo>
                  <a:pt x="269" y="71"/>
                  <a:pt x="290" y="90"/>
                  <a:pt x="306" y="90"/>
                </a:cubicBezTo>
                <a:cubicBezTo>
                  <a:pt x="335" y="90"/>
                  <a:pt x="365" y="85"/>
                  <a:pt x="394" y="82"/>
                </a:cubicBezTo>
                <a:cubicBezTo>
                  <a:pt x="467" y="67"/>
                  <a:pt x="533" y="55"/>
                  <a:pt x="586" y="2"/>
                </a:cubicBezTo>
                <a:cubicBezTo>
                  <a:pt x="599" y="5"/>
                  <a:pt x="616" y="0"/>
                  <a:pt x="626" y="10"/>
                </a:cubicBezTo>
                <a:cubicBezTo>
                  <a:pt x="643" y="27"/>
                  <a:pt x="629" y="81"/>
                  <a:pt x="658" y="106"/>
                </a:cubicBezTo>
                <a:cubicBezTo>
                  <a:pt x="744" y="181"/>
                  <a:pt x="674" y="115"/>
                  <a:pt x="730" y="146"/>
                </a:cubicBezTo>
                <a:cubicBezTo>
                  <a:pt x="747" y="155"/>
                  <a:pt x="762" y="167"/>
                  <a:pt x="778" y="178"/>
                </a:cubicBezTo>
                <a:cubicBezTo>
                  <a:pt x="786" y="183"/>
                  <a:pt x="802" y="194"/>
                  <a:pt x="802" y="194"/>
                </a:cubicBezTo>
                <a:cubicBezTo>
                  <a:pt x="815" y="234"/>
                  <a:pt x="835" y="253"/>
                  <a:pt x="850" y="298"/>
                </a:cubicBezTo>
                <a:cubicBezTo>
                  <a:pt x="855" y="314"/>
                  <a:pt x="866" y="346"/>
                  <a:pt x="866" y="346"/>
                </a:cubicBezTo>
                <a:cubicBezTo>
                  <a:pt x="863" y="383"/>
                  <a:pt x="870" y="423"/>
                  <a:pt x="858" y="458"/>
                </a:cubicBezTo>
                <a:cubicBezTo>
                  <a:pt x="854" y="470"/>
                  <a:pt x="761" y="560"/>
                  <a:pt x="746" y="570"/>
                </a:cubicBezTo>
                <a:cubicBezTo>
                  <a:pt x="730" y="617"/>
                  <a:pt x="751" y="660"/>
                  <a:pt x="762" y="706"/>
                </a:cubicBezTo>
                <a:cubicBezTo>
                  <a:pt x="759" y="784"/>
                  <a:pt x="794" y="890"/>
                  <a:pt x="722" y="938"/>
                </a:cubicBezTo>
                <a:cubicBezTo>
                  <a:pt x="714" y="961"/>
                  <a:pt x="715" y="972"/>
                  <a:pt x="690" y="986"/>
                </a:cubicBezTo>
                <a:cubicBezTo>
                  <a:pt x="675" y="994"/>
                  <a:pt x="642" y="1002"/>
                  <a:pt x="642" y="1002"/>
                </a:cubicBezTo>
                <a:cubicBezTo>
                  <a:pt x="609" y="991"/>
                  <a:pt x="580" y="979"/>
                  <a:pt x="546" y="970"/>
                </a:cubicBezTo>
                <a:cubicBezTo>
                  <a:pt x="530" y="966"/>
                  <a:pt x="498" y="954"/>
                  <a:pt x="498" y="954"/>
                </a:cubicBezTo>
                <a:cubicBezTo>
                  <a:pt x="445" y="957"/>
                  <a:pt x="391" y="955"/>
                  <a:pt x="338" y="962"/>
                </a:cubicBezTo>
                <a:cubicBezTo>
                  <a:pt x="311" y="966"/>
                  <a:pt x="314" y="988"/>
                  <a:pt x="298" y="1002"/>
                </a:cubicBezTo>
                <a:cubicBezTo>
                  <a:pt x="257" y="1038"/>
                  <a:pt x="256" y="1033"/>
                  <a:pt x="210" y="1042"/>
                </a:cubicBezTo>
                <a:cubicBezTo>
                  <a:pt x="149" y="1039"/>
                  <a:pt x="87" y="1041"/>
                  <a:pt x="26" y="1034"/>
                </a:cubicBezTo>
                <a:cubicBezTo>
                  <a:pt x="0" y="1031"/>
                  <a:pt x="2" y="1024"/>
                  <a:pt x="2" y="101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4218120" y="3936960"/>
            <a:ext cx="2412720" cy="2463840"/>
          </a:xfrm>
          <a:custGeom>
            <a:avLst/>
            <a:gdLst/>
            <a:ahLst/>
            <a:rect l="l" t="t" r="r" b="b"/>
            <a:pathLst>
              <a:path w="1520" h="1552">
                <a:moveTo>
                  <a:pt x="535" y="1472"/>
                </a:moveTo>
                <a:cubicBezTo>
                  <a:pt x="548" y="1480"/>
                  <a:pt x="561" y="1490"/>
                  <a:pt x="575" y="1496"/>
                </a:cubicBezTo>
                <a:cubicBezTo>
                  <a:pt x="590" y="1503"/>
                  <a:pt x="608" y="1504"/>
                  <a:pt x="623" y="1512"/>
                </a:cubicBezTo>
                <a:cubicBezTo>
                  <a:pt x="635" y="1518"/>
                  <a:pt x="643" y="1530"/>
                  <a:pt x="655" y="1536"/>
                </a:cubicBezTo>
                <a:cubicBezTo>
                  <a:pt x="670" y="1544"/>
                  <a:pt x="703" y="1552"/>
                  <a:pt x="703" y="1552"/>
                </a:cubicBezTo>
                <a:cubicBezTo>
                  <a:pt x="847" y="1549"/>
                  <a:pt x="991" y="1551"/>
                  <a:pt x="1135" y="1544"/>
                </a:cubicBezTo>
                <a:cubicBezTo>
                  <a:pt x="1188" y="1541"/>
                  <a:pt x="1256" y="1504"/>
                  <a:pt x="1303" y="1480"/>
                </a:cubicBezTo>
                <a:cubicBezTo>
                  <a:pt x="1330" y="1466"/>
                  <a:pt x="1391" y="1456"/>
                  <a:pt x="1391" y="1456"/>
                </a:cubicBezTo>
                <a:cubicBezTo>
                  <a:pt x="1447" y="1419"/>
                  <a:pt x="1428" y="1440"/>
                  <a:pt x="1455" y="1400"/>
                </a:cubicBezTo>
                <a:cubicBezTo>
                  <a:pt x="1450" y="1352"/>
                  <a:pt x="1452" y="1315"/>
                  <a:pt x="1431" y="1272"/>
                </a:cubicBezTo>
                <a:cubicBezTo>
                  <a:pt x="1426" y="1261"/>
                  <a:pt x="1419" y="1251"/>
                  <a:pt x="1415" y="1240"/>
                </a:cubicBezTo>
                <a:cubicBezTo>
                  <a:pt x="1409" y="1224"/>
                  <a:pt x="1399" y="1192"/>
                  <a:pt x="1399" y="1192"/>
                </a:cubicBezTo>
                <a:cubicBezTo>
                  <a:pt x="1396" y="1141"/>
                  <a:pt x="1396" y="1091"/>
                  <a:pt x="1391" y="1040"/>
                </a:cubicBezTo>
                <a:cubicBezTo>
                  <a:pt x="1388" y="1007"/>
                  <a:pt x="1373" y="1025"/>
                  <a:pt x="1391" y="992"/>
                </a:cubicBezTo>
                <a:cubicBezTo>
                  <a:pt x="1444" y="896"/>
                  <a:pt x="1396" y="987"/>
                  <a:pt x="1471" y="912"/>
                </a:cubicBezTo>
                <a:cubicBezTo>
                  <a:pt x="1487" y="896"/>
                  <a:pt x="1519" y="864"/>
                  <a:pt x="1519" y="864"/>
                </a:cubicBezTo>
                <a:cubicBezTo>
                  <a:pt x="1516" y="816"/>
                  <a:pt x="1520" y="767"/>
                  <a:pt x="1511" y="720"/>
                </a:cubicBezTo>
                <a:cubicBezTo>
                  <a:pt x="1509" y="711"/>
                  <a:pt x="1494" y="711"/>
                  <a:pt x="1487" y="704"/>
                </a:cubicBezTo>
                <a:cubicBezTo>
                  <a:pt x="1480" y="697"/>
                  <a:pt x="1478" y="687"/>
                  <a:pt x="1471" y="680"/>
                </a:cubicBezTo>
                <a:cubicBezTo>
                  <a:pt x="1446" y="655"/>
                  <a:pt x="1415" y="643"/>
                  <a:pt x="1391" y="616"/>
                </a:cubicBezTo>
                <a:cubicBezTo>
                  <a:pt x="1333" y="549"/>
                  <a:pt x="1278" y="479"/>
                  <a:pt x="1215" y="416"/>
                </a:cubicBezTo>
                <a:cubicBezTo>
                  <a:pt x="1178" y="379"/>
                  <a:pt x="1125" y="357"/>
                  <a:pt x="1095" y="312"/>
                </a:cubicBezTo>
                <a:cubicBezTo>
                  <a:pt x="1079" y="288"/>
                  <a:pt x="1063" y="264"/>
                  <a:pt x="1047" y="240"/>
                </a:cubicBezTo>
                <a:cubicBezTo>
                  <a:pt x="1024" y="206"/>
                  <a:pt x="1032" y="149"/>
                  <a:pt x="999" y="120"/>
                </a:cubicBezTo>
                <a:cubicBezTo>
                  <a:pt x="923" y="54"/>
                  <a:pt x="834" y="12"/>
                  <a:pt x="735" y="0"/>
                </a:cubicBezTo>
                <a:cubicBezTo>
                  <a:pt x="627" y="27"/>
                  <a:pt x="730" y="21"/>
                  <a:pt x="535" y="32"/>
                </a:cubicBezTo>
                <a:cubicBezTo>
                  <a:pt x="492" y="61"/>
                  <a:pt x="467" y="107"/>
                  <a:pt x="423" y="136"/>
                </a:cubicBezTo>
                <a:cubicBezTo>
                  <a:pt x="400" y="132"/>
                  <a:pt x="368" y="134"/>
                  <a:pt x="351" y="112"/>
                </a:cubicBezTo>
                <a:cubicBezTo>
                  <a:pt x="346" y="105"/>
                  <a:pt x="349" y="94"/>
                  <a:pt x="343" y="88"/>
                </a:cubicBezTo>
                <a:cubicBezTo>
                  <a:pt x="326" y="71"/>
                  <a:pt x="271" y="32"/>
                  <a:pt x="247" y="24"/>
                </a:cubicBezTo>
                <a:cubicBezTo>
                  <a:pt x="183" y="40"/>
                  <a:pt x="162" y="98"/>
                  <a:pt x="135" y="152"/>
                </a:cubicBezTo>
                <a:cubicBezTo>
                  <a:pt x="116" y="190"/>
                  <a:pt x="66" y="241"/>
                  <a:pt x="31" y="264"/>
                </a:cubicBezTo>
                <a:cubicBezTo>
                  <a:pt x="2" y="308"/>
                  <a:pt x="0" y="353"/>
                  <a:pt x="47" y="384"/>
                </a:cubicBezTo>
                <a:cubicBezTo>
                  <a:pt x="121" y="369"/>
                  <a:pt x="120" y="369"/>
                  <a:pt x="215" y="376"/>
                </a:cubicBezTo>
                <a:cubicBezTo>
                  <a:pt x="246" y="386"/>
                  <a:pt x="281" y="425"/>
                  <a:pt x="295" y="456"/>
                </a:cubicBezTo>
                <a:cubicBezTo>
                  <a:pt x="302" y="471"/>
                  <a:pt x="311" y="504"/>
                  <a:pt x="311" y="504"/>
                </a:cubicBezTo>
                <a:cubicBezTo>
                  <a:pt x="314" y="533"/>
                  <a:pt x="315" y="563"/>
                  <a:pt x="319" y="592"/>
                </a:cubicBezTo>
                <a:cubicBezTo>
                  <a:pt x="320" y="601"/>
                  <a:pt x="370" y="699"/>
                  <a:pt x="383" y="712"/>
                </a:cubicBezTo>
                <a:cubicBezTo>
                  <a:pt x="399" y="728"/>
                  <a:pt x="411" y="729"/>
                  <a:pt x="431" y="736"/>
                </a:cubicBezTo>
                <a:cubicBezTo>
                  <a:pt x="459" y="819"/>
                  <a:pt x="457" y="804"/>
                  <a:pt x="431" y="968"/>
                </a:cubicBezTo>
                <a:cubicBezTo>
                  <a:pt x="427" y="995"/>
                  <a:pt x="400" y="1014"/>
                  <a:pt x="391" y="1040"/>
                </a:cubicBezTo>
                <a:cubicBezTo>
                  <a:pt x="382" y="1265"/>
                  <a:pt x="405" y="1182"/>
                  <a:pt x="367" y="1296"/>
                </a:cubicBezTo>
                <a:cubicBezTo>
                  <a:pt x="359" y="1320"/>
                  <a:pt x="351" y="1344"/>
                  <a:pt x="343" y="1368"/>
                </a:cubicBezTo>
                <a:cubicBezTo>
                  <a:pt x="338" y="1384"/>
                  <a:pt x="327" y="1416"/>
                  <a:pt x="327" y="1416"/>
                </a:cubicBezTo>
                <a:cubicBezTo>
                  <a:pt x="334" y="1462"/>
                  <a:pt x="334" y="1483"/>
                  <a:pt x="359" y="1520"/>
                </a:cubicBezTo>
                <a:cubicBezTo>
                  <a:pt x="415" y="1517"/>
                  <a:pt x="472" y="1522"/>
                  <a:pt x="527" y="1512"/>
                </a:cubicBezTo>
                <a:cubicBezTo>
                  <a:pt x="558" y="1507"/>
                  <a:pt x="540" y="1482"/>
                  <a:pt x="535" y="14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13360" y="2201760"/>
            <a:ext cx="347760" cy="292320"/>
          </a:xfrm>
          <a:custGeom>
            <a:avLst/>
            <a:gdLst/>
            <a:ahLst/>
            <a:rect l="l" t="t" r="r" b="b"/>
            <a:pathLst>
              <a:path w="219" h="184">
                <a:moveTo>
                  <a:pt x="107" y="21"/>
                </a:moveTo>
                <a:cubicBezTo>
                  <a:pt x="94" y="18"/>
                  <a:pt x="80" y="9"/>
                  <a:pt x="67" y="13"/>
                </a:cubicBezTo>
                <a:cubicBezTo>
                  <a:pt x="58" y="16"/>
                  <a:pt x="55" y="28"/>
                  <a:pt x="51" y="37"/>
                </a:cubicBezTo>
                <a:cubicBezTo>
                  <a:pt x="14" y="120"/>
                  <a:pt x="58" y="54"/>
                  <a:pt x="11" y="117"/>
                </a:cubicBezTo>
                <a:cubicBezTo>
                  <a:pt x="8" y="125"/>
                  <a:pt x="0" y="133"/>
                  <a:pt x="3" y="141"/>
                </a:cubicBezTo>
                <a:cubicBezTo>
                  <a:pt x="14" y="169"/>
                  <a:pt x="75" y="165"/>
                  <a:pt x="99" y="173"/>
                </a:cubicBezTo>
                <a:cubicBezTo>
                  <a:pt x="134" y="170"/>
                  <a:pt x="174" y="184"/>
                  <a:pt x="203" y="165"/>
                </a:cubicBezTo>
                <a:cubicBezTo>
                  <a:pt x="219" y="155"/>
                  <a:pt x="202" y="127"/>
                  <a:pt x="195" y="109"/>
                </a:cubicBezTo>
                <a:cubicBezTo>
                  <a:pt x="190" y="95"/>
                  <a:pt x="157" y="49"/>
                  <a:pt x="139" y="37"/>
                </a:cubicBezTo>
                <a:cubicBezTo>
                  <a:pt x="84" y="0"/>
                  <a:pt x="133" y="47"/>
                  <a:pt x="107" y="2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5168880" y="1728720"/>
            <a:ext cx="1528920" cy="1179720"/>
          </a:xfrm>
          <a:custGeom>
            <a:avLst/>
            <a:gdLst/>
            <a:ahLst/>
            <a:rect l="l" t="t" r="r" b="b"/>
            <a:pathLst>
              <a:path w="963" h="743">
                <a:moveTo>
                  <a:pt x="280" y="511"/>
                </a:moveTo>
                <a:cubicBezTo>
                  <a:pt x="271" y="485"/>
                  <a:pt x="240" y="439"/>
                  <a:pt x="240" y="439"/>
                </a:cubicBezTo>
                <a:cubicBezTo>
                  <a:pt x="237" y="412"/>
                  <a:pt x="240" y="384"/>
                  <a:pt x="232" y="359"/>
                </a:cubicBezTo>
                <a:cubicBezTo>
                  <a:pt x="224" y="335"/>
                  <a:pt x="149" y="329"/>
                  <a:pt x="136" y="327"/>
                </a:cubicBezTo>
                <a:cubicBezTo>
                  <a:pt x="125" y="316"/>
                  <a:pt x="116" y="304"/>
                  <a:pt x="104" y="295"/>
                </a:cubicBezTo>
                <a:cubicBezTo>
                  <a:pt x="97" y="290"/>
                  <a:pt x="87" y="292"/>
                  <a:pt x="80" y="287"/>
                </a:cubicBezTo>
                <a:cubicBezTo>
                  <a:pt x="50" y="267"/>
                  <a:pt x="20" y="221"/>
                  <a:pt x="0" y="191"/>
                </a:cubicBezTo>
                <a:cubicBezTo>
                  <a:pt x="19" y="95"/>
                  <a:pt x="82" y="103"/>
                  <a:pt x="168" y="95"/>
                </a:cubicBezTo>
                <a:cubicBezTo>
                  <a:pt x="203" y="98"/>
                  <a:pt x="238" y="97"/>
                  <a:pt x="272" y="103"/>
                </a:cubicBezTo>
                <a:cubicBezTo>
                  <a:pt x="299" y="108"/>
                  <a:pt x="309" y="149"/>
                  <a:pt x="336" y="167"/>
                </a:cubicBezTo>
                <a:cubicBezTo>
                  <a:pt x="346" y="198"/>
                  <a:pt x="352" y="212"/>
                  <a:pt x="384" y="223"/>
                </a:cubicBezTo>
                <a:cubicBezTo>
                  <a:pt x="431" y="207"/>
                  <a:pt x="462" y="187"/>
                  <a:pt x="504" y="159"/>
                </a:cubicBezTo>
                <a:cubicBezTo>
                  <a:pt x="520" y="148"/>
                  <a:pt x="534" y="133"/>
                  <a:pt x="552" y="127"/>
                </a:cubicBezTo>
                <a:cubicBezTo>
                  <a:pt x="594" y="113"/>
                  <a:pt x="569" y="124"/>
                  <a:pt x="624" y="87"/>
                </a:cubicBezTo>
                <a:cubicBezTo>
                  <a:pt x="635" y="80"/>
                  <a:pt x="647" y="72"/>
                  <a:pt x="656" y="63"/>
                </a:cubicBezTo>
                <a:cubicBezTo>
                  <a:pt x="663" y="56"/>
                  <a:pt x="664" y="45"/>
                  <a:pt x="672" y="39"/>
                </a:cubicBezTo>
                <a:cubicBezTo>
                  <a:pt x="684" y="30"/>
                  <a:pt x="728" y="12"/>
                  <a:pt x="744" y="7"/>
                </a:cubicBezTo>
                <a:cubicBezTo>
                  <a:pt x="833" y="29"/>
                  <a:pt x="761" y="0"/>
                  <a:pt x="784" y="183"/>
                </a:cubicBezTo>
                <a:cubicBezTo>
                  <a:pt x="789" y="222"/>
                  <a:pt x="869" y="237"/>
                  <a:pt x="896" y="255"/>
                </a:cubicBezTo>
                <a:cubicBezTo>
                  <a:pt x="922" y="332"/>
                  <a:pt x="880" y="212"/>
                  <a:pt x="920" y="311"/>
                </a:cubicBezTo>
                <a:cubicBezTo>
                  <a:pt x="926" y="327"/>
                  <a:pt x="936" y="359"/>
                  <a:pt x="936" y="359"/>
                </a:cubicBezTo>
                <a:cubicBezTo>
                  <a:pt x="941" y="445"/>
                  <a:pt x="952" y="522"/>
                  <a:pt x="960" y="607"/>
                </a:cubicBezTo>
                <a:cubicBezTo>
                  <a:pt x="957" y="650"/>
                  <a:pt x="963" y="694"/>
                  <a:pt x="952" y="735"/>
                </a:cubicBezTo>
                <a:cubicBezTo>
                  <a:pt x="950" y="743"/>
                  <a:pt x="935" y="732"/>
                  <a:pt x="928" y="727"/>
                </a:cubicBezTo>
                <a:cubicBezTo>
                  <a:pt x="920" y="721"/>
                  <a:pt x="918" y="710"/>
                  <a:pt x="912" y="703"/>
                </a:cubicBezTo>
                <a:cubicBezTo>
                  <a:pt x="889" y="675"/>
                  <a:pt x="894" y="681"/>
                  <a:pt x="864" y="671"/>
                </a:cubicBezTo>
                <a:cubicBezTo>
                  <a:pt x="751" y="685"/>
                  <a:pt x="641" y="688"/>
                  <a:pt x="528" y="679"/>
                </a:cubicBezTo>
                <a:cubicBezTo>
                  <a:pt x="487" y="665"/>
                  <a:pt x="475" y="630"/>
                  <a:pt x="440" y="607"/>
                </a:cubicBezTo>
                <a:cubicBezTo>
                  <a:pt x="399" y="615"/>
                  <a:pt x="359" y="626"/>
                  <a:pt x="320" y="639"/>
                </a:cubicBezTo>
                <a:cubicBezTo>
                  <a:pt x="317" y="631"/>
                  <a:pt x="309" y="623"/>
                  <a:pt x="312" y="615"/>
                </a:cubicBezTo>
                <a:cubicBezTo>
                  <a:pt x="322" y="584"/>
                  <a:pt x="374" y="574"/>
                  <a:pt x="400" y="567"/>
                </a:cubicBezTo>
                <a:cubicBezTo>
                  <a:pt x="515" y="491"/>
                  <a:pt x="429" y="536"/>
                  <a:pt x="688" y="527"/>
                </a:cubicBezTo>
                <a:cubicBezTo>
                  <a:pt x="662" y="489"/>
                  <a:pt x="628" y="467"/>
                  <a:pt x="688" y="447"/>
                </a:cubicBezTo>
                <a:cubicBezTo>
                  <a:pt x="697" y="421"/>
                  <a:pt x="692" y="375"/>
                  <a:pt x="680" y="351"/>
                </a:cubicBezTo>
                <a:cubicBezTo>
                  <a:pt x="676" y="342"/>
                  <a:pt x="664" y="340"/>
                  <a:pt x="656" y="335"/>
                </a:cubicBezTo>
                <a:cubicBezTo>
                  <a:pt x="608" y="263"/>
                  <a:pt x="613" y="280"/>
                  <a:pt x="512" y="271"/>
                </a:cubicBezTo>
                <a:cubicBezTo>
                  <a:pt x="422" y="294"/>
                  <a:pt x="513" y="342"/>
                  <a:pt x="448" y="407"/>
                </a:cubicBezTo>
                <a:cubicBezTo>
                  <a:pt x="455" y="440"/>
                  <a:pt x="465" y="469"/>
                  <a:pt x="448" y="503"/>
                </a:cubicBezTo>
                <a:cubicBezTo>
                  <a:pt x="444" y="511"/>
                  <a:pt x="432" y="507"/>
                  <a:pt x="424" y="511"/>
                </a:cubicBezTo>
                <a:cubicBezTo>
                  <a:pt x="397" y="525"/>
                  <a:pt x="373" y="533"/>
                  <a:pt x="344" y="543"/>
                </a:cubicBezTo>
                <a:cubicBezTo>
                  <a:pt x="292" y="508"/>
                  <a:pt x="315" y="511"/>
                  <a:pt x="280" y="5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457440" y="1994040"/>
            <a:ext cx="594000" cy="309600"/>
          </a:xfrm>
          <a:custGeom>
            <a:avLst/>
            <a:gdLst/>
            <a:ahLst/>
            <a:rect l="l" t="t" r="r" b="b"/>
            <a:pathLst>
              <a:path w="374" h="195">
                <a:moveTo>
                  <a:pt x="310" y="192"/>
                </a:moveTo>
                <a:cubicBezTo>
                  <a:pt x="302" y="189"/>
                  <a:pt x="294" y="184"/>
                  <a:pt x="286" y="184"/>
                </a:cubicBezTo>
                <a:cubicBezTo>
                  <a:pt x="203" y="179"/>
                  <a:pt x="119" y="195"/>
                  <a:pt x="38" y="176"/>
                </a:cubicBezTo>
                <a:cubicBezTo>
                  <a:pt x="0" y="167"/>
                  <a:pt x="68" y="104"/>
                  <a:pt x="70" y="104"/>
                </a:cubicBezTo>
                <a:cubicBezTo>
                  <a:pt x="112" y="95"/>
                  <a:pt x="155" y="99"/>
                  <a:pt x="198" y="96"/>
                </a:cubicBezTo>
                <a:cubicBezTo>
                  <a:pt x="160" y="39"/>
                  <a:pt x="180" y="62"/>
                  <a:pt x="142" y="24"/>
                </a:cubicBezTo>
                <a:cubicBezTo>
                  <a:pt x="178" y="0"/>
                  <a:pt x="163" y="2"/>
                  <a:pt x="222" y="16"/>
                </a:cubicBezTo>
                <a:cubicBezTo>
                  <a:pt x="238" y="20"/>
                  <a:pt x="270" y="32"/>
                  <a:pt x="270" y="32"/>
                </a:cubicBezTo>
                <a:cubicBezTo>
                  <a:pt x="285" y="54"/>
                  <a:pt x="291" y="85"/>
                  <a:pt x="310" y="104"/>
                </a:cubicBezTo>
                <a:cubicBezTo>
                  <a:pt x="325" y="119"/>
                  <a:pt x="343" y="129"/>
                  <a:pt x="358" y="144"/>
                </a:cubicBezTo>
                <a:cubicBezTo>
                  <a:pt x="374" y="192"/>
                  <a:pt x="351" y="192"/>
                  <a:pt x="310" y="19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921040" y="1562040"/>
            <a:ext cx="2108160" cy="1790640"/>
          </a:xfrm>
          <a:custGeom>
            <a:avLst/>
            <a:gdLst/>
            <a:ahLst/>
            <a:rect l="l" t="t" r="r" b="b"/>
            <a:pathLst>
              <a:path w="1328" h="1128">
                <a:moveTo>
                  <a:pt x="128" y="424"/>
                </a:moveTo>
                <a:cubicBezTo>
                  <a:pt x="120" y="385"/>
                  <a:pt x="110" y="361"/>
                  <a:pt x="88" y="328"/>
                </a:cubicBezTo>
                <a:cubicBezTo>
                  <a:pt x="74" y="273"/>
                  <a:pt x="34" y="229"/>
                  <a:pt x="0" y="184"/>
                </a:cubicBezTo>
                <a:cubicBezTo>
                  <a:pt x="11" y="151"/>
                  <a:pt x="31" y="141"/>
                  <a:pt x="64" y="128"/>
                </a:cubicBezTo>
                <a:cubicBezTo>
                  <a:pt x="119" y="106"/>
                  <a:pt x="174" y="82"/>
                  <a:pt x="232" y="72"/>
                </a:cubicBezTo>
                <a:cubicBezTo>
                  <a:pt x="256" y="75"/>
                  <a:pt x="283" y="69"/>
                  <a:pt x="304" y="80"/>
                </a:cubicBezTo>
                <a:cubicBezTo>
                  <a:pt x="350" y="105"/>
                  <a:pt x="322" y="142"/>
                  <a:pt x="376" y="160"/>
                </a:cubicBezTo>
                <a:cubicBezTo>
                  <a:pt x="392" y="157"/>
                  <a:pt x="412" y="163"/>
                  <a:pt x="424" y="152"/>
                </a:cubicBezTo>
                <a:cubicBezTo>
                  <a:pt x="434" y="143"/>
                  <a:pt x="426" y="124"/>
                  <a:pt x="432" y="112"/>
                </a:cubicBezTo>
                <a:cubicBezTo>
                  <a:pt x="437" y="102"/>
                  <a:pt x="449" y="97"/>
                  <a:pt x="456" y="88"/>
                </a:cubicBezTo>
                <a:cubicBezTo>
                  <a:pt x="492" y="42"/>
                  <a:pt x="509" y="15"/>
                  <a:pt x="568" y="0"/>
                </a:cubicBezTo>
                <a:cubicBezTo>
                  <a:pt x="602" y="11"/>
                  <a:pt x="672" y="24"/>
                  <a:pt x="672" y="24"/>
                </a:cubicBezTo>
                <a:cubicBezTo>
                  <a:pt x="692" y="104"/>
                  <a:pt x="666" y="82"/>
                  <a:pt x="728" y="96"/>
                </a:cubicBezTo>
                <a:cubicBezTo>
                  <a:pt x="739" y="98"/>
                  <a:pt x="749" y="101"/>
                  <a:pt x="760" y="104"/>
                </a:cubicBezTo>
                <a:cubicBezTo>
                  <a:pt x="785" y="121"/>
                  <a:pt x="796" y="148"/>
                  <a:pt x="824" y="160"/>
                </a:cubicBezTo>
                <a:cubicBezTo>
                  <a:pt x="883" y="185"/>
                  <a:pt x="953" y="183"/>
                  <a:pt x="1016" y="192"/>
                </a:cubicBezTo>
                <a:cubicBezTo>
                  <a:pt x="1053" y="204"/>
                  <a:pt x="1091" y="207"/>
                  <a:pt x="1128" y="216"/>
                </a:cubicBezTo>
                <a:cubicBezTo>
                  <a:pt x="1173" y="246"/>
                  <a:pt x="1209" y="257"/>
                  <a:pt x="1264" y="264"/>
                </a:cubicBezTo>
                <a:cubicBezTo>
                  <a:pt x="1321" y="283"/>
                  <a:pt x="1303" y="266"/>
                  <a:pt x="1328" y="304"/>
                </a:cubicBezTo>
                <a:cubicBezTo>
                  <a:pt x="1306" y="371"/>
                  <a:pt x="1245" y="347"/>
                  <a:pt x="1176" y="352"/>
                </a:cubicBezTo>
                <a:cubicBezTo>
                  <a:pt x="1171" y="357"/>
                  <a:pt x="1137" y="388"/>
                  <a:pt x="1136" y="400"/>
                </a:cubicBezTo>
                <a:cubicBezTo>
                  <a:pt x="1132" y="468"/>
                  <a:pt x="1134" y="537"/>
                  <a:pt x="1192" y="576"/>
                </a:cubicBezTo>
                <a:cubicBezTo>
                  <a:pt x="1186" y="701"/>
                  <a:pt x="1207" y="734"/>
                  <a:pt x="1120" y="792"/>
                </a:cubicBezTo>
                <a:cubicBezTo>
                  <a:pt x="1063" y="878"/>
                  <a:pt x="1087" y="821"/>
                  <a:pt x="1096" y="976"/>
                </a:cubicBezTo>
                <a:cubicBezTo>
                  <a:pt x="1093" y="987"/>
                  <a:pt x="1093" y="998"/>
                  <a:pt x="1088" y="1008"/>
                </a:cubicBezTo>
                <a:cubicBezTo>
                  <a:pt x="1062" y="1053"/>
                  <a:pt x="1007" y="1036"/>
                  <a:pt x="968" y="1056"/>
                </a:cubicBezTo>
                <a:cubicBezTo>
                  <a:pt x="936" y="1072"/>
                  <a:pt x="917" y="1101"/>
                  <a:pt x="896" y="1128"/>
                </a:cubicBezTo>
                <a:cubicBezTo>
                  <a:pt x="875" y="1096"/>
                  <a:pt x="868" y="1061"/>
                  <a:pt x="856" y="1024"/>
                </a:cubicBezTo>
                <a:cubicBezTo>
                  <a:pt x="849" y="1004"/>
                  <a:pt x="828" y="993"/>
                  <a:pt x="816" y="976"/>
                </a:cubicBezTo>
                <a:cubicBezTo>
                  <a:pt x="812" y="948"/>
                  <a:pt x="810" y="891"/>
                  <a:pt x="792" y="864"/>
                </a:cubicBezTo>
                <a:cubicBezTo>
                  <a:pt x="757" y="811"/>
                  <a:pt x="778" y="868"/>
                  <a:pt x="752" y="816"/>
                </a:cubicBezTo>
                <a:cubicBezTo>
                  <a:pt x="733" y="777"/>
                  <a:pt x="760" y="803"/>
                  <a:pt x="720" y="776"/>
                </a:cubicBezTo>
                <a:cubicBezTo>
                  <a:pt x="686" y="724"/>
                  <a:pt x="709" y="695"/>
                  <a:pt x="688" y="632"/>
                </a:cubicBezTo>
                <a:cubicBezTo>
                  <a:pt x="685" y="624"/>
                  <a:pt x="672" y="626"/>
                  <a:pt x="664" y="624"/>
                </a:cubicBezTo>
                <a:cubicBezTo>
                  <a:pt x="632" y="618"/>
                  <a:pt x="600" y="613"/>
                  <a:pt x="568" y="608"/>
                </a:cubicBezTo>
                <a:cubicBezTo>
                  <a:pt x="516" y="582"/>
                  <a:pt x="513" y="584"/>
                  <a:pt x="448" y="592"/>
                </a:cubicBezTo>
                <a:cubicBezTo>
                  <a:pt x="432" y="597"/>
                  <a:pt x="414" y="599"/>
                  <a:pt x="400" y="608"/>
                </a:cubicBezTo>
                <a:cubicBezTo>
                  <a:pt x="392" y="613"/>
                  <a:pt x="385" y="620"/>
                  <a:pt x="376" y="624"/>
                </a:cubicBezTo>
                <a:cubicBezTo>
                  <a:pt x="346" y="637"/>
                  <a:pt x="324" y="637"/>
                  <a:pt x="296" y="656"/>
                </a:cubicBezTo>
                <a:cubicBezTo>
                  <a:pt x="291" y="664"/>
                  <a:pt x="288" y="675"/>
                  <a:pt x="280" y="680"/>
                </a:cubicBezTo>
                <a:cubicBezTo>
                  <a:pt x="233" y="709"/>
                  <a:pt x="149" y="718"/>
                  <a:pt x="96" y="736"/>
                </a:cubicBezTo>
                <a:cubicBezTo>
                  <a:pt x="85" y="693"/>
                  <a:pt x="78" y="666"/>
                  <a:pt x="40" y="640"/>
                </a:cubicBezTo>
                <a:cubicBezTo>
                  <a:pt x="37" y="629"/>
                  <a:pt x="30" y="619"/>
                  <a:pt x="32" y="608"/>
                </a:cubicBezTo>
                <a:cubicBezTo>
                  <a:pt x="36" y="583"/>
                  <a:pt x="106" y="558"/>
                  <a:pt x="128" y="544"/>
                </a:cubicBezTo>
                <a:cubicBezTo>
                  <a:pt x="114" y="503"/>
                  <a:pt x="94" y="494"/>
                  <a:pt x="136" y="488"/>
                </a:cubicBezTo>
                <a:cubicBezTo>
                  <a:pt x="165" y="484"/>
                  <a:pt x="195" y="483"/>
                  <a:pt x="224" y="480"/>
                </a:cubicBezTo>
                <a:cubicBezTo>
                  <a:pt x="330" y="454"/>
                  <a:pt x="266" y="461"/>
                  <a:pt x="416" y="480"/>
                </a:cubicBezTo>
                <a:cubicBezTo>
                  <a:pt x="440" y="488"/>
                  <a:pt x="464" y="496"/>
                  <a:pt x="488" y="504"/>
                </a:cubicBezTo>
                <a:cubicBezTo>
                  <a:pt x="504" y="509"/>
                  <a:pt x="536" y="520"/>
                  <a:pt x="536" y="520"/>
                </a:cubicBezTo>
                <a:cubicBezTo>
                  <a:pt x="584" y="517"/>
                  <a:pt x="633" y="522"/>
                  <a:pt x="680" y="512"/>
                </a:cubicBezTo>
                <a:cubicBezTo>
                  <a:pt x="699" y="508"/>
                  <a:pt x="728" y="480"/>
                  <a:pt x="728" y="480"/>
                </a:cubicBezTo>
                <a:cubicBezTo>
                  <a:pt x="759" y="387"/>
                  <a:pt x="650" y="350"/>
                  <a:pt x="608" y="288"/>
                </a:cubicBezTo>
                <a:cubicBezTo>
                  <a:pt x="582" y="249"/>
                  <a:pt x="558" y="228"/>
                  <a:pt x="512" y="216"/>
                </a:cubicBezTo>
                <a:cubicBezTo>
                  <a:pt x="491" y="219"/>
                  <a:pt x="469" y="220"/>
                  <a:pt x="448" y="224"/>
                </a:cubicBezTo>
                <a:cubicBezTo>
                  <a:pt x="440" y="226"/>
                  <a:pt x="428" y="224"/>
                  <a:pt x="424" y="232"/>
                </a:cubicBezTo>
                <a:cubicBezTo>
                  <a:pt x="419" y="242"/>
                  <a:pt x="446" y="275"/>
                  <a:pt x="448" y="280"/>
                </a:cubicBezTo>
                <a:cubicBezTo>
                  <a:pt x="455" y="295"/>
                  <a:pt x="464" y="328"/>
                  <a:pt x="464" y="328"/>
                </a:cubicBezTo>
                <a:cubicBezTo>
                  <a:pt x="449" y="373"/>
                  <a:pt x="435" y="361"/>
                  <a:pt x="392" y="352"/>
                </a:cubicBezTo>
                <a:cubicBezTo>
                  <a:pt x="336" y="363"/>
                  <a:pt x="350" y="370"/>
                  <a:pt x="312" y="408"/>
                </a:cubicBezTo>
                <a:cubicBezTo>
                  <a:pt x="309" y="421"/>
                  <a:pt x="312" y="437"/>
                  <a:pt x="304" y="448"/>
                </a:cubicBezTo>
                <a:cubicBezTo>
                  <a:pt x="299" y="455"/>
                  <a:pt x="288" y="456"/>
                  <a:pt x="280" y="456"/>
                </a:cubicBezTo>
                <a:cubicBezTo>
                  <a:pt x="109" y="456"/>
                  <a:pt x="104" y="497"/>
                  <a:pt x="128" y="4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495680" y="3086280"/>
            <a:ext cx="1274760" cy="1028520"/>
          </a:xfrm>
          <a:custGeom>
            <a:avLst/>
            <a:gdLst/>
            <a:ahLst/>
            <a:rect l="l" t="t" r="r" b="b"/>
            <a:pathLst>
              <a:path w="803" h="648">
                <a:moveTo>
                  <a:pt x="16" y="432"/>
                </a:moveTo>
                <a:cubicBezTo>
                  <a:pt x="19" y="419"/>
                  <a:pt x="18" y="404"/>
                  <a:pt x="24" y="392"/>
                </a:cubicBezTo>
                <a:cubicBezTo>
                  <a:pt x="48" y="344"/>
                  <a:pt x="56" y="392"/>
                  <a:pt x="40" y="344"/>
                </a:cubicBezTo>
                <a:cubicBezTo>
                  <a:pt x="49" y="292"/>
                  <a:pt x="55" y="283"/>
                  <a:pt x="40" y="224"/>
                </a:cubicBezTo>
                <a:cubicBezTo>
                  <a:pt x="34" y="198"/>
                  <a:pt x="9" y="171"/>
                  <a:pt x="0" y="144"/>
                </a:cubicBezTo>
                <a:cubicBezTo>
                  <a:pt x="3" y="136"/>
                  <a:pt x="2" y="126"/>
                  <a:pt x="8" y="120"/>
                </a:cubicBezTo>
                <a:cubicBezTo>
                  <a:pt x="14" y="114"/>
                  <a:pt x="24" y="116"/>
                  <a:pt x="32" y="112"/>
                </a:cubicBezTo>
                <a:cubicBezTo>
                  <a:pt x="61" y="97"/>
                  <a:pt x="79" y="88"/>
                  <a:pt x="112" y="80"/>
                </a:cubicBezTo>
                <a:cubicBezTo>
                  <a:pt x="154" y="52"/>
                  <a:pt x="191" y="16"/>
                  <a:pt x="240" y="0"/>
                </a:cubicBezTo>
                <a:cubicBezTo>
                  <a:pt x="261" y="32"/>
                  <a:pt x="251" y="44"/>
                  <a:pt x="288" y="56"/>
                </a:cubicBezTo>
                <a:cubicBezTo>
                  <a:pt x="309" y="53"/>
                  <a:pt x="331" y="52"/>
                  <a:pt x="352" y="48"/>
                </a:cubicBezTo>
                <a:cubicBezTo>
                  <a:pt x="360" y="46"/>
                  <a:pt x="368" y="36"/>
                  <a:pt x="376" y="40"/>
                </a:cubicBezTo>
                <a:cubicBezTo>
                  <a:pt x="384" y="44"/>
                  <a:pt x="381" y="56"/>
                  <a:pt x="384" y="64"/>
                </a:cubicBezTo>
                <a:cubicBezTo>
                  <a:pt x="388" y="91"/>
                  <a:pt x="381" y="125"/>
                  <a:pt x="400" y="144"/>
                </a:cubicBezTo>
                <a:cubicBezTo>
                  <a:pt x="439" y="183"/>
                  <a:pt x="453" y="177"/>
                  <a:pt x="504" y="184"/>
                </a:cubicBezTo>
                <a:cubicBezTo>
                  <a:pt x="528" y="256"/>
                  <a:pt x="512" y="256"/>
                  <a:pt x="584" y="280"/>
                </a:cubicBezTo>
                <a:cubicBezTo>
                  <a:pt x="657" y="275"/>
                  <a:pt x="710" y="279"/>
                  <a:pt x="768" y="240"/>
                </a:cubicBezTo>
                <a:cubicBezTo>
                  <a:pt x="779" y="243"/>
                  <a:pt x="797" y="238"/>
                  <a:pt x="800" y="248"/>
                </a:cubicBezTo>
                <a:cubicBezTo>
                  <a:pt x="803" y="257"/>
                  <a:pt x="785" y="260"/>
                  <a:pt x="776" y="264"/>
                </a:cubicBezTo>
                <a:cubicBezTo>
                  <a:pt x="761" y="271"/>
                  <a:pt x="744" y="275"/>
                  <a:pt x="728" y="280"/>
                </a:cubicBezTo>
                <a:cubicBezTo>
                  <a:pt x="720" y="283"/>
                  <a:pt x="704" y="288"/>
                  <a:pt x="704" y="288"/>
                </a:cubicBezTo>
                <a:cubicBezTo>
                  <a:pt x="674" y="333"/>
                  <a:pt x="693" y="353"/>
                  <a:pt x="672" y="392"/>
                </a:cubicBezTo>
                <a:cubicBezTo>
                  <a:pt x="655" y="424"/>
                  <a:pt x="621" y="443"/>
                  <a:pt x="600" y="472"/>
                </a:cubicBezTo>
                <a:cubicBezTo>
                  <a:pt x="593" y="482"/>
                  <a:pt x="567" y="523"/>
                  <a:pt x="560" y="528"/>
                </a:cubicBezTo>
                <a:cubicBezTo>
                  <a:pt x="546" y="537"/>
                  <a:pt x="512" y="544"/>
                  <a:pt x="512" y="544"/>
                </a:cubicBezTo>
                <a:cubicBezTo>
                  <a:pt x="409" y="529"/>
                  <a:pt x="468" y="517"/>
                  <a:pt x="344" y="528"/>
                </a:cubicBezTo>
                <a:cubicBezTo>
                  <a:pt x="339" y="544"/>
                  <a:pt x="333" y="560"/>
                  <a:pt x="328" y="576"/>
                </a:cubicBezTo>
                <a:cubicBezTo>
                  <a:pt x="322" y="594"/>
                  <a:pt x="294" y="594"/>
                  <a:pt x="280" y="608"/>
                </a:cubicBezTo>
                <a:cubicBezTo>
                  <a:pt x="272" y="616"/>
                  <a:pt x="265" y="625"/>
                  <a:pt x="256" y="632"/>
                </a:cubicBezTo>
                <a:cubicBezTo>
                  <a:pt x="249" y="638"/>
                  <a:pt x="240" y="643"/>
                  <a:pt x="232" y="648"/>
                </a:cubicBezTo>
                <a:cubicBezTo>
                  <a:pt x="164" y="625"/>
                  <a:pt x="211" y="573"/>
                  <a:pt x="168" y="544"/>
                </a:cubicBezTo>
                <a:cubicBezTo>
                  <a:pt x="152" y="533"/>
                  <a:pt x="129" y="537"/>
                  <a:pt x="112" y="528"/>
                </a:cubicBezTo>
                <a:cubicBezTo>
                  <a:pt x="103" y="524"/>
                  <a:pt x="95" y="518"/>
                  <a:pt x="88" y="512"/>
                </a:cubicBezTo>
                <a:cubicBezTo>
                  <a:pt x="79" y="505"/>
                  <a:pt x="74" y="493"/>
                  <a:pt x="64" y="488"/>
                </a:cubicBezTo>
                <a:cubicBezTo>
                  <a:pt x="49" y="480"/>
                  <a:pt x="16" y="472"/>
                  <a:pt x="16" y="472"/>
                </a:cubicBezTo>
                <a:cubicBezTo>
                  <a:pt x="19" y="459"/>
                  <a:pt x="19" y="445"/>
                  <a:pt x="24" y="432"/>
                </a:cubicBezTo>
                <a:cubicBezTo>
                  <a:pt x="31" y="414"/>
                  <a:pt x="65" y="383"/>
                  <a:pt x="16" y="43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9"/>
          </p:cNvPr>
          <p:cNvSpPr/>
          <p:nvPr/>
        </p:nvSpPr>
        <p:spPr>
          <a:xfrm>
            <a:off x="4057560" y="1550880"/>
            <a:ext cx="603360" cy="303480"/>
          </a:xfrm>
          <a:custGeom>
            <a:avLst/>
            <a:gdLst/>
            <a:ahLst/>
            <a:rect l="l" t="t" r="r" b="b"/>
            <a:pathLst>
              <a:path w="380" h="191">
                <a:moveTo>
                  <a:pt x="284" y="191"/>
                </a:moveTo>
                <a:cubicBezTo>
                  <a:pt x="263" y="188"/>
                  <a:pt x="241" y="189"/>
                  <a:pt x="220" y="183"/>
                </a:cubicBezTo>
                <a:cubicBezTo>
                  <a:pt x="193" y="176"/>
                  <a:pt x="155" y="145"/>
                  <a:pt x="124" y="135"/>
                </a:cubicBezTo>
                <a:cubicBezTo>
                  <a:pt x="91" y="102"/>
                  <a:pt x="57" y="88"/>
                  <a:pt x="20" y="63"/>
                </a:cubicBezTo>
                <a:cubicBezTo>
                  <a:pt x="15" y="52"/>
                  <a:pt x="0" y="42"/>
                  <a:pt x="4" y="31"/>
                </a:cubicBezTo>
                <a:cubicBezTo>
                  <a:pt x="8" y="20"/>
                  <a:pt x="24" y="16"/>
                  <a:pt x="36" y="15"/>
                </a:cubicBezTo>
                <a:cubicBezTo>
                  <a:pt x="116" y="8"/>
                  <a:pt x="196" y="10"/>
                  <a:pt x="276" y="7"/>
                </a:cubicBezTo>
                <a:cubicBezTo>
                  <a:pt x="325" y="12"/>
                  <a:pt x="364" y="0"/>
                  <a:pt x="380" y="47"/>
                </a:cubicBezTo>
                <a:cubicBezTo>
                  <a:pt x="358" y="91"/>
                  <a:pt x="348" y="93"/>
                  <a:pt x="300" y="103"/>
                </a:cubicBezTo>
                <a:cubicBezTo>
                  <a:pt x="312" y="139"/>
                  <a:pt x="304" y="160"/>
                  <a:pt x="284" y="1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0"/>
          </p:cNvPr>
          <p:cNvSpPr/>
          <p:nvPr/>
        </p:nvSpPr>
        <p:spPr>
          <a:xfrm>
            <a:off x="3584520" y="3238560"/>
            <a:ext cx="954000" cy="1504800"/>
          </a:xfrm>
          <a:custGeom>
            <a:avLst/>
            <a:gdLst/>
            <a:ahLst/>
            <a:rect l="l" t="t" r="r" b="b"/>
            <a:pathLst>
              <a:path w="601" h="948">
                <a:moveTo>
                  <a:pt x="222" y="936"/>
                </a:moveTo>
                <a:cubicBezTo>
                  <a:pt x="152" y="924"/>
                  <a:pt x="129" y="924"/>
                  <a:pt x="174" y="856"/>
                </a:cubicBezTo>
                <a:cubicBezTo>
                  <a:pt x="160" y="814"/>
                  <a:pt x="129" y="763"/>
                  <a:pt x="86" y="744"/>
                </a:cubicBezTo>
                <a:cubicBezTo>
                  <a:pt x="0" y="706"/>
                  <a:pt x="68" y="748"/>
                  <a:pt x="14" y="712"/>
                </a:cubicBezTo>
                <a:cubicBezTo>
                  <a:pt x="11" y="704"/>
                  <a:pt x="3" y="696"/>
                  <a:pt x="6" y="688"/>
                </a:cubicBezTo>
                <a:cubicBezTo>
                  <a:pt x="10" y="679"/>
                  <a:pt x="23" y="679"/>
                  <a:pt x="30" y="672"/>
                </a:cubicBezTo>
                <a:cubicBezTo>
                  <a:pt x="46" y="656"/>
                  <a:pt x="47" y="644"/>
                  <a:pt x="54" y="624"/>
                </a:cubicBezTo>
                <a:cubicBezTo>
                  <a:pt x="57" y="541"/>
                  <a:pt x="55" y="458"/>
                  <a:pt x="62" y="376"/>
                </a:cubicBezTo>
                <a:cubicBezTo>
                  <a:pt x="63" y="365"/>
                  <a:pt x="96" y="332"/>
                  <a:pt x="102" y="328"/>
                </a:cubicBezTo>
                <a:cubicBezTo>
                  <a:pt x="142" y="297"/>
                  <a:pt x="180" y="260"/>
                  <a:pt x="222" y="232"/>
                </a:cubicBezTo>
                <a:cubicBezTo>
                  <a:pt x="239" y="180"/>
                  <a:pt x="204" y="210"/>
                  <a:pt x="222" y="144"/>
                </a:cubicBezTo>
                <a:cubicBezTo>
                  <a:pt x="226" y="128"/>
                  <a:pt x="224" y="105"/>
                  <a:pt x="238" y="96"/>
                </a:cubicBezTo>
                <a:cubicBezTo>
                  <a:pt x="276" y="71"/>
                  <a:pt x="253" y="83"/>
                  <a:pt x="310" y="64"/>
                </a:cubicBezTo>
                <a:cubicBezTo>
                  <a:pt x="318" y="61"/>
                  <a:pt x="334" y="56"/>
                  <a:pt x="334" y="56"/>
                </a:cubicBezTo>
                <a:cubicBezTo>
                  <a:pt x="342" y="48"/>
                  <a:pt x="349" y="39"/>
                  <a:pt x="358" y="32"/>
                </a:cubicBezTo>
                <a:cubicBezTo>
                  <a:pt x="373" y="20"/>
                  <a:pt x="406" y="0"/>
                  <a:pt x="406" y="0"/>
                </a:cubicBezTo>
                <a:cubicBezTo>
                  <a:pt x="422" y="47"/>
                  <a:pt x="393" y="102"/>
                  <a:pt x="446" y="120"/>
                </a:cubicBezTo>
                <a:cubicBezTo>
                  <a:pt x="475" y="117"/>
                  <a:pt x="505" y="118"/>
                  <a:pt x="534" y="112"/>
                </a:cubicBezTo>
                <a:cubicBezTo>
                  <a:pt x="543" y="110"/>
                  <a:pt x="549" y="94"/>
                  <a:pt x="558" y="96"/>
                </a:cubicBezTo>
                <a:cubicBezTo>
                  <a:pt x="569" y="98"/>
                  <a:pt x="574" y="112"/>
                  <a:pt x="582" y="120"/>
                </a:cubicBezTo>
                <a:cubicBezTo>
                  <a:pt x="601" y="177"/>
                  <a:pt x="567" y="228"/>
                  <a:pt x="550" y="280"/>
                </a:cubicBezTo>
                <a:cubicBezTo>
                  <a:pt x="553" y="331"/>
                  <a:pt x="551" y="382"/>
                  <a:pt x="558" y="432"/>
                </a:cubicBezTo>
                <a:cubicBezTo>
                  <a:pt x="560" y="444"/>
                  <a:pt x="573" y="452"/>
                  <a:pt x="574" y="464"/>
                </a:cubicBezTo>
                <a:cubicBezTo>
                  <a:pt x="578" y="497"/>
                  <a:pt x="549" y="521"/>
                  <a:pt x="526" y="536"/>
                </a:cubicBezTo>
                <a:cubicBezTo>
                  <a:pt x="510" y="583"/>
                  <a:pt x="530" y="540"/>
                  <a:pt x="494" y="576"/>
                </a:cubicBezTo>
                <a:cubicBezTo>
                  <a:pt x="478" y="592"/>
                  <a:pt x="470" y="616"/>
                  <a:pt x="454" y="632"/>
                </a:cubicBezTo>
                <a:cubicBezTo>
                  <a:pt x="420" y="666"/>
                  <a:pt x="348" y="661"/>
                  <a:pt x="310" y="664"/>
                </a:cubicBezTo>
                <a:cubicBezTo>
                  <a:pt x="288" y="697"/>
                  <a:pt x="290" y="682"/>
                  <a:pt x="302" y="728"/>
                </a:cubicBezTo>
                <a:cubicBezTo>
                  <a:pt x="306" y="744"/>
                  <a:pt x="318" y="776"/>
                  <a:pt x="318" y="776"/>
                </a:cubicBezTo>
                <a:cubicBezTo>
                  <a:pt x="319" y="784"/>
                  <a:pt x="339" y="938"/>
                  <a:pt x="302" y="944"/>
                </a:cubicBezTo>
                <a:cubicBezTo>
                  <a:pt x="276" y="948"/>
                  <a:pt x="249" y="939"/>
                  <a:pt x="222" y="9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1"/>
          </p:cNvPr>
          <p:cNvSpPr/>
          <p:nvPr/>
        </p:nvSpPr>
        <p:spPr>
          <a:xfrm>
            <a:off x="4673520" y="747720"/>
            <a:ext cx="1728720" cy="1271520"/>
          </a:xfrm>
          <a:custGeom>
            <a:avLst/>
            <a:gdLst/>
            <a:ahLst/>
            <a:rect l="l" t="t" r="r" b="b"/>
            <a:pathLst>
              <a:path w="1089" h="801">
                <a:moveTo>
                  <a:pt x="264" y="761"/>
                </a:moveTo>
                <a:cubicBezTo>
                  <a:pt x="243" y="754"/>
                  <a:pt x="221" y="752"/>
                  <a:pt x="200" y="745"/>
                </a:cubicBezTo>
                <a:cubicBezTo>
                  <a:pt x="164" y="733"/>
                  <a:pt x="130" y="706"/>
                  <a:pt x="96" y="689"/>
                </a:cubicBezTo>
                <a:cubicBezTo>
                  <a:pt x="20" y="651"/>
                  <a:pt x="148" y="698"/>
                  <a:pt x="24" y="657"/>
                </a:cubicBezTo>
                <a:cubicBezTo>
                  <a:pt x="16" y="654"/>
                  <a:pt x="0" y="649"/>
                  <a:pt x="0" y="649"/>
                </a:cubicBezTo>
                <a:cubicBezTo>
                  <a:pt x="55" y="612"/>
                  <a:pt x="42" y="635"/>
                  <a:pt x="56" y="593"/>
                </a:cubicBezTo>
                <a:cubicBezTo>
                  <a:pt x="44" y="556"/>
                  <a:pt x="44" y="518"/>
                  <a:pt x="32" y="481"/>
                </a:cubicBezTo>
                <a:cubicBezTo>
                  <a:pt x="36" y="457"/>
                  <a:pt x="31" y="426"/>
                  <a:pt x="48" y="409"/>
                </a:cubicBezTo>
                <a:cubicBezTo>
                  <a:pt x="81" y="376"/>
                  <a:pt x="128" y="359"/>
                  <a:pt x="168" y="337"/>
                </a:cubicBezTo>
                <a:cubicBezTo>
                  <a:pt x="251" y="291"/>
                  <a:pt x="186" y="315"/>
                  <a:pt x="240" y="297"/>
                </a:cubicBezTo>
                <a:cubicBezTo>
                  <a:pt x="262" y="265"/>
                  <a:pt x="294" y="256"/>
                  <a:pt x="328" y="233"/>
                </a:cubicBezTo>
                <a:cubicBezTo>
                  <a:pt x="368" y="207"/>
                  <a:pt x="406" y="182"/>
                  <a:pt x="448" y="161"/>
                </a:cubicBezTo>
                <a:cubicBezTo>
                  <a:pt x="492" y="139"/>
                  <a:pt x="452" y="149"/>
                  <a:pt x="496" y="137"/>
                </a:cubicBezTo>
                <a:cubicBezTo>
                  <a:pt x="517" y="131"/>
                  <a:pt x="560" y="121"/>
                  <a:pt x="560" y="121"/>
                </a:cubicBezTo>
                <a:cubicBezTo>
                  <a:pt x="568" y="116"/>
                  <a:pt x="575" y="109"/>
                  <a:pt x="584" y="105"/>
                </a:cubicBezTo>
                <a:cubicBezTo>
                  <a:pt x="599" y="98"/>
                  <a:pt x="632" y="89"/>
                  <a:pt x="632" y="89"/>
                </a:cubicBezTo>
                <a:cubicBezTo>
                  <a:pt x="664" y="57"/>
                  <a:pt x="691" y="26"/>
                  <a:pt x="728" y="1"/>
                </a:cubicBezTo>
                <a:cubicBezTo>
                  <a:pt x="757" y="4"/>
                  <a:pt x="788" y="0"/>
                  <a:pt x="816" y="9"/>
                </a:cubicBezTo>
                <a:cubicBezTo>
                  <a:pt x="825" y="12"/>
                  <a:pt x="830" y="24"/>
                  <a:pt x="832" y="33"/>
                </a:cubicBezTo>
                <a:cubicBezTo>
                  <a:pt x="838" y="62"/>
                  <a:pt x="836" y="92"/>
                  <a:pt x="840" y="121"/>
                </a:cubicBezTo>
                <a:cubicBezTo>
                  <a:pt x="846" y="164"/>
                  <a:pt x="872" y="198"/>
                  <a:pt x="896" y="233"/>
                </a:cubicBezTo>
                <a:cubicBezTo>
                  <a:pt x="911" y="256"/>
                  <a:pt x="931" y="295"/>
                  <a:pt x="952" y="313"/>
                </a:cubicBezTo>
                <a:cubicBezTo>
                  <a:pt x="958" y="318"/>
                  <a:pt x="969" y="317"/>
                  <a:pt x="976" y="321"/>
                </a:cubicBezTo>
                <a:cubicBezTo>
                  <a:pt x="993" y="330"/>
                  <a:pt x="1008" y="342"/>
                  <a:pt x="1024" y="353"/>
                </a:cubicBezTo>
                <a:cubicBezTo>
                  <a:pt x="1032" y="358"/>
                  <a:pt x="1048" y="369"/>
                  <a:pt x="1048" y="369"/>
                </a:cubicBezTo>
                <a:cubicBezTo>
                  <a:pt x="1085" y="424"/>
                  <a:pt x="1074" y="399"/>
                  <a:pt x="1088" y="441"/>
                </a:cubicBezTo>
                <a:cubicBezTo>
                  <a:pt x="1085" y="489"/>
                  <a:pt x="1089" y="538"/>
                  <a:pt x="1080" y="585"/>
                </a:cubicBezTo>
                <a:cubicBezTo>
                  <a:pt x="1078" y="595"/>
                  <a:pt x="1040" y="608"/>
                  <a:pt x="1032" y="609"/>
                </a:cubicBezTo>
                <a:cubicBezTo>
                  <a:pt x="990" y="616"/>
                  <a:pt x="947" y="619"/>
                  <a:pt x="904" y="625"/>
                </a:cubicBezTo>
                <a:cubicBezTo>
                  <a:pt x="876" y="653"/>
                  <a:pt x="862" y="696"/>
                  <a:pt x="824" y="713"/>
                </a:cubicBezTo>
                <a:cubicBezTo>
                  <a:pt x="753" y="745"/>
                  <a:pt x="715" y="742"/>
                  <a:pt x="656" y="801"/>
                </a:cubicBezTo>
                <a:cubicBezTo>
                  <a:pt x="631" y="763"/>
                  <a:pt x="620" y="737"/>
                  <a:pt x="584" y="713"/>
                </a:cubicBezTo>
                <a:cubicBezTo>
                  <a:pt x="563" y="681"/>
                  <a:pt x="546" y="666"/>
                  <a:pt x="512" y="649"/>
                </a:cubicBezTo>
                <a:cubicBezTo>
                  <a:pt x="416" y="659"/>
                  <a:pt x="449" y="653"/>
                  <a:pt x="384" y="681"/>
                </a:cubicBezTo>
                <a:cubicBezTo>
                  <a:pt x="374" y="685"/>
                  <a:pt x="363" y="686"/>
                  <a:pt x="352" y="689"/>
                </a:cubicBezTo>
                <a:cubicBezTo>
                  <a:pt x="336" y="694"/>
                  <a:pt x="304" y="705"/>
                  <a:pt x="304" y="705"/>
                </a:cubicBezTo>
                <a:cubicBezTo>
                  <a:pt x="253" y="756"/>
                  <a:pt x="240" y="737"/>
                  <a:pt x="264" y="7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2"/>
          </p:cNvPr>
          <p:cNvSpPr/>
          <p:nvPr/>
        </p:nvSpPr>
        <p:spPr>
          <a:xfrm>
            <a:off x="2679840" y="3797280"/>
            <a:ext cx="1163520" cy="1359000"/>
          </a:xfrm>
          <a:custGeom>
            <a:avLst/>
            <a:gdLst/>
            <a:ahLst/>
            <a:rect l="l" t="t" r="r" b="b"/>
            <a:pathLst>
              <a:path w="733" h="856">
                <a:moveTo>
                  <a:pt x="440" y="808"/>
                </a:moveTo>
                <a:cubicBezTo>
                  <a:pt x="485" y="811"/>
                  <a:pt x="532" y="806"/>
                  <a:pt x="576" y="816"/>
                </a:cubicBezTo>
                <a:cubicBezTo>
                  <a:pt x="603" y="822"/>
                  <a:pt x="622" y="847"/>
                  <a:pt x="648" y="856"/>
                </a:cubicBezTo>
                <a:cubicBezTo>
                  <a:pt x="682" y="834"/>
                  <a:pt x="700" y="805"/>
                  <a:pt x="712" y="768"/>
                </a:cubicBezTo>
                <a:cubicBezTo>
                  <a:pt x="721" y="693"/>
                  <a:pt x="733" y="655"/>
                  <a:pt x="720" y="576"/>
                </a:cubicBezTo>
                <a:cubicBezTo>
                  <a:pt x="717" y="559"/>
                  <a:pt x="709" y="544"/>
                  <a:pt x="704" y="528"/>
                </a:cubicBezTo>
                <a:cubicBezTo>
                  <a:pt x="701" y="520"/>
                  <a:pt x="696" y="504"/>
                  <a:pt x="696" y="504"/>
                </a:cubicBezTo>
                <a:cubicBezTo>
                  <a:pt x="693" y="477"/>
                  <a:pt x="708" y="442"/>
                  <a:pt x="688" y="424"/>
                </a:cubicBezTo>
                <a:cubicBezTo>
                  <a:pt x="670" y="408"/>
                  <a:pt x="640" y="437"/>
                  <a:pt x="616" y="432"/>
                </a:cubicBezTo>
                <a:cubicBezTo>
                  <a:pt x="597" y="428"/>
                  <a:pt x="568" y="400"/>
                  <a:pt x="568" y="400"/>
                </a:cubicBezTo>
                <a:cubicBezTo>
                  <a:pt x="541" y="359"/>
                  <a:pt x="559" y="318"/>
                  <a:pt x="584" y="280"/>
                </a:cubicBezTo>
                <a:cubicBezTo>
                  <a:pt x="589" y="167"/>
                  <a:pt x="614" y="68"/>
                  <a:pt x="512" y="0"/>
                </a:cubicBezTo>
                <a:cubicBezTo>
                  <a:pt x="480" y="127"/>
                  <a:pt x="349" y="96"/>
                  <a:pt x="264" y="152"/>
                </a:cubicBezTo>
                <a:cubicBezTo>
                  <a:pt x="229" y="257"/>
                  <a:pt x="161" y="270"/>
                  <a:pt x="64" y="280"/>
                </a:cubicBezTo>
                <a:cubicBezTo>
                  <a:pt x="0" y="344"/>
                  <a:pt x="37" y="432"/>
                  <a:pt x="80" y="496"/>
                </a:cubicBezTo>
                <a:cubicBezTo>
                  <a:pt x="89" y="510"/>
                  <a:pt x="91" y="528"/>
                  <a:pt x="96" y="544"/>
                </a:cubicBezTo>
                <a:cubicBezTo>
                  <a:pt x="99" y="552"/>
                  <a:pt x="104" y="568"/>
                  <a:pt x="104" y="568"/>
                </a:cubicBezTo>
                <a:cubicBezTo>
                  <a:pt x="107" y="592"/>
                  <a:pt x="96" y="622"/>
                  <a:pt x="112" y="640"/>
                </a:cubicBezTo>
                <a:cubicBezTo>
                  <a:pt x="123" y="652"/>
                  <a:pt x="145" y="638"/>
                  <a:pt x="160" y="632"/>
                </a:cubicBezTo>
                <a:cubicBezTo>
                  <a:pt x="197" y="617"/>
                  <a:pt x="219" y="588"/>
                  <a:pt x="256" y="576"/>
                </a:cubicBezTo>
                <a:cubicBezTo>
                  <a:pt x="303" y="529"/>
                  <a:pt x="315" y="545"/>
                  <a:pt x="392" y="552"/>
                </a:cubicBezTo>
                <a:cubicBezTo>
                  <a:pt x="445" y="587"/>
                  <a:pt x="437" y="663"/>
                  <a:pt x="448" y="720"/>
                </a:cubicBezTo>
                <a:cubicBezTo>
                  <a:pt x="450" y="728"/>
                  <a:pt x="457" y="736"/>
                  <a:pt x="456" y="744"/>
                </a:cubicBezTo>
                <a:cubicBezTo>
                  <a:pt x="454" y="766"/>
                  <a:pt x="445" y="787"/>
                  <a:pt x="440" y="80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3"/>
          </p:cNvPr>
          <p:cNvSpPr/>
          <p:nvPr/>
        </p:nvSpPr>
        <p:spPr>
          <a:xfrm>
            <a:off x="2832120" y="4737240"/>
            <a:ext cx="533520" cy="450720"/>
          </a:xfrm>
          <a:custGeom>
            <a:avLst/>
            <a:gdLst/>
            <a:ahLst/>
            <a:rect l="l" t="t" r="r" b="b"/>
            <a:pathLst>
              <a:path w="336" h="284">
                <a:moveTo>
                  <a:pt x="320" y="224"/>
                </a:moveTo>
                <a:cubicBezTo>
                  <a:pt x="330" y="172"/>
                  <a:pt x="336" y="128"/>
                  <a:pt x="296" y="88"/>
                </a:cubicBezTo>
                <a:cubicBezTo>
                  <a:pt x="293" y="80"/>
                  <a:pt x="288" y="72"/>
                  <a:pt x="288" y="64"/>
                </a:cubicBezTo>
                <a:cubicBezTo>
                  <a:pt x="288" y="43"/>
                  <a:pt x="309" y="37"/>
                  <a:pt x="288" y="16"/>
                </a:cubicBezTo>
                <a:cubicBezTo>
                  <a:pt x="280" y="8"/>
                  <a:pt x="267" y="5"/>
                  <a:pt x="256" y="0"/>
                </a:cubicBezTo>
                <a:cubicBezTo>
                  <a:pt x="211" y="3"/>
                  <a:pt x="165" y="1"/>
                  <a:pt x="120" y="8"/>
                </a:cubicBezTo>
                <a:cubicBezTo>
                  <a:pt x="105" y="10"/>
                  <a:pt x="81" y="41"/>
                  <a:pt x="72" y="48"/>
                </a:cubicBezTo>
                <a:cubicBezTo>
                  <a:pt x="44" y="71"/>
                  <a:pt x="42" y="65"/>
                  <a:pt x="0" y="72"/>
                </a:cubicBezTo>
                <a:cubicBezTo>
                  <a:pt x="10" y="112"/>
                  <a:pt x="13" y="146"/>
                  <a:pt x="56" y="160"/>
                </a:cubicBezTo>
                <a:cubicBezTo>
                  <a:pt x="71" y="175"/>
                  <a:pt x="89" y="185"/>
                  <a:pt x="104" y="200"/>
                </a:cubicBezTo>
                <a:cubicBezTo>
                  <a:pt x="111" y="207"/>
                  <a:pt x="112" y="219"/>
                  <a:pt x="120" y="224"/>
                </a:cubicBezTo>
                <a:cubicBezTo>
                  <a:pt x="144" y="239"/>
                  <a:pt x="174" y="243"/>
                  <a:pt x="200" y="256"/>
                </a:cubicBezTo>
                <a:cubicBezTo>
                  <a:pt x="320" y="247"/>
                  <a:pt x="300" y="284"/>
                  <a:pt x="320" y="2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35640" y="2851200"/>
            <a:ext cx="1481040" cy="1200240"/>
          </a:xfrm>
          <a:custGeom>
            <a:avLst/>
            <a:gdLst/>
            <a:ahLst/>
            <a:rect l="l" t="t" r="r" b="b"/>
            <a:pathLst>
              <a:path w="933" h="756">
                <a:moveTo>
                  <a:pt x="264" y="756"/>
                </a:moveTo>
                <a:cubicBezTo>
                  <a:pt x="187" y="743"/>
                  <a:pt x="184" y="727"/>
                  <a:pt x="120" y="684"/>
                </a:cubicBezTo>
                <a:cubicBezTo>
                  <a:pt x="86" y="662"/>
                  <a:pt x="40" y="671"/>
                  <a:pt x="0" y="668"/>
                </a:cubicBezTo>
                <a:cubicBezTo>
                  <a:pt x="42" y="640"/>
                  <a:pt x="84" y="616"/>
                  <a:pt x="120" y="580"/>
                </a:cubicBezTo>
                <a:cubicBezTo>
                  <a:pt x="128" y="515"/>
                  <a:pt x="130" y="489"/>
                  <a:pt x="192" y="468"/>
                </a:cubicBezTo>
                <a:cubicBezTo>
                  <a:pt x="269" y="391"/>
                  <a:pt x="171" y="482"/>
                  <a:pt x="240" y="436"/>
                </a:cubicBezTo>
                <a:cubicBezTo>
                  <a:pt x="257" y="424"/>
                  <a:pt x="271" y="408"/>
                  <a:pt x="288" y="396"/>
                </a:cubicBezTo>
                <a:cubicBezTo>
                  <a:pt x="310" y="364"/>
                  <a:pt x="319" y="329"/>
                  <a:pt x="328" y="292"/>
                </a:cubicBezTo>
                <a:cubicBezTo>
                  <a:pt x="325" y="265"/>
                  <a:pt x="326" y="238"/>
                  <a:pt x="320" y="212"/>
                </a:cubicBezTo>
                <a:cubicBezTo>
                  <a:pt x="313" y="184"/>
                  <a:pt x="277" y="166"/>
                  <a:pt x="264" y="140"/>
                </a:cubicBezTo>
                <a:cubicBezTo>
                  <a:pt x="252" y="115"/>
                  <a:pt x="224" y="68"/>
                  <a:pt x="224" y="68"/>
                </a:cubicBezTo>
                <a:cubicBezTo>
                  <a:pt x="228" y="55"/>
                  <a:pt x="235" y="28"/>
                  <a:pt x="248" y="20"/>
                </a:cubicBezTo>
                <a:cubicBezTo>
                  <a:pt x="262" y="11"/>
                  <a:pt x="296" y="4"/>
                  <a:pt x="296" y="4"/>
                </a:cubicBezTo>
                <a:cubicBezTo>
                  <a:pt x="440" y="7"/>
                  <a:pt x="584" y="0"/>
                  <a:pt x="728" y="12"/>
                </a:cubicBezTo>
                <a:cubicBezTo>
                  <a:pt x="757" y="14"/>
                  <a:pt x="776" y="44"/>
                  <a:pt x="800" y="60"/>
                </a:cubicBezTo>
                <a:cubicBezTo>
                  <a:pt x="808" y="65"/>
                  <a:pt x="824" y="76"/>
                  <a:pt x="824" y="76"/>
                </a:cubicBezTo>
                <a:cubicBezTo>
                  <a:pt x="829" y="84"/>
                  <a:pt x="833" y="94"/>
                  <a:pt x="840" y="100"/>
                </a:cubicBezTo>
                <a:cubicBezTo>
                  <a:pt x="854" y="113"/>
                  <a:pt x="888" y="132"/>
                  <a:pt x="888" y="132"/>
                </a:cubicBezTo>
                <a:cubicBezTo>
                  <a:pt x="893" y="140"/>
                  <a:pt x="897" y="149"/>
                  <a:pt x="904" y="156"/>
                </a:cubicBezTo>
                <a:cubicBezTo>
                  <a:pt x="911" y="163"/>
                  <a:pt x="927" y="162"/>
                  <a:pt x="928" y="172"/>
                </a:cubicBezTo>
                <a:cubicBezTo>
                  <a:pt x="933" y="236"/>
                  <a:pt x="927" y="300"/>
                  <a:pt x="920" y="364"/>
                </a:cubicBezTo>
                <a:cubicBezTo>
                  <a:pt x="919" y="373"/>
                  <a:pt x="886" y="410"/>
                  <a:pt x="880" y="412"/>
                </a:cubicBezTo>
                <a:cubicBezTo>
                  <a:pt x="852" y="420"/>
                  <a:pt x="821" y="417"/>
                  <a:pt x="792" y="420"/>
                </a:cubicBezTo>
                <a:cubicBezTo>
                  <a:pt x="738" y="438"/>
                  <a:pt x="696" y="478"/>
                  <a:pt x="640" y="492"/>
                </a:cubicBezTo>
                <a:cubicBezTo>
                  <a:pt x="597" y="535"/>
                  <a:pt x="532" y="584"/>
                  <a:pt x="472" y="604"/>
                </a:cubicBezTo>
                <a:cubicBezTo>
                  <a:pt x="456" y="651"/>
                  <a:pt x="476" y="608"/>
                  <a:pt x="440" y="644"/>
                </a:cubicBezTo>
                <a:cubicBezTo>
                  <a:pt x="433" y="651"/>
                  <a:pt x="432" y="663"/>
                  <a:pt x="424" y="668"/>
                </a:cubicBezTo>
                <a:cubicBezTo>
                  <a:pt x="375" y="699"/>
                  <a:pt x="313" y="691"/>
                  <a:pt x="264" y="724"/>
                </a:cubicBezTo>
                <a:cubicBezTo>
                  <a:pt x="245" y="753"/>
                  <a:pt x="239" y="744"/>
                  <a:pt x="264" y="75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5"/>
          </p:cNvPr>
          <p:cNvSpPr/>
          <p:nvPr/>
        </p:nvSpPr>
        <p:spPr>
          <a:xfrm>
            <a:off x="4749840" y="2057400"/>
            <a:ext cx="1150920" cy="1436760"/>
          </a:xfrm>
          <a:custGeom>
            <a:avLst/>
            <a:gdLst/>
            <a:ahLst/>
            <a:rect l="l" t="t" r="r" b="b"/>
            <a:pathLst>
              <a:path w="725" h="905">
                <a:moveTo>
                  <a:pt x="632" y="816"/>
                </a:moveTo>
                <a:cubicBezTo>
                  <a:pt x="603" y="836"/>
                  <a:pt x="573" y="836"/>
                  <a:pt x="544" y="856"/>
                </a:cubicBezTo>
                <a:cubicBezTo>
                  <a:pt x="540" y="862"/>
                  <a:pt x="514" y="905"/>
                  <a:pt x="504" y="904"/>
                </a:cubicBezTo>
                <a:cubicBezTo>
                  <a:pt x="485" y="902"/>
                  <a:pt x="474" y="878"/>
                  <a:pt x="456" y="872"/>
                </a:cubicBezTo>
                <a:cubicBezTo>
                  <a:pt x="414" y="858"/>
                  <a:pt x="440" y="865"/>
                  <a:pt x="376" y="856"/>
                </a:cubicBezTo>
                <a:cubicBezTo>
                  <a:pt x="364" y="758"/>
                  <a:pt x="367" y="778"/>
                  <a:pt x="264" y="768"/>
                </a:cubicBezTo>
                <a:cubicBezTo>
                  <a:pt x="253" y="631"/>
                  <a:pt x="282" y="636"/>
                  <a:pt x="152" y="648"/>
                </a:cubicBezTo>
                <a:cubicBezTo>
                  <a:pt x="126" y="631"/>
                  <a:pt x="114" y="609"/>
                  <a:pt x="88" y="592"/>
                </a:cubicBezTo>
                <a:cubicBezTo>
                  <a:pt x="66" y="598"/>
                  <a:pt x="48" y="610"/>
                  <a:pt x="32" y="584"/>
                </a:cubicBezTo>
                <a:cubicBezTo>
                  <a:pt x="23" y="570"/>
                  <a:pt x="16" y="536"/>
                  <a:pt x="16" y="536"/>
                </a:cubicBezTo>
                <a:cubicBezTo>
                  <a:pt x="33" y="469"/>
                  <a:pt x="98" y="444"/>
                  <a:pt x="128" y="384"/>
                </a:cubicBezTo>
                <a:cubicBezTo>
                  <a:pt x="89" y="326"/>
                  <a:pt x="118" y="315"/>
                  <a:pt x="96" y="232"/>
                </a:cubicBezTo>
                <a:cubicBezTo>
                  <a:pt x="89" y="206"/>
                  <a:pt x="49" y="161"/>
                  <a:pt x="32" y="136"/>
                </a:cubicBezTo>
                <a:cubicBezTo>
                  <a:pt x="21" y="120"/>
                  <a:pt x="0" y="88"/>
                  <a:pt x="0" y="88"/>
                </a:cubicBezTo>
                <a:cubicBezTo>
                  <a:pt x="110" y="51"/>
                  <a:pt x="148" y="102"/>
                  <a:pt x="216" y="0"/>
                </a:cubicBezTo>
                <a:cubicBezTo>
                  <a:pt x="260" y="15"/>
                  <a:pt x="236" y="31"/>
                  <a:pt x="264" y="64"/>
                </a:cubicBezTo>
                <a:cubicBezTo>
                  <a:pt x="287" y="92"/>
                  <a:pt x="310" y="89"/>
                  <a:pt x="336" y="112"/>
                </a:cubicBezTo>
                <a:cubicBezTo>
                  <a:pt x="410" y="178"/>
                  <a:pt x="352" y="156"/>
                  <a:pt x="456" y="168"/>
                </a:cubicBezTo>
                <a:cubicBezTo>
                  <a:pt x="435" y="232"/>
                  <a:pt x="455" y="314"/>
                  <a:pt x="512" y="352"/>
                </a:cubicBezTo>
                <a:cubicBezTo>
                  <a:pt x="533" y="383"/>
                  <a:pt x="527" y="417"/>
                  <a:pt x="544" y="448"/>
                </a:cubicBezTo>
                <a:cubicBezTo>
                  <a:pt x="553" y="465"/>
                  <a:pt x="576" y="496"/>
                  <a:pt x="576" y="496"/>
                </a:cubicBezTo>
                <a:cubicBezTo>
                  <a:pt x="606" y="488"/>
                  <a:pt x="627" y="474"/>
                  <a:pt x="656" y="464"/>
                </a:cubicBezTo>
                <a:cubicBezTo>
                  <a:pt x="704" y="480"/>
                  <a:pt x="665" y="474"/>
                  <a:pt x="632" y="496"/>
                </a:cubicBezTo>
                <a:cubicBezTo>
                  <a:pt x="604" y="538"/>
                  <a:pt x="611" y="559"/>
                  <a:pt x="624" y="608"/>
                </a:cubicBezTo>
                <a:cubicBezTo>
                  <a:pt x="628" y="624"/>
                  <a:pt x="635" y="640"/>
                  <a:pt x="640" y="656"/>
                </a:cubicBezTo>
                <a:cubicBezTo>
                  <a:pt x="643" y="664"/>
                  <a:pt x="641" y="675"/>
                  <a:pt x="648" y="680"/>
                </a:cubicBezTo>
                <a:cubicBezTo>
                  <a:pt x="681" y="702"/>
                  <a:pt x="663" y="694"/>
                  <a:pt x="704" y="704"/>
                </a:cubicBezTo>
                <a:cubicBezTo>
                  <a:pt x="698" y="793"/>
                  <a:pt x="725" y="886"/>
                  <a:pt x="632" y="8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3411360" y="662040"/>
            <a:ext cx="1411560" cy="1128600"/>
          </a:xfrm>
          <a:custGeom>
            <a:avLst/>
            <a:gdLst/>
            <a:ahLst/>
            <a:rect l="l" t="t" r="r" b="b"/>
            <a:pathLst>
              <a:path w="889" h="711">
                <a:moveTo>
                  <a:pt x="555" y="535"/>
                </a:moveTo>
                <a:cubicBezTo>
                  <a:pt x="497" y="542"/>
                  <a:pt x="481" y="537"/>
                  <a:pt x="443" y="575"/>
                </a:cubicBezTo>
                <a:cubicBezTo>
                  <a:pt x="418" y="559"/>
                  <a:pt x="390" y="539"/>
                  <a:pt x="363" y="527"/>
                </a:cubicBezTo>
                <a:cubicBezTo>
                  <a:pt x="326" y="511"/>
                  <a:pt x="299" y="508"/>
                  <a:pt x="267" y="487"/>
                </a:cubicBezTo>
                <a:cubicBezTo>
                  <a:pt x="246" y="455"/>
                  <a:pt x="207" y="428"/>
                  <a:pt x="195" y="391"/>
                </a:cubicBezTo>
                <a:cubicBezTo>
                  <a:pt x="192" y="383"/>
                  <a:pt x="192" y="373"/>
                  <a:pt x="187" y="367"/>
                </a:cubicBezTo>
                <a:cubicBezTo>
                  <a:pt x="171" y="348"/>
                  <a:pt x="147" y="338"/>
                  <a:pt x="131" y="319"/>
                </a:cubicBezTo>
                <a:cubicBezTo>
                  <a:pt x="111" y="295"/>
                  <a:pt x="116" y="291"/>
                  <a:pt x="99" y="263"/>
                </a:cubicBezTo>
                <a:cubicBezTo>
                  <a:pt x="89" y="247"/>
                  <a:pt x="67" y="215"/>
                  <a:pt x="67" y="215"/>
                </a:cubicBezTo>
                <a:cubicBezTo>
                  <a:pt x="64" y="204"/>
                  <a:pt x="64" y="193"/>
                  <a:pt x="59" y="183"/>
                </a:cubicBezTo>
                <a:cubicBezTo>
                  <a:pt x="50" y="166"/>
                  <a:pt x="33" y="153"/>
                  <a:pt x="27" y="135"/>
                </a:cubicBezTo>
                <a:cubicBezTo>
                  <a:pt x="22" y="119"/>
                  <a:pt x="11" y="87"/>
                  <a:pt x="11" y="87"/>
                </a:cubicBezTo>
                <a:cubicBezTo>
                  <a:pt x="14" y="60"/>
                  <a:pt x="0" y="26"/>
                  <a:pt x="19" y="7"/>
                </a:cubicBezTo>
                <a:cubicBezTo>
                  <a:pt x="26" y="0"/>
                  <a:pt x="97" y="18"/>
                  <a:pt x="115" y="23"/>
                </a:cubicBezTo>
                <a:cubicBezTo>
                  <a:pt x="213" y="88"/>
                  <a:pt x="316" y="82"/>
                  <a:pt x="435" y="87"/>
                </a:cubicBezTo>
                <a:cubicBezTo>
                  <a:pt x="463" y="96"/>
                  <a:pt x="495" y="92"/>
                  <a:pt x="523" y="103"/>
                </a:cubicBezTo>
                <a:cubicBezTo>
                  <a:pt x="532" y="107"/>
                  <a:pt x="532" y="120"/>
                  <a:pt x="539" y="127"/>
                </a:cubicBezTo>
                <a:cubicBezTo>
                  <a:pt x="546" y="134"/>
                  <a:pt x="555" y="138"/>
                  <a:pt x="563" y="143"/>
                </a:cubicBezTo>
                <a:cubicBezTo>
                  <a:pt x="581" y="170"/>
                  <a:pt x="621" y="213"/>
                  <a:pt x="651" y="223"/>
                </a:cubicBezTo>
                <a:cubicBezTo>
                  <a:pt x="725" y="216"/>
                  <a:pt x="817" y="195"/>
                  <a:pt x="883" y="239"/>
                </a:cubicBezTo>
                <a:cubicBezTo>
                  <a:pt x="876" y="312"/>
                  <a:pt x="889" y="331"/>
                  <a:pt x="835" y="367"/>
                </a:cubicBezTo>
                <a:cubicBezTo>
                  <a:pt x="797" y="424"/>
                  <a:pt x="808" y="396"/>
                  <a:pt x="795" y="447"/>
                </a:cubicBezTo>
                <a:cubicBezTo>
                  <a:pt x="810" y="536"/>
                  <a:pt x="830" y="655"/>
                  <a:pt x="747" y="711"/>
                </a:cubicBezTo>
                <a:cubicBezTo>
                  <a:pt x="710" y="656"/>
                  <a:pt x="721" y="681"/>
                  <a:pt x="707" y="639"/>
                </a:cubicBezTo>
                <a:cubicBezTo>
                  <a:pt x="728" y="636"/>
                  <a:pt x="751" y="640"/>
                  <a:pt x="771" y="631"/>
                </a:cubicBezTo>
                <a:cubicBezTo>
                  <a:pt x="795" y="620"/>
                  <a:pt x="769" y="589"/>
                  <a:pt x="763" y="583"/>
                </a:cubicBezTo>
                <a:cubicBezTo>
                  <a:pt x="735" y="555"/>
                  <a:pt x="707" y="563"/>
                  <a:pt x="667" y="559"/>
                </a:cubicBezTo>
                <a:cubicBezTo>
                  <a:pt x="620" y="543"/>
                  <a:pt x="602" y="535"/>
                  <a:pt x="555" y="5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2540160" y="2550960"/>
            <a:ext cx="1601640" cy="1651320"/>
          </a:xfrm>
          <a:custGeom>
            <a:avLst/>
            <a:gdLst/>
            <a:ahLst/>
            <a:rect l="l" t="t" r="r" b="b"/>
            <a:pathLst>
              <a:path w="1009" h="1040">
                <a:moveTo>
                  <a:pt x="152" y="1017"/>
                </a:moveTo>
                <a:cubicBezTo>
                  <a:pt x="143" y="989"/>
                  <a:pt x="123" y="967"/>
                  <a:pt x="104" y="945"/>
                </a:cubicBezTo>
                <a:cubicBezTo>
                  <a:pt x="89" y="928"/>
                  <a:pt x="56" y="897"/>
                  <a:pt x="56" y="897"/>
                </a:cubicBezTo>
                <a:cubicBezTo>
                  <a:pt x="45" y="863"/>
                  <a:pt x="28" y="836"/>
                  <a:pt x="16" y="801"/>
                </a:cubicBezTo>
                <a:cubicBezTo>
                  <a:pt x="11" y="785"/>
                  <a:pt x="0" y="753"/>
                  <a:pt x="0" y="753"/>
                </a:cubicBezTo>
                <a:cubicBezTo>
                  <a:pt x="10" y="694"/>
                  <a:pt x="1" y="700"/>
                  <a:pt x="40" y="665"/>
                </a:cubicBezTo>
                <a:cubicBezTo>
                  <a:pt x="57" y="650"/>
                  <a:pt x="88" y="617"/>
                  <a:pt x="88" y="617"/>
                </a:cubicBezTo>
                <a:cubicBezTo>
                  <a:pt x="88" y="613"/>
                  <a:pt x="94" y="493"/>
                  <a:pt x="72" y="449"/>
                </a:cubicBezTo>
                <a:cubicBezTo>
                  <a:pt x="60" y="426"/>
                  <a:pt x="40" y="377"/>
                  <a:pt x="40" y="377"/>
                </a:cubicBezTo>
                <a:cubicBezTo>
                  <a:pt x="43" y="366"/>
                  <a:pt x="42" y="354"/>
                  <a:pt x="48" y="345"/>
                </a:cubicBezTo>
                <a:cubicBezTo>
                  <a:pt x="72" y="309"/>
                  <a:pt x="135" y="319"/>
                  <a:pt x="168" y="297"/>
                </a:cubicBezTo>
                <a:cubicBezTo>
                  <a:pt x="184" y="286"/>
                  <a:pt x="216" y="265"/>
                  <a:pt x="216" y="265"/>
                </a:cubicBezTo>
                <a:cubicBezTo>
                  <a:pt x="259" y="200"/>
                  <a:pt x="330" y="165"/>
                  <a:pt x="400" y="137"/>
                </a:cubicBezTo>
                <a:cubicBezTo>
                  <a:pt x="423" y="128"/>
                  <a:pt x="451" y="127"/>
                  <a:pt x="472" y="113"/>
                </a:cubicBezTo>
                <a:cubicBezTo>
                  <a:pt x="526" y="77"/>
                  <a:pt x="578" y="72"/>
                  <a:pt x="640" y="65"/>
                </a:cubicBezTo>
                <a:cubicBezTo>
                  <a:pt x="678" y="40"/>
                  <a:pt x="655" y="52"/>
                  <a:pt x="712" y="33"/>
                </a:cubicBezTo>
                <a:cubicBezTo>
                  <a:pt x="720" y="30"/>
                  <a:pt x="736" y="25"/>
                  <a:pt x="736" y="25"/>
                </a:cubicBezTo>
                <a:cubicBezTo>
                  <a:pt x="747" y="17"/>
                  <a:pt x="755" y="0"/>
                  <a:pt x="768" y="1"/>
                </a:cubicBezTo>
                <a:cubicBezTo>
                  <a:pt x="787" y="3"/>
                  <a:pt x="816" y="33"/>
                  <a:pt x="816" y="33"/>
                </a:cubicBezTo>
                <a:cubicBezTo>
                  <a:pt x="837" y="28"/>
                  <a:pt x="876" y="13"/>
                  <a:pt x="896" y="33"/>
                </a:cubicBezTo>
                <a:cubicBezTo>
                  <a:pt x="904" y="41"/>
                  <a:pt x="891" y="54"/>
                  <a:pt x="888" y="65"/>
                </a:cubicBezTo>
                <a:cubicBezTo>
                  <a:pt x="897" y="109"/>
                  <a:pt x="912" y="145"/>
                  <a:pt x="944" y="177"/>
                </a:cubicBezTo>
                <a:cubicBezTo>
                  <a:pt x="956" y="213"/>
                  <a:pt x="974" y="247"/>
                  <a:pt x="1000" y="273"/>
                </a:cubicBezTo>
                <a:cubicBezTo>
                  <a:pt x="1003" y="281"/>
                  <a:pt x="1008" y="289"/>
                  <a:pt x="1008" y="297"/>
                </a:cubicBezTo>
                <a:cubicBezTo>
                  <a:pt x="1008" y="342"/>
                  <a:pt x="1009" y="389"/>
                  <a:pt x="1000" y="433"/>
                </a:cubicBezTo>
                <a:cubicBezTo>
                  <a:pt x="996" y="452"/>
                  <a:pt x="929" y="457"/>
                  <a:pt x="928" y="457"/>
                </a:cubicBezTo>
                <a:cubicBezTo>
                  <a:pt x="891" y="466"/>
                  <a:pt x="862" y="477"/>
                  <a:pt x="832" y="497"/>
                </a:cubicBezTo>
                <a:cubicBezTo>
                  <a:pt x="812" y="557"/>
                  <a:pt x="841" y="485"/>
                  <a:pt x="800" y="537"/>
                </a:cubicBezTo>
                <a:cubicBezTo>
                  <a:pt x="789" y="551"/>
                  <a:pt x="786" y="570"/>
                  <a:pt x="776" y="585"/>
                </a:cubicBezTo>
                <a:cubicBezTo>
                  <a:pt x="791" y="645"/>
                  <a:pt x="761" y="663"/>
                  <a:pt x="728" y="713"/>
                </a:cubicBezTo>
                <a:cubicBezTo>
                  <a:pt x="714" y="735"/>
                  <a:pt x="715" y="791"/>
                  <a:pt x="688" y="809"/>
                </a:cubicBezTo>
                <a:cubicBezTo>
                  <a:pt x="679" y="815"/>
                  <a:pt x="667" y="814"/>
                  <a:pt x="656" y="817"/>
                </a:cubicBezTo>
                <a:cubicBezTo>
                  <a:pt x="618" y="791"/>
                  <a:pt x="611" y="764"/>
                  <a:pt x="600" y="721"/>
                </a:cubicBezTo>
                <a:cubicBezTo>
                  <a:pt x="541" y="736"/>
                  <a:pt x="538" y="782"/>
                  <a:pt x="480" y="801"/>
                </a:cubicBezTo>
                <a:cubicBezTo>
                  <a:pt x="459" y="822"/>
                  <a:pt x="426" y="833"/>
                  <a:pt x="408" y="857"/>
                </a:cubicBezTo>
                <a:cubicBezTo>
                  <a:pt x="381" y="893"/>
                  <a:pt x="353" y="923"/>
                  <a:pt x="328" y="961"/>
                </a:cubicBezTo>
                <a:cubicBezTo>
                  <a:pt x="301" y="1001"/>
                  <a:pt x="320" y="980"/>
                  <a:pt x="264" y="1017"/>
                </a:cubicBezTo>
                <a:cubicBezTo>
                  <a:pt x="256" y="1022"/>
                  <a:pt x="240" y="1033"/>
                  <a:pt x="240" y="1033"/>
                </a:cubicBezTo>
                <a:cubicBezTo>
                  <a:pt x="111" y="1019"/>
                  <a:pt x="207" y="1040"/>
                  <a:pt x="144" y="1009"/>
                </a:cubicBezTo>
                <a:cubicBezTo>
                  <a:pt x="141" y="1007"/>
                  <a:pt x="149" y="1014"/>
                  <a:pt x="152" y="10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9000" y="423720"/>
            <a:ext cx="4324320" cy="585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4440" y="-76320"/>
            <a:ext cx="864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jetím kurzorem a následným kliknutím na spolkové státy Německa zjistíte více informací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/>
          </p:cNvPr>
          <p:cNvSpPr/>
          <p:nvPr/>
        </p:nvSpPr>
        <p:spPr>
          <a:xfrm>
            <a:off x="2987640" y="4365720"/>
            <a:ext cx="1381320" cy="1654200"/>
          </a:xfrm>
          <a:custGeom>
            <a:avLst/>
            <a:gdLst/>
            <a:ahLst/>
            <a:rect l="l" t="t" r="r" b="b"/>
            <a:pathLst>
              <a:path w="870" h="1042">
                <a:moveTo>
                  <a:pt x="2" y="1010"/>
                </a:moveTo>
                <a:cubicBezTo>
                  <a:pt x="5" y="914"/>
                  <a:pt x="3" y="818"/>
                  <a:pt x="10" y="722"/>
                </a:cubicBezTo>
                <a:cubicBezTo>
                  <a:pt x="11" y="712"/>
                  <a:pt x="22" y="707"/>
                  <a:pt x="26" y="698"/>
                </a:cubicBezTo>
                <a:cubicBezTo>
                  <a:pt x="48" y="653"/>
                  <a:pt x="70" y="619"/>
                  <a:pt x="82" y="570"/>
                </a:cubicBezTo>
                <a:cubicBezTo>
                  <a:pt x="86" y="516"/>
                  <a:pt x="63" y="438"/>
                  <a:pt x="122" y="418"/>
                </a:cubicBezTo>
                <a:cubicBezTo>
                  <a:pt x="130" y="410"/>
                  <a:pt x="137" y="400"/>
                  <a:pt x="146" y="394"/>
                </a:cubicBezTo>
                <a:cubicBezTo>
                  <a:pt x="153" y="389"/>
                  <a:pt x="163" y="391"/>
                  <a:pt x="170" y="386"/>
                </a:cubicBezTo>
                <a:cubicBezTo>
                  <a:pt x="178" y="380"/>
                  <a:pt x="179" y="368"/>
                  <a:pt x="186" y="362"/>
                </a:cubicBezTo>
                <a:cubicBezTo>
                  <a:pt x="200" y="349"/>
                  <a:pt x="234" y="330"/>
                  <a:pt x="234" y="330"/>
                </a:cubicBezTo>
                <a:cubicBezTo>
                  <a:pt x="276" y="266"/>
                  <a:pt x="278" y="229"/>
                  <a:pt x="250" y="146"/>
                </a:cubicBezTo>
                <a:cubicBezTo>
                  <a:pt x="253" y="125"/>
                  <a:pt x="243" y="97"/>
                  <a:pt x="258" y="82"/>
                </a:cubicBezTo>
                <a:cubicBezTo>
                  <a:pt x="269" y="71"/>
                  <a:pt x="290" y="90"/>
                  <a:pt x="306" y="90"/>
                </a:cubicBezTo>
                <a:cubicBezTo>
                  <a:pt x="335" y="90"/>
                  <a:pt x="365" y="85"/>
                  <a:pt x="394" y="82"/>
                </a:cubicBezTo>
                <a:cubicBezTo>
                  <a:pt x="467" y="67"/>
                  <a:pt x="533" y="55"/>
                  <a:pt x="586" y="2"/>
                </a:cubicBezTo>
                <a:cubicBezTo>
                  <a:pt x="599" y="5"/>
                  <a:pt x="616" y="0"/>
                  <a:pt x="626" y="10"/>
                </a:cubicBezTo>
                <a:cubicBezTo>
                  <a:pt x="643" y="27"/>
                  <a:pt x="629" y="81"/>
                  <a:pt x="658" y="106"/>
                </a:cubicBezTo>
                <a:cubicBezTo>
                  <a:pt x="744" y="181"/>
                  <a:pt x="674" y="115"/>
                  <a:pt x="730" y="146"/>
                </a:cubicBezTo>
                <a:cubicBezTo>
                  <a:pt x="747" y="155"/>
                  <a:pt x="762" y="167"/>
                  <a:pt x="778" y="178"/>
                </a:cubicBezTo>
                <a:cubicBezTo>
                  <a:pt x="786" y="183"/>
                  <a:pt x="802" y="194"/>
                  <a:pt x="802" y="194"/>
                </a:cubicBezTo>
                <a:cubicBezTo>
                  <a:pt x="815" y="234"/>
                  <a:pt x="835" y="253"/>
                  <a:pt x="850" y="298"/>
                </a:cubicBezTo>
                <a:cubicBezTo>
                  <a:pt x="855" y="314"/>
                  <a:pt x="866" y="346"/>
                  <a:pt x="866" y="346"/>
                </a:cubicBezTo>
                <a:cubicBezTo>
                  <a:pt x="863" y="383"/>
                  <a:pt x="870" y="423"/>
                  <a:pt x="858" y="458"/>
                </a:cubicBezTo>
                <a:cubicBezTo>
                  <a:pt x="854" y="470"/>
                  <a:pt x="761" y="560"/>
                  <a:pt x="746" y="570"/>
                </a:cubicBezTo>
                <a:cubicBezTo>
                  <a:pt x="730" y="617"/>
                  <a:pt x="751" y="660"/>
                  <a:pt x="762" y="706"/>
                </a:cubicBezTo>
                <a:cubicBezTo>
                  <a:pt x="759" y="784"/>
                  <a:pt x="794" y="890"/>
                  <a:pt x="722" y="938"/>
                </a:cubicBezTo>
                <a:cubicBezTo>
                  <a:pt x="714" y="961"/>
                  <a:pt x="715" y="972"/>
                  <a:pt x="690" y="986"/>
                </a:cubicBezTo>
                <a:cubicBezTo>
                  <a:pt x="675" y="994"/>
                  <a:pt x="642" y="1002"/>
                  <a:pt x="642" y="1002"/>
                </a:cubicBezTo>
                <a:cubicBezTo>
                  <a:pt x="609" y="991"/>
                  <a:pt x="580" y="979"/>
                  <a:pt x="546" y="970"/>
                </a:cubicBezTo>
                <a:cubicBezTo>
                  <a:pt x="530" y="966"/>
                  <a:pt x="498" y="954"/>
                  <a:pt x="498" y="954"/>
                </a:cubicBezTo>
                <a:cubicBezTo>
                  <a:pt x="445" y="957"/>
                  <a:pt x="391" y="955"/>
                  <a:pt x="338" y="962"/>
                </a:cubicBezTo>
                <a:cubicBezTo>
                  <a:pt x="311" y="966"/>
                  <a:pt x="314" y="988"/>
                  <a:pt x="298" y="1002"/>
                </a:cubicBezTo>
                <a:cubicBezTo>
                  <a:pt x="257" y="1038"/>
                  <a:pt x="256" y="1033"/>
                  <a:pt x="210" y="1042"/>
                </a:cubicBezTo>
                <a:cubicBezTo>
                  <a:pt x="149" y="1039"/>
                  <a:pt x="87" y="1041"/>
                  <a:pt x="26" y="1034"/>
                </a:cubicBezTo>
                <a:cubicBezTo>
                  <a:pt x="0" y="1031"/>
                  <a:pt x="2" y="1024"/>
                  <a:pt x="2" y="101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/>
          </p:cNvPr>
          <p:cNvSpPr/>
          <p:nvPr/>
        </p:nvSpPr>
        <p:spPr>
          <a:xfrm>
            <a:off x="3708360" y="3716280"/>
            <a:ext cx="2413080" cy="2463840"/>
          </a:xfrm>
          <a:custGeom>
            <a:avLst/>
            <a:gdLst/>
            <a:ahLst/>
            <a:rect l="l" t="t" r="r" b="b"/>
            <a:pathLst>
              <a:path w="1520" h="1552">
                <a:moveTo>
                  <a:pt x="535" y="1472"/>
                </a:moveTo>
                <a:cubicBezTo>
                  <a:pt x="548" y="1480"/>
                  <a:pt x="561" y="1490"/>
                  <a:pt x="575" y="1496"/>
                </a:cubicBezTo>
                <a:cubicBezTo>
                  <a:pt x="590" y="1503"/>
                  <a:pt x="608" y="1504"/>
                  <a:pt x="623" y="1512"/>
                </a:cubicBezTo>
                <a:cubicBezTo>
                  <a:pt x="635" y="1518"/>
                  <a:pt x="643" y="1530"/>
                  <a:pt x="655" y="1536"/>
                </a:cubicBezTo>
                <a:cubicBezTo>
                  <a:pt x="670" y="1544"/>
                  <a:pt x="703" y="1552"/>
                  <a:pt x="703" y="1552"/>
                </a:cubicBezTo>
                <a:cubicBezTo>
                  <a:pt x="847" y="1549"/>
                  <a:pt x="991" y="1551"/>
                  <a:pt x="1135" y="1544"/>
                </a:cubicBezTo>
                <a:cubicBezTo>
                  <a:pt x="1188" y="1541"/>
                  <a:pt x="1256" y="1504"/>
                  <a:pt x="1303" y="1480"/>
                </a:cubicBezTo>
                <a:cubicBezTo>
                  <a:pt x="1330" y="1466"/>
                  <a:pt x="1391" y="1456"/>
                  <a:pt x="1391" y="1456"/>
                </a:cubicBezTo>
                <a:cubicBezTo>
                  <a:pt x="1447" y="1419"/>
                  <a:pt x="1428" y="1440"/>
                  <a:pt x="1455" y="1400"/>
                </a:cubicBezTo>
                <a:cubicBezTo>
                  <a:pt x="1450" y="1352"/>
                  <a:pt x="1452" y="1315"/>
                  <a:pt x="1431" y="1272"/>
                </a:cubicBezTo>
                <a:cubicBezTo>
                  <a:pt x="1426" y="1261"/>
                  <a:pt x="1419" y="1251"/>
                  <a:pt x="1415" y="1240"/>
                </a:cubicBezTo>
                <a:cubicBezTo>
                  <a:pt x="1409" y="1224"/>
                  <a:pt x="1399" y="1192"/>
                  <a:pt x="1399" y="1192"/>
                </a:cubicBezTo>
                <a:cubicBezTo>
                  <a:pt x="1396" y="1141"/>
                  <a:pt x="1396" y="1091"/>
                  <a:pt x="1391" y="1040"/>
                </a:cubicBezTo>
                <a:cubicBezTo>
                  <a:pt x="1388" y="1007"/>
                  <a:pt x="1373" y="1025"/>
                  <a:pt x="1391" y="992"/>
                </a:cubicBezTo>
                <a:cubicBezTo>
                  <a:pt x="1444" y="896"/>
                  <a:pt x="1396" y="987"/>
                  <a:pt x="1471" y="912"/>
                </a:cubicBezTo>
                <a:cubicBezTo>
                  <a:pt x="1487" y="896"/>
                  <a:pt x="1519" y="864"/>
                  <a:pt x="1519" y="864"/>
                </a:cubicBezTo>
                <a:cubicBezTo>
                  <a:pt x="1516" y="816"/>
                  <a:pt x="1520" y="767"/>
                  <a:pt x="1511" y="720"/>
                </a:cubicBezTo>
                <a:cubicBezTo>
                  <a:pt x="1509" y="711"/>
                  <a:pt x="1494" y="711"/>
                  <a:pt x="1487" y="704"/>
                </a:cubicBezTo>
                <a:cubicBezTo>
                  <a:pt x="1480" y="697"/>
                  <a:pt x="1478" y="687"/>
                  <a:pt x="1471" y="680"/>
                </a:cubicBezTo>
                <a:cubicBezTo>
                  <a:pt x="1446" y="655"/>
                  <a:pt x="1415" y="643"/>
                  <a:pt x="1391" y="616"/>
                </a:cubicBezTo>
                <a:cubicBezTo>
                  <a:pt x="1333" y="549"/>
                  <a:pt x="1278" y="479"/>
                  <a:pt x="1215" y="416"/>
                </a:cubicBezTo>
                <a:cubicBezTo>
                  <a:pt x="1178" y="379"/>
                  <a:pt x="1125" y="357"/>
                  <a:pt x="1095" y="312"/>
                </a:cubicBezTo>
                <a:cubicBezTo>
                  <a:pt x="1079" y="288"/>
                  <a:pt x="1063" y="264"/>
                  <a:pt x="1047" y="240"/>
                </a:cubicBezTo>
                <a:cubicBezTo>
                  <a:pt x="1024" y="206"/>
                  <a:pt x="1032" y="149"/>
                  <a:pt x="999" y="120"/>
                </a:cubicBezTo>
                <a:cubicBezTo>
                  <a:pt x="923" y="54"/>
                  <a:pt x="834" y="12"/>
                  <a:pt x="735" y="0"/>
                </a:cubicBezTo>
                <a:cubicBezTo>
                  <a:pt x="627" y="27"/>
                  <a:pt x="730" y="21"/>
                  <a:pt x="535" y="32"/>
                </a:cubicBezTo>
                <a:cubicBezTo>
                  <a:pt x="492" y="61"/>
                  <a:pt x="467" y="107"/>
                  <a:pt x="423" y="136"/>
                </a:cubicBezTo>
                <a:cubicBezTo>
                  <a:pt x="400" y="132"/>
                  <a:pt x="368" y="134"/>
                  <a:pt x="351" y="112"/>
                </a:cubicBezTo>
                <a:cubicBezTo>
                  <a:pt x="346" y="105"/>
                  <a:pt x="349" y="94"/>
                  <a:pt x="343" y="88"/>
                </a:cubicBezTo>
                <a:cubicBezTo>
                  <a:pt x="326" y="71"/>
                  <a:pt x="271" y="32"/>
                  <a:pt x="247" y="24"/>
                </a:cubicBezTo>
                <a:cubicBezTo>
                  <a:pt x="183" y="40"/>
                  <a:pt x="162" y="98"/>
                  <a:pt x="135" y="152"/>
                </a:cubicBezTo>
                <a:cubicBezTo>
                  <a:pt x="116" y="190"/>
                  <a:pt x="66" y="241"/>
                  <a:pt x="31" y="264"/>
                </a:cubicBezTo>
                <a:cubicBezTo>
                  <a:pt x="2" y="308"/>
                  <a:pt x="0" y="353"/>
                  <a:pt x="47" y="384"/>
                </a:cubicBezTo>
                <a:cubicBezTo>
                  <a:pt x="121" y="369"/>
                  <a:pt x="120" y="369"/>
                  <a:pt x="215" y="376"/>
                </a:cubicBezTo>
                <a:cubicBezTo>
                  <a:pt x="246" y="386"/>
                  <a:pt x="281" y="425"/>
                  <a:pt x="295" y="456"/>
                </a:cubicBezTo>
                <a:cubicBezTo>
                  <a:pt x="302" y="471"/>
                  <a:pt x="311" y="504"/>
                  <a:pt x="311" y="504"/>
                </a:cubicBezTo>
                <a:cubicBezTo>
                  <a:pt x="314" y="533"/>
                  <a:pt x="315" y="563"/>
                  <a:pt x="319" y="592"/>
                </a:cubicBezTo>
                <a:cubicBezTo>
                  <a:pt x="320" y="601"/>
                  <a:pt x="370" y="699"/>
                  <a:pt x="383" y="712"/>
                </a:cubicBezTo>
                <a:cubicBezTo>
                  <a:pt x="399" y="728"/>
                  <a:pt x="411" y="729"/>
                  <a:pt x="431" y="736"/>
                </a:cubicBezTo>
                <a:cubicBezTo>
                  <a:pt x="459" y="819"/>
                  <a:pt x="457" y="804"/>
                  <a:pt x="431" y="968"/>
                </a:cubicBezTo>
                <a:cubicBezTo>
                  <a:pt x="427" y="995"/>
                  <a:pt x="400" y="1014"/>
                  <a:pt x="391" y="1040"/>
                </a:cubicBezTo>
                <a:cubicBezTo>
                  <a:pt x="382" y="1265"/>
                  <a:pt x="405" y="1182"/>
                  <a:pt x="367" y="1296"/>
                </a:cubicBezTo>
                <a:cubicBezTo>
                  <a:pt x="359" y="1320"/>
                  <a:pt x="351" y="1344"/>
                  <a:pt x="343" y="1368"/>
                </a:cubicBezTo>
                <a:cubicBezTo>
                  <a:pt x="338" y="1384"/>
                  <a:pt x="327" y="1416"/>
                  <a:pt x="327" y="1416"/>
                </a:cubicBezTo>
                <a:cubicBezTo>
                  <a:pt x="334" y="1462"/>
                  <a:pt x="334" y="1483"/>
                  <a:pt x="359" y="1520"/>
                </a:cubicBezTo>
                <a:cubicBezTo>
                  <a:pt x="415" y="1517"/>
                  <a:pt x="472" y="1522"/>
                  <a:pt x="527" y="1512"/>
                </a:cubicBezTo>
                <a:cubicBezTo>
                  <a:pt x="558" y="1507"/>
                  <a:pt x="540" y="1482"/>
                  <a:pt x="535" y="14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/>
          </p:cNvPr>
          <p:cNvSpPr/>
          <p:nvPr/>
        </p:nvSpPr>
        <p:spPr>
          <a:xfrm>
            <a:off x="5508720" y="2133720"/>
            <a:ext cx="347400" cy="291960"/>
          </a:xfrm>
          <a:custGeom>
            <a:avLst/>
            <a:gdLst/>
            <a:ahLst/>
            <a:rect l="l" t="t" r="r" b="b"/>
            <a:pathLst>
              <a:path w="219" h="184">
                <a:moveTo>
                  <a:pt x="107" y="21"/>
                </a:moveTo>
                <a:cubicBezTo>
                  <a:pt x="94" y="18"/>
                  <a:pt x="80" y="9"/>
                  <a:pt x="67" y="13"/>
                </a:cubicBezTo>
                <a:cubicBezTo>
                  <a:pt x="58" y="16"/>
                  <a:pt x="55" y="28"/>
                  <a:pt x="51" y="37"/>
                </a:cubicBezTo>
                <a:cubicBezTo>
                  <a:pt x="14" y="120"/>
                  <a:pt x="58" y="54"/>
                  <a:pt x="11" y="117"/>
                </a:cubicBezTo>
                <a:cubicBezTo>
                  <a:pt x="8" y="125"/>
                  <a:pt x="0" y="133"/>
                  <a:pt x="3" y="141"/>
                </a:cubicBezTo>
                <a:cubicBezTo>
                  <a:pt x="14" y="169"/>
                  <a:pt x="75" y="165"/>
                  <a:pt x="99" y="173"/>
                </a:cubicBezTo>
                <a:cubicBezTo>
                  <a:pt x="134" y="170"/>
                  <a:pt x="174" y="184"/>
                  <a:pt x="203" y="165"/>
                </a:cubicBezTo>
                <a:cubicBezTo>
                  <a:pt x="219" y="155"/>
                  <a:pt x="202" y="127"/>
                  <a:pt x="195" y="109"/>
                </a:cubicBezTo>
                <a:cubicBezTo>
                  <a:pt x="190" y="95"/>
                  <a:pt x="157" y="49"/>
                  <a:pt x="139" y="37"/>
                </a:cubicBezTo>
                <a:cubicBezTo>
                  <a:pt x="84" y="0"/>
                  <a:pt x="133" y="47"/>
                  <a:pt x="107" y="2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"/>
          </p:cNvPr>
          <p:cNvSpPr/>
          <p:nvPr/>
        </p:nvSpPr>
        <p:spPr>
          <a:xfrm>
            <a:off x="4788000" y="1628640"/>
            <a:ext cx="1528560" cy="1179720"/>
          </a:xfrm>
          <a:custGeom>
            <a:avLst/>
            <a:gdLst/>
            <a:ahLst/>
            <a:rect l="l" t="t" r="r" b="b"/>
            <a:pathLst>
              <a:path w="963" h="743">
                <a:moveTo>
                  <a:pt x="280" y="511"/>
                </a:moveTo>
                <a:cubicBezTo>
                  <a:pt x="271" y="485"/>
                  <a:pt x="240" y="439"/>
                  <a:pt x="240" y="439"/>
                </a:cubicBezTo>
                <a:cubicBezTo>
                  <a:pt x="237" y="412"/>
                  <a:pt x="240" y="384"/>
                  <a:pt x="232" y="359"/>
                </a:cubicBezTo>
                <a:cubicBezTo>
                  <a:pt x="224" y="335"/>
                  <a:pt x="149" y="329"/>
                  <a:pt x="136" y="327"/>
                </a:cubicBezTo>
                <a:cubicBezTo>
                  <a:pt x="125" y="316"/>
                  <a:pt x="116" y="304"/>
                  <a:pt x="104" y="295"/>
                </a:cubicBezTo>
                <a:cubicBezTo>
                  <a:pt x="97" y="290"/>
                  <a:pt x="87" y="292"/>
                  <a:pt x="80" y="287"/>
                </a:cubicBezTo>
                <a:cubicBezTo>
                  <a:pt x="50" y="267"/>
                  <a:pt x="20" y="221"/>
                  <a:pt x="0" y="191"/>
                </a:cubicBezTo>
                <a:cubicBezTo>
                  <a:pt x="19" y="95"/>
                  <a:pt x="82" y="103"/>
                  <a:pt x="168" y="95"/>
                </a:cubicBezTo>
                <a:cubicBezTo>
                  <a:pt x="203" y="98"/>
                  <a:pt x="238" y="97"/>
                  <a:pt x="272" y="103"/>
                </a:cubicBezTo>
                <a:cubicBezTo>
                  <a:pt x="299" y="108"/>
                  <a:pt x="309" y="149"/>
                  <a:pt x="336" y="167"/>
                </a:cubicBezTo>
                <a:cubicBezTo>
                  <a:pt x="346" y="198"/>
                  <a:pt x="352" y="212"/>
                  <a:pt x="384" y="223"/>
                </a:cubicBezTo>
                <a:cubicBezTo>
                  <a:pt x="431" y="207"/>
                  <a:pt x="462" y="187"/>
                  <a:pt x="504" y="159"/>
                </a:cubicBezTo>
                <a:cubicBezTo>
                  <a:pt x="520" y="148"/>
                  <a:pt x="534" y="133"/>
                  <a:pt x="552" y="127"/>
                </a:cubicBezTo>
                <a:cubicBezTo>
                  <a:pt x="594" y="113"/>
                  <a:pt x="569" y="124"/>
                  <a:pt x="624" y="87"/>
                </a:cubicBezTo>
                <a:cubicBezTo>
                  <a:pt x="635" y="80"/>
                  <a:pt x="647" y="72"/>
                  <a:pt x="656" y="63"/>
                </a:cubicBezTo>
                <a:cubicBezTo>
                  <a:pt x="663" y="56"/>
                  <a:pt x="664" y="45"/>
                  <a:pt x="672" y="39"/>
                </a:cubicBezTo>
                <a:cubicBezTo>
                  <a:pt x="684" y="30"/>
                  <a:pt x="728" y="12"/>
                  <a:pt x="744" y="7"/>
                </a:cubicBezTo>
                <a:cubicBezTo>
                  <a:pt x="833" y="29"/>
                  <a:pt x="761" y="0"/>
                  <a:pt x="784" y="183"/>
                </a:cubicBezTo>
                <a:cubicBezTo>
                  <a:pt x="789" y="222"/>
                  <a:pt x="869" y="237"/>
                  <a:pt x="896" y="255"/>
                </a:cubicBezTo>
                <a:cubicBezTo>
                  <a:pt x="922" y="332"/>
                  <a:pt x="880" y="212"/>
                  <a:pt x="920" y="311"/>
                </a:cubicBezTo>
                <a:cubicBezTo>
                  <a:pt x="926" y="327"/>
                  <a:pt x="936" y="359"/>
                  <a:pt x="936" y="359"/>
                </a:cubicBezTo>
                <a:cubicBezTo>
                  <a:pt x="941" y="445"/>
                  <a:pt x="952" y="522"/>
                  <a:pt x="960" y="607"/>
                </a:cubicBezTo>
                <a:cubicBezTo>
                  <a:pt x="957" y="650"/>
                  <a:pt x="963" y="694"/>
                  <a:pt x="952" y="735"/>
                </a:cubicBezTo>
                <a:cubicBezTo>
                  <a:pt x="950" y="743"/>
                  <a:pt x="935" y="732"/>
                  <a:pt x="928" y="727"/>
                </a:cubicBezTo>
                <a:cubicBezTo>
                  <a:pt x="920" y="721"/>
                  <a:pt x="918" y="710"/>
                  <a:pt x="912" y="703"/>
                </a:cubicBezTo>
                <a:cubicBezTo>
                  <a:pt x="889" y="675"/>
                  <a:pt x="894" y="681"/>
                  <a:pt x="864" y="671"/>
                </a:cubicBezTo>
                <a:cubicBezTo>
                  <a:pt x="751" y="685"/>
                  <a:pt x="641" y="688"/>
                  <a:pt x="528" y="679"/>
                </a:cubicBezTo>
                <a:cubicBezTo>
                  <a:pt x="487" y="665"/>
                  <a:pt x="475" y="630"/>
                  <a:pt x="440" y="607"/>
                </a:cubicBezTo>
                <a:cubicBezTo>
                  <a:pt x="399" y="615"/>
                  <a:pt x="359" y="626"/>
                  <a:pt x="320" y="639"/>
                </a:cubicBezTo>
                <a:cubicBezTo>
                  <a:pt x="317" y="631"/>
                  <a:pt x="309" y="623"/>
                  <a:pt x="312" y="615"/>
                </a:cubicBezTo>
                <a:cubicBezTo>
                  <a:pt x="322" y="584"/>
                  <a:pt x="374" y="574"/>
                  <a:pt x="400" y="567"/>
                </a:cubicBezTo>
                <a:cubicBezTo>
                  <a:pt x="515" y="491"/>
                  <a:pt x="429" y="536"/>
                  <a:pt x="688" y="527"/>
                </a:cubicBezTo>
                <a:cubicBezTo>
                  <a:pt x="662" y="489"/>
                  <a:pt x="628" y="467"/>
                  <a:pt x="688" y="447"/>
                </a:cubicBezTo>
                <a:cubicBezTo>
                  <a:pt x="697" y="421"/>
                  <a:pt x="692" y="375"/>
                  <a:pt x="680" y="351"/>
                </a:cubicBezTo>
                <a:cubicBezTo>
                  <a:pt x="676" y="342"/>
                  <a:pt x="664" y="340"/>
                  <a:pt x="656" y="335"/>
                </a:cubicBezTo>
                <a:cubicBezTo>
                  <a:pt x="608" y="263"/>
                  <a:pt x="613" y="280"/>
                  <a:pt x="512" y="271"/>
                </a:cubicBezTo>
                <a:cubicBezTo>
                  <a:pt x="422" y="294"/>
                  <a:pt x="513" y="342"/>
                  <a:pt x="448" y="407"/>
                </a:cubicBezTo>
                <a:cubicBezTo>
                  <a:pt x="455" y="440"/>
                  <a:pt x="465" y="469"/>
                  <a:pt x="448" y="503"/>
                </a:cubicBezTo>
                <a:cubicBezTo>
                  <a:pt x="444" y="511"/>
                  <a:pt x="432" y="507"/>
                  <a:pt x="424" y="511"/>
                </a:cubicBezTo>
                <a:cubicBezTo>
                  <a:pt x="397" y="525"/>
                  <a:pt x="373" y="533"/>
                  <a:pt x="344" y="543"/>
                </a:cubicBezTo>
                <a:cubicBezTo>
                  <a:pt x="292" y="508"/>
                  <a:pt x="315" y="511"/>
                  <a:pt x="280" y="5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6"/>
          </p:cNvPr>
          <p:cNvSpPr/>
          <p:nvPr/>
        </p:nvSpPr>
        <p:spPr>
          <a:xfrm>
            <a:off x="3276720" y="1628640"/>
            <a:ext cx="593640" cy="309600"/>
          </a:xfrm>
          <a:custGeom>
            <a:avLst/>
            <a:gdLst/>
            <a:ahLst/>
            <a:rect l="l" t="t" r="r" b="b"/>
            <a:pathLst>
              <a:path w="374" h="195">
                <a:moveTo>
                  <a:pt x="310" y="192"/>
                </a:moveTo>
                <a:cubicBezTo>
                  <a:pt x="302" y="189"/>
                  <a:pt x="294" y="184"/>
                  <a:pt x="286" y="184"/>
                </a:cubicBezTo>
                <a:cubicBezTo>
                  <a:pt x="203" y="179"/>
                  <a:pt x="119" y="195"/>
                  <a:pt x="38" y="176"/>
                </a:cubicBezTo>
                <a:cubicBezTo>
                  <a:pt x="0" y="167"/>
                  <a:pt x="68" y="104"/>
                  <a:pt x="70" y="104"/>
                </a:cubicBezTo>
                <a:cubicBezTo>
                  <a:pt x="112" y="95"/>
                  <a:pt x="155" y="99"/>
                  <a:pt x="198" y="96"/>
                </a:cubicBezTo>
                <a:cubicBezTo>
                  <a:pt x="160" y="39"/>
                  <a:pt x="180" y="62"/>
                  <a:pt x="142" y="24"/>
                </a:cubicBezTo>
                <a:cubicBezTo>
                  <a:pt x="178" y="0"/>
                  <a:pt x="163" y="2"/>
                  <a:pt x="222" y="16"/>
                </a:cubicBezTo>
                <a:cubicBezTo>
                  <a:pt x="238" y="20"/>
                  <a:pt x="270" y="32"/>
                  <a:pt x="270" y="32"/>
                </a:cubicBezTo>
                <a:cubicBezTo>
                  <a:pt x="285" y="54"/>
                  <a:pt x="291" y="85"/>
                  <a:pt x="310" y="104"/>
                </a:cubicBezTo>
                <a:cubicBezTo>
                  <a:pt x="325" y="119"/>
                  <a:pt x="343" y="129"/>
                  <a:pt x="358" y="144"/>
                </a:cubicBezTo>
                <a:cubicBezTo>
                  <a:pt x="374" y="192"/>
                  <a:pt x="351" y="192"/>
                  <a:pt x="310" y="19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7"/>
          </p:cNvPr>
          <p:cNvSpPr/>
          <p:nvPr/>
        </p:nvSpPr>
        <p:spPr>
          <a:xfrm>
            <a:off x="2771640" y="1197000"/>
            <a:ext cx="2108160" cy="1790640"/>
          </a:xfrm>
          <a:custGeom>
            <a:avLst/>
            <a:gdLst/>
            <a:ahLst/>
            <a:rect l="l" t="t" r="r" b="b"/>
            <a:pathLst>
              <a:path w="1328" h="1128">
                <a:moveTo>
                  <a:pt x="128" y="424"/>
                </a:moveTo>
                <a:cubicBezTo>
                  <a:pt x="120" y="385"/>
                  <a:pt x="110" y="361"/>
                  <a:pt x="88" y="328"/>
                </a:cubicBezTo>
                <a:cubicBezTo>
                  <a:pt x="74" y="273"/>
                  <a:pt x="34" y="229"/>
                  <a:pt x="0" y="184"/>
                </a:cubicBezTo>
                <a:cubicBezTo>
                  <a:pt x="11" y="151"/>
                  <a:pt x="31" y="141"/>
                  <a:pt x="64" y="128"/>
                </a:cubicBezTo>
                <a:cubicBezTo>
                  <a:pt x="119" y="106"/>
                  <a:pt x="174" y="82"/>
                  <a:pt x="232" y="72"/>
                </a:cubicBezTo>
                <a:cubicBezTo>
                  <a:pt x="256" y="75"/>
                  <a:pt x="283" y="69"/>
                  <a:pt x="304" y="80"/>
                </a:cubicBezTo>
                <a:cubicBezTo>
                  <a:pt x="350" y="105"/>
                  <a:pt x="322" y="142"/>
                  <a:pt x="376" y="160"/>
                </a:cubicBezTo>
                <a:cubicBezTo>
                  <a:pt x="392" y="157"/>
                  <a:pt x="412" y="163"/>
                  <a:pt x="424" y="152"/>
                </a:cubicBezTo>
                <a:cubicBezTo>
                  <a:pt x="434" y="143"/>
                  <a:pt x="426" y="124"/>
                  <a:pt x="432" y="112"/>
                </a:cubicBezTo>
                <a:cubicBezTo>
                  <a:pt x="437" y="102"/>
                  <a:pt x="449" y="97"/>
                  <a:pt x="456" y="88"/>
                </a:cubicBezTo>
                <a:cubicBezTo>
                  <a:pt x="492" y="42"/>
                  <a:pt x="509" y="15"/>
                  <a:pt x="568" y="0"/>
                </a:cubicBezTo>
                <a:cubicBezTo>
                  <a:pt x="602" y="11"/>
                  <a:pt x="672" y="24"/>
                  <a:pt x="672" y="24"/>
                </a:cubicBezTo>
                <a:cubicBezTo>
                  <a:pt x="692" y="104"/>
                  <a:pt x="666" y="82"/>
                  <a:pt x="728" y="96"/>
                </a:cubicBezTo>
                <a:cubicBezTo>
                  <a:pt x="739" y="98"/>
                  <a:pt x="749" y="101"/>
                  <a:pt x="760" y="104"/>
                </a:cubicBezTo>
                <a:cubicBezTo>
                  <a:pt x="785" y="121"/>
                  <a:pt x="796" y="148"/>
                  <a:pt x="824" y="160"/>
                </a:cubicBezTo>
                <a:cubicBezTo>
                  <a:pt x="883" y="185"/>
                  <a:pt x="953" y="183"/>
                  <a:pt x="1016" y="192"/>
                </a:cubicBezTo>
                <a:cubicBezTo>
                  <a:pt x="1053" y="204"/>
                  <a:pt x="1091" y="207"/>
                  <a:pt x="1128" y="216"/>
                </a:cubicBezTo>
                <a:cubicBezTo>
                  <a:pt x="1173" y="246"/>
                  <a:pt x="1209" y="257"/>
                  <a:pt x="1264" y="264"/>
                </a:cubicBezTo>
                <a:cubicBezTo>
                  <a:pt x="1321" y="283"/>
                  <a:pt x="1303" y="266"/>
                  <a:pt x="1328" y="304"/>
                </a:cubicBezTo>
                <a:cubicBezTo>
                  <a:pt x="1306" y="371"/>
                  <a:pt x="1245" y="347"/>
                  <a:pt x="1176" y="352"/>
                </a:cubicBezTo>
                <a:cubicBezTo>
                  <a:pt x="1171" y="357"/>
                  <a:pt x="1137" y="388"/>
                  <a:pt x="1136" y="400"/>
                </a:cubicBezTo>
                <a:cubicBezTo>
                  <a:pt x="1132" y="468"/>
                  <a:pt x="1134" y="537"/>
                  <a:pt x="1192" y="576"/>
                </a:cubicBezTo>
                <a:cubicBezTo>
                  <a:pt x="1186" y="701"/>
                  <a:pt x="1207" y="734"/>
                  <a:pt x="1120" y="792"/>
                </a:cubicBezTo>
                <a:cubicBezTo>
                  <a:pt x="1063" y="878"/>
                  <a:pt x="1087" y="821"/>
                  <a:pt x="1096" y="976"/>
                </a:cubicBezTo>
                <a:cubicBezTo>
                  <a:pt x="1093" y="987"/>
                  <a:pt x="1093" y="998"/>
                  <a:pt x="1088" y="1008"/>
                </a:cubicBezTo>
                <a:cubicBezTo>
                  <a:pt x="1062" y="1053"/>
                  <a:pt x="1007" y="1036"/>
                  <a:pt x="968" y="1056"/>
                </a:cubicBezTo>
                <a:cubicBezTo>
                  <a:pt x="936" y="1072"/>
                  <a:pt x="917" y="1101"/>
                  <a:pt x="896" y="1128"/>
                </a:cubicBezTo>
                <a:cubicBezTo>
                  <a:pt x="875" y="1096"/>
                  <a:pt x="868" y="1061"/>
                  <a:pt x="856" y="1024"/>
                </a:cubicBezTo>
                <a:cubicBezTo>
                  <a:pt x="849" y="1004"/>
                  <a:pt x="828" y="993"/>
                  <a:pt x="816" y="976"/>
                </a:cubicBezTo>
                <a:cubicBezTo>
                  <a:pt x="812" y="948"/>
                  <a:pt x="810" y="891"/>
                  <a:pt x="792" y="864"/>
                </a:cubicBezTo>
                <a:cubicBezTo>
                  <a:pt x="757" y="811"/>
                  <a:pt x="778" y="868"/>
                  <a:pt x="752" y="816"/>
                </a:cubicBezTo>
                <a:cubicBezTo>
                  <a:pt x="733" y="777"/>
                  <a:pt x="760" y="803"/>
                  <a:pt x="720" y="776"/>
                </a:cubicBezTo>
                <a:cubicBezTo>
                  <a:pt x="686" y="724"/>
                  <a:pt x="709" y="695"/>
                  <a:pt x="688" y="632"/>
                </a:cubicBezTo>
                <a:cubicBezTo>
                  <a:pt x="685" y="624"/>
                  <a:pt x="672" y="626"/>
                  <a:pt x="664" y="624"/>
                </a:cubicBezTo>
                <a:cubicBezTo>
                  <a:pt x="632" y="618"/>
                  <a:pt x="600" y="613"/>
                  <a:pt x="568" y="608"/>
                </a:cubicBezTo>
                <a:cubicBezTo>
                  <a:pt x="516" y="582"/>
                  <a:pt x="513" y="584"/>
                  <a:pt x="448" y="592"/>
                </a:cubicBezTo>
                <a:cubicBezTo>
                  <a:pt x="432" y="597"/>
                  <a:pt x="414" y="599"/>
                  <a:pt x="400" y="608"/>
                </a:cubicBezTo>
                <a:cubicBezTo>
                  <a:pt x="392" y="613"/>
                  <a:pt x="385" y="620"/>
                  <a:pt x="376" y="624"/>
                </a:cubicBezTo>
                <a:cubicBezTo>
                  <a:pt x="346" y="637"/>
                  <a:pt x="324" y="637"/>
                  <a:pt x="296" y="656"/>
                </a:cubicBezTo>
                <a:cubicBezTo>
                  <a:pt x="291" y="664"/>
                  <a:pt x="288" y="675"/>
                  <a:pt x="280" y="680"/>
                </a:cubicBezTo>
                <a:cubicBezTo>
                  <a:pt x="233" y="709"/>
                  <a:pt x="149" y="718"/>
                  <a:pt x="96" y="736"/>
                </a:cubicBezTo>
                <a:cubicBezTo>
                  <a:pt x="85" y="693"/>
                  <a:pt x="78" y="666"/>
                  <a:pt x="40" y="640"/>
                </a:cubicBezTo>
                <a:cubicBezTo>
                  <a:pt x="37" y="629"/>
                  <a:pt x="30" y="619"/>
                  <a:pt x="32" y="608"/>
                </a:cubicBezTo>
                <a:cubicBezTo>
                  <a:pt x="36" y="583"/>
                  <a:pt x="106" y="558"/>
                  <a:pt x="128" y="544"/>
                </a:cubicBezTo>
                <a:cubicBezTo>
                  <a:pt x="114" y="503"/>
                  <a:pt x="94" y="494"/>
                  <a:pt x="136" y="488"/>
                </a:cubicBezTo>
                <a:cubicBezTo>
                  <a:pt x="165" y="484"/>
                  <a:pt x="195" y="483"/>
                  <a:pt x="224" y="480"/>
                </a:cubicBezTo>
                <a:cubicBezTo>
                  <a:pt x="330" y="454"/>
                  <a:pt x="266" y="461"/>
                  <a:pt x="416" y="480"/>
                </a:cubicBezTo>
                <a:cubicBezTo>
                  <a:pt x="440" y="488"/>
                  <a:pt x="464" y="496"/>
                  <a:pt x="488" y="504"/>
                </a:cubicBezTo>
                <a:cubicBezTo>
                  <a:pt x="504" y="509"/>
                  <a:pt x="536" y="520"/>
                  <a:pt x="536" y="520"/>
                </a:cubicBezTo>
                <a:cubicBezTo>
                  <a:pt x="584" y="517"/>
                  <a:pt x="633" y="522"/>
                  <a:pt x="680" y="512"/>
                </a:cubicBezTo>
                <a:cubicBezTo>
                  <a:pt x="699" y="508"/>
                  <a:pt x="728" y="480"/>
                  <a:pt x="728" y="480"/>
                </a:cubicBezTo>
                <a:cubicBezTo>
                  <a:pt x="759" y="387"/>
                  <a:pt x="650" y="350"/>
                  <a:pt x="608" y="288"/>
                </a:cubicBezTo>
                <a:cubicBezTo>
                  <a:pt x="582" y="249"/>
                  <a:pt x="558" y="228"/>
                  <a:pt x="512" y="216"/>
                </a:cubicBezTo>
                <a:cubicBezTo>
                  <a:pt x="491" y="219"/>
                  <a:pt x="469" y="220"/>
                  <a:pt x="448" y="224"/>
                </a:cubicBezTo>
                <a:cubicBezTo>
                  <a:pt x="440" y="226"/>
                  <a:pt x="428" y="224"/>
                  <a:pt x="424" y="232"/>
                </a:cubicBezTo>
                <a:cubicBezTo>
                  <a:pt x="419" y="242"/>
                  <a:pt x="446" y="275"/>
                  <a:pt x="448" y="280"/>
                </a:cubicBezTo>
                <a:cubicBezTo>
                  <a:pt x="455" y="295"/>
                  <a:pt x="464" y="328"/>
                  <a:pt x="464" y="328"/>
                </a:cubicBezTo>
                <a:cubicBezTo>
                  <a:pt x="449" y="373"/>
                  <a:pt x="435" y="361"/>
                  <a:pt x="392" y="352"/>
                </a:cubicBezTo>
                <a:cubicBezTo>
                  <a:pt x="336" y="363"/>
                  <a:pt x="350" y="370"/>
                  <a:pt x="312" y="408"/>
                </a:cubicBezTo>
                <a:cubicBezTo>
                  <a:pt x="309" y="421"/>
                  <a:pt x="312" y="437"/>
                  <a:pt x="304" y="448"/>
                </a:cubicBezTo>
                <a:cubicBezTo>
                  <a:pt x="299" y="455"/>
                  <a:pt x="288" y="456"/>
                  <a:pt x="280" y="456"/>
                </a:cubicBezTo>
                <a:cubicBezTo>
                  <a:pt x="109" y="456"/>
                  <a:pt x="104" y="497"/>
                  <a:pt x="128" y="4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8"/>
          </p:cNvPr>
          <p:cNvSpPr/>
          <p:nvPr/>
        </p:nvSpPr>
        <p:spPr>
          <a:xfrm>
            <a:off x="4067280" y="2924280"/>
            <a:ext cx="1274760" cy="1028520"/>
          </a:xfrm>
          <a:custGeom>
            <a:avLst/>
            <a:gdLst/>
            <a:ahLst/>
            <a:rect l="l" t="t" r="r" b="b"/>
            <a:pathLst>
              <a:path w="803" h="648">
                <a:moveTo>
                  <a:pt x="16" y="432"/>
                </a:moveTo>
                <a:cubicBezTo>
                  <a:pt x="19" y="419"/>
                  <a:pt x="18" y="404"/>
                  <a:pt x="24" y="392"/>
                </a:cubicBezTo>
                <a:cubicBezTo>
                  <a:pt x="48" y="344"/>
                  <a:pt x="56" y="392"/>
                  <a:pt x="40" y="344"/>
                </a:cubicBezTo>
                <a:cubicBezTo>
                  <a:pt x="49" y="292"/>
                  <a:pt x="55" y="283"/>
                  <a:pt x="40" y="224"/>
                </a:cubicBezTo>
                <a:cubicBezTo>
                  <a:pt x="34" y="198"/>
                  <a:pt x="9" y="171"/>
                  <a:pt x="0" y="144"/>
                </a:cubicBezTo>
                <a:cubicBezTo>
                  <a:pt x="3" y="136"/>
                  <a:pt x="2" y="126"/>
                  <a:pt x="8" y="120"/>
                </a:cubicBezTo>
                <a:cubicBezTo>
                  <a:pt x="14" y="114"/>
                  <a:pt x="24" y="116"/>
                  <a:pt x="32" y="112"/>
                </a:cubicBezTo>
                <a:cubicBezTo>
                  <a:pt x="61" y="97"/>
                  <a:pt x="79" y="88"/>
                  <a:pt x="112" y="80"/>
                </a:cubicBezTo>
                <a:cubicBezTo>
                  <a:pt x="154" y="52"/>
                  <a:pt x="191" y="16"/>
                  <a:pt x="240" y="0"/>
                </a:cubicBezTo>
                <a:cubicBezTo>
                  <a:pt x="261" y="32"/>
                  <a:pt x="251" y="44"/>
                  <a:pt x="288" y="56"/>
                </a:cubicBezTo>
                <a:cubicBezTo>
                  <a:pt x="309" y="53"/>
                  <a:pt x="331" y="52"/>
                  <a:pt x="352" y="48"/>
                </a:cubicBezTo>
                <a:cubicBezTo>
                  <a:pt x="360" y="46"/>
                  <a:pt x="368" y="36"/>
                  <a:pt x="376" y="40"/>
                </a:cubicBezTo>
                <a:cubicBezTo>
                  <a:pt x="384" y="44"/>
                  <a:pt x="381" y="56"/>
                  <a:pt x="384" y="64"/>
                </a:cubicBezTo>
                <a:cubicBezTo>
                  <a:pt x="388" y="91"/>
                  <a:pt x="381" y="125"/>
                  <a:pt x="400" y="144"/>
                </a:cubicBezTo>
                <a:cubicBezTo>
                  <a:pt x="439" y="183"/>
                  <a:pt x="453" y="177"/>
                  <a:pt x="504" y="184"/>
                </a:cubicBezTo>
                <a:cubicBezTo>
                  <a:pt x="528" y="256"/>
                  <a:pt x="512" y="256"/>
                  <a:pt x="584" y="280"/>
                </a:cubicBezTo>
                <a:cubicBezTo>
                  <a:pt x="657" y="275"/>
                  <a:pt x="710" y="279"/>
                  <a:pt x="768" y="240"/>
                </a:cubicBezTo>
                <a:cubicBezTo>
                  <a:pt x="779" y="243"/>
                  <a:pt x="797" y="238"/>
                  <a:pt x="800" y="248"/>
                </a:cubicBezTo>
                <a:cubicBezTo>
                  <a:pt x="803" y="257"/>
                  <a:pt x="785" y="260"/>
                  <a:pt x="776" y="264"/>
                </a:cubicBezTo>
                <a:cubicBezTo>
                  <a:pt x="761" y="271"/>
                  <a:pt x="744" y="275"/>
                  <a:pt x="728" y="280"/>
                </a:cubicBezTo>
                <a:cubicBezTo>
                  <a:pt x="720" y="283"/>
                  <a:pt x="704" y="288"/>
                  <a:pt x="704" y="288"/>
                </a:cubicBezTo>
                <a:cubicBezTo>
                  <a:pt x="674" y="333"/>
                  <a:pt x="693" y="353"/>
                  <a:pt x="672" y="392"/>
                </a:cubicBezTo>
                <a:cubicBezTo>
                  <a:pt x="655" y="424"/>
                  <a:pt x="621" y="443"/>
                  <a:pt x="600" y="472"/>
                </a:cubicBezTo>
                <a:cubicBezTo>
                  <a:pt x="593" y="482"/>
                  <a:pt x="567" y="523"/>
                  <a:pt x="560" y="528"/>
                </a:cubicBezTo>
                <a:cubicBezTo>
                  <a:pt x="546" y="537"/>
                  <a:pt x="512" y="544"/>
                  <a:pt x="512" y="544"/>
                </a:cubicBezTo>
                <a:cubicBezTo>
                  <a:pt x="409" y="529"/>
                  <a:pt x="468" y="517"/>
                  <a:pt x="344" y="528"/>
                </a:cubicBezTo>
                <a:cubicBezTo>
                  <a:pt x="339" y="544"/>
                  <a:pt x="333" y="560"/>
                  <a:pt x="328" y="576"/>
                </a:cubicBezTo>
                <a:cubicBezTo>
                  <a:pt x="322" y="594"/>
                  <a:pt x="294" y="594"/>
                  <a:pt x="280" y="608"/>
                </a:cubicBezTo>
                <a:cubicBezTo>
                  <a:pt x="272" y="616"/>
                  <a:pt x="265" y="625"/>
                  <a:pt x="256" y="632"/>
                </a:cubicBezTo>
                <a:cubicBezTo>
                  <a:pt x="249" y="638"/>
                  <a:pt x="240" y="643"/>
                  <a:pt x="232" y="648"/>
                </a:cubicBezTo>
                <a:cubicBezTo>
                  <a:pt x="164" y="625"/>
                  <a:pt x="211" y="573"/>
                  <a:pt x="168" y="544"/>
                </a:cubicBezTo>
                <a:cubicBezTo>
                  <a:pt x="152" y="533"/>
                  <a:pt x="129" y="537"/>
                  <a:pt x="112" y="528"/>
                </a:cubicBezTo>
                <a:cubicBezTo>
                  <a:pt x="103" y="524"/>
                  <a:pt x="95" y="518"/>
                  <a:pt x="88" y="512"/>
                </a:cubicBezTo>
                <a:cubicBezTo>
                  <a:pt x="79" y="505"/>
                  <a:pt x="74" y="493"/>
                  <a:pt x="64" y="488"/>
                </a:cubicBezTo>
                <a:cubicBezTo>
                  <a:pt x="49" y="480"/>
                  <a:pt x="16" y="472"/>
                  <a:pt x="16" y="472"/>
                </a:cubicBezTo>
                <a:cubicBezTo>
                  <a:pt x="19" y="459"/>
                  <a:pt x="19" y="445"/>
                  <a:pt x="24" y="432"/>
                </a:cubicBezTo>
                <a:cubicBezTo>
                  <a:pt x="31" y="414"/>
                  <a:pt x="65" y="383"/>
                  <a:pt x="16" y="43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9"/>
          </p:cNvPr>
          <p:cNvSpPr/>
          <p:nvPr/>
        </p:nvSpPr>
        <p:spPr>
          <a:xfrm>
            <a:off x="3851280" y="1413000"/>
            <a:ext cx="603360" cy="303120"/>
          </a:xfrm>
          <a:custGeom>
            <a:avLst/>
            <a:gdLst/>
            <a:ahLst/>
            <a:rect l="l" t="t" r="r" b="b"/>
            <a:pathLst>
              <a:path w="380" h="191">
                <a:moveTo>
                  <a:pt x="284" y="191"/>
                </a:moveTo>
                <a:cubicBezTo>
                  <a:pt x="263" y="188"/>
                  <a:pt x="241" y="189"/>
                  <a:pt x="220" y="183"/>
                </a:cubicBezTo>
                <a:cubicBezTo>
                  <a:pt x="193" y="176"/>
                  <a:pt x="155" y="145"/>
                  <a:pt x="124" y="135"/>
                </a:cubicBezTo>
                <a:cubicBezTo>
                  <a:pt x="91" y="102"/>
                  <a:pt x="57" y="88"/>
                  <a:pt x="20" y="63"/>
                </a:cubicBezTo>
                <a:cubicBezTo>
                  <a:pt x="15" y="52"/>
                  <a:pt x="0" y="42"/>
                  <a:pt x="4" y="31"/>
                </a:cubicBezTo>
                <a:cubicBezTo>
                  <a:pt x="8" y="20"/>
                  <a:pt x="24" y="16"/>
                  <a:pt x="36" y="15"/>
                </a:cubicBezTo>
                <a:cubicBezTo>
                  <a:pt x="116" y="8"/>
                  <a:pt x="196" y="10"/>
                  <a:pt x="276" y="7"/>
                </a:cubicBezTo>
                <a:cubicBezTo>
                  <a:pt x="325" y="12"/>
                  <a:pt x="364" y="0"/>
                  <a:pt x="380" y="47"/>
                </a:cubicBezTo>
                <a:cubicBezTo>
                  <a:pt x="358" y="91"/>
                  <a:pt x="348" y="93"/>
                  <a:pt x="300" y="103"/>
                </a:cubicBezTo>
                <a:cubicBezTo>
                  <a:pt x="312" y="139"/>
                  <a:pt x="304" y="160"/>
                  <a:pt x="284" y="1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0"/>
          </p:cNvPr>
          <p:cNvSpPr/>
          <p:nvPr/>
        </p:nvSpPr>
        <p:spPr>
          <a:xfrm>
            <a:off x="3276720" y="2924280"/>
            <a:ext cx="954000" cy="1504800"/>
          </a:xfrm>
          <a:custGeom>
            <a:avLst/>
            <a:gdLst/>
            <a:ahLst/>
            <a:rect l="l" t="t" r="r" b="b"/>
            <a:pathLst>
              <a:path w="601" h="948">
                <a:moveTo>
                  <a:pt x="222" y="936"/>
                </a:moveTo>
                <a:cubicBezTo>
                  <a:pt x="152" y="924"/>
                  <a:pt x="129" y="924"/>
                  <a:pt x="174" y="856"/>
                </a:cubicBezTo>
                <a:cubicBezTo>
                  <a:pt x="160" y="814"/>
                  <a:pt x="129" y="763"/>
                  <a:pt x="86" y="744"/>
                </a:cubicBezTo>
                <a:cubicBezTo>
                  <a:pt x="0" y="706"/>
                  <a:pt x="68" y="748"/>
                  <a:pt x="14" y="712"/>
                </a:cubicBezTo>
                <a:cubicBezTo>
                  <a:pt x="11" y="704"/>
                  <a:pt x="3" y="696"/>
                  <a:pt x="6" y="688"/>
                </a:cubicBezTo>
                <a:cubicBezTo>
                  <a:pt x="10" y="679"/>
                  <a:pt x="23" y="679"/>
                  <a:pt x="30" y="672"/>
                </a:cubicBezTo>
                <a:cubicBezTo>
                  <a:pt x="46" y="656"/>
                  <a:pt x="47" y="644"/>
                  <a:pt x="54" y="624"/>
                </a:cubicBezTo>
                <a:cubicBezTo>
                  <a:pt x="57" y="541"/>
                  <a:pt x="55" y="458"/>
                  <a:pt x="62" y="376"/>
                </a:cubicBezTo>
                <a:cubicBezTo>
                  <a:pt x="63" y="365"/>
                  <a:pt x="96" y="332"/>
                  <a:pt x="102" y="328"/>
                </a:cubicBezTo>
                <a:cubicBezTo>
                  <a:pt x="142" y="297"/>
                  <a:pt x="180" y="260"/>
                  <a:pt x="222" y="232"/>
                </a:cubicBezTo>
                <a:cubicBezTo>
                  <a:pt x="239" y="180"/>
                  <a:pt x="204" y="210"/>
                  <a:pt x="222" y="144"/>
                </a:cubicBezTo>
                <a:cubicBezTo>
                  <a:pt x="226" y="128"/>
                  <a:pt x="224" y="105"/>
                  <a:pt x="238" y="96"/>
                </a:cubicBezTo>
                <a:cubicBezTo>
                  <a:pt x="276" y="71"/>
                  <a:pt x="253" y="83"/>
                  <a:pt x="310" y="64"/>
                </a:cubicBezTo>
                <a:cubicBezTo>
                  <a:pt x="318" y="61"/>
                  <a:pt x="334" y="56"/>
                  <a:pt x="334" y="56"/>
                </a:cubicBezTo>
                <a:cubicBezTo>
                  <a:pt x="342" y="48"/>
                  <a:pt x="349" y="39"/>
                  <a:pt x="358" y="32"/>
                </a:cubicBezTo>
                <a:cubicBezTo>
                  <a:pt x="373" y="20"/>
                  <a:pt x="406" y="0"/>
                  <a:pt x="406" y="0"/>
                </a:cubicBezTo>
                <a:cubicBezTo>
                  <a:pt x="422" y="47"/>
                  <a:pt x="393" y="102"/>
                  <a:pt x="446" y="120"/>
                </a:cubicBezTo>
                <a:cubicBezTo>
                  <a:pt x="475" y="117"/>
                  <a:pt x="505" y="118"/>
                  <a:pt x="534" y="112"/>
                </a:cubicBezTo>
                <a:cubicBezTo>
                  <a:pt x="543" y="110"/>
                  <a:pt x="549" y="94"/>
                  <a:pt x="558" y="96"/>
                </a:cubicBezTo>
                <a:cubicBezTo>
                  <a:pt x="569" y="98"/>
                  <a:pt x="574" y="112"/>
                  <a:pt x="582" y="120"/>
                </a:cubicBezTo>
                <a:cubicBezTo>
                  <a:pt x="601" y="177"/>
                  <a:pt x="567" y="228"/>
                  <a:pt x="550" y="280"/>
                </a:cubicBezTo>
                <a:cubicBezTo>
                  <a:pt x="553" y="331"/>
                  <a:pt x="551" y="382"/>
                  <a:pt x="558" y="432"/>
                </a:cubicBezTo>
                <a:cubicBezTo>
                  <a:pt x="560" y="444"/>
                  <a:pt x="573" y="452"/>
                  <a:pt x="574" y="464"/>
                </a:cubicBezTo>
                <a:cubicBezTo>
                  <a:pt x="578" y="497"/>
                  <a:pt x="549" y="521"/>
                  <a:pt x="526" y="536"/>
                </a:cubicBezTo>
                <a:cubicBezTo>
                  <a:pt x="510" y="583"/>
                  <a:pt x="530" y="540"/>
                  <a:pt x="494" y="576"/>
                </a:cubicBezTo>
                <a:cubicBezTo>
                  <a:pt x="478" y="592"/>
                  <a:pt x="470" y="616"/>
                  <a:pt x="454" y="632"/>
                </a:cubicBezTo>
                <a:cubicBezTo>
                  <a:pt x="420" y="666"/>
                  <a:pt x="348" y="661"/>
                  <a:pt x="310" y="664"/>
                </a:cubicBezTo>
                <a:cubicBezTo>
                  <a:pt x="288" y="697"/>
                  <a:pt x="290" y="682"/>
                  <a:pt x="302" y="728"/>
                </a:cubicBezTo>
                <a:cubicBezTo>
                  <a:pt x="306" y="744"/>
                  <a:pt x="318" y="776"/>
                  <a:pt x="318" y="776"/>
                </a:cubicBezTo>
                <a:cubicBezTo>
                  <a:pt x="319" y="784"/>
                  <a:pt x="339" y="938"/>
                  <a:pt x="302" y="944"/>
                </a:cubicBezTo>
                <a:cubicBezTo>
                  <a:pt x="276" y="948"/>
                  <a:pt x="249" y="939"/>
                  <a:pt x="222" y="9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1"/>
          </p:cNvPr>
          <p:cNvSpPr/>
          <p:nvPr/>
        </p:nvSpPr>
        <p:spPr>
          <a:xfrm>
            <a:off x="4427640" y="620640"/>
            <a:ext cx="1728720" cy="1271520"/>
          </a:xfrm>
          <a:custGeom>
            <a:avLst/>
            <a:gdLst/>
            <a:ahLst/>
            <a:rect l="l" t="t" r="r" b="b"/>
            <a:pathLst>
              <a:path w="1089" h="801">
                <a:moveTo>
                  <a:pt x="264" y="761"/>
                </a:moveTo>
                <a:cubicBezTo>
                  <a:pt x="243" y="754"/>
                  <a:pt x="221" y="752"/>
                  <a:pt x="200" y="745"/>
                </a:cubicBezTo>
                <a:cubicBezTo>
                  <a:pt x="164" y="733"/>
                  <a:pt x="130" y="706"/>
                  <a:pt x="96" y="689"/>
                </a:cubicBezTo>
                <a:cubicBezTo>
                  <a:pt x="20" y="651"/>
                  <a:pt x="148" y="698"/>
                  <a:pt x="24" y="657"/>
                </a:cubicBezTo>
                <a:cubicBezTo>
                  <a:pt x="16" y="654"/>
                  <a:pt x="0" y="649"/>
                  <a:pt x="0" y="649"/>
                </a:cubicBezTo>
                <a:cubicBezTo>
                  <a:pt x="55" y="612"/>
                  <a:pt x="42" y="635"/>
                  <a:pt x="56" y="593"/>
                </a:cubicBezTo>
                <a:cubicBezTo>
                  <a:pt x="44" y="556"/>
                  <a:pt x="44" y="518"/>
                  <a:pt x="32" y="481"/>
                </a:cubicBezTo>
                <a:cubicBezTo>
                  <a:pt x="36" y="457"/>
                  <a:pt x="31" y="426"/>
                  <a:pt x="48" y="409"/>
                </a:cubicBezTo>
                <a:cubicBezTo>
                  <a:pt x="81" y="376"/>
                  <a:pt x="128" y="359"/>
                  <a:pt x="168" y="337"/>
                </a:cubicBezTo>
                <a:cubicBezTo>
                  <a:pt x="251" y="291"/>
                  <a:pt x="186" y="315"/>
                  <a:pt x="240" y="297"/>
                </a:cubicBezTo>
                <a:cubicBezTo>
                  <a:pt x="262" y="265"/>
                  <a:pt x="294" y="256"/>
                  <a:pt x="328" y="233"/>
                </a:cubicBezTo>
                <a:cubicBezTo>
                  <a:pt x="368" y="207"/>
                  <a:pt x="406" y="182"/>
                  <a:pt x="448" y="161"/>
                </a:cubicBezTo>
                <a:cubicBezTo>
                  <a:pt x="492" y="139"/>
                  <a:pt x="452" y="149"/>
                  <a:pt x="496" y="137"/>
                </a:cubicBezTo>
                <a:cubicBezTo>
                  <a:pt x="517" y="131"/>
                  <a:pt x="560" y="121"/>
                  <a:pt x="560" y="121"/>
                </a:cubicBezTo>
                <a:cubicBezTo>
                  <a:pt x="568" y="116"/>
                  <a:pt x="575" y="109"/>
                  <a:pt x="584" y="105"/>
                </a:cubicBezTo>
                <a:cubicBezTo>
                  <a:pt x="599" y="98"/>
                  <a:pt x="632" y="89"/>
                  <a:pt x="632" y="89"/>
                </a:cubicBezTo>
                <a:cubicBezTo>
                  <a:pt x="664" y="57"/>
                  <a:pt x="691" y="26"/>
                  <a:pt x="728" y="1"/>
                </a:cubicBezTo>
                <a:cubicBezTo>
                  <a:pt x="757" y="4"/>
                  <a:pt x="788" y="0"/>
                  <a:pt x="816" y="9"/>
                </a:cubicBezTo>
                <a:cubicBezTo>
                  <a:pt x="825" y="12"/>
                  <a:pt x="830" y="24"/>
                  <a:pt x="832" y="33"/>
                </a:cubicBezTo>
                <a:cubicBezTo>
                  <a:pt x="838" y="62"/>
                  <a:pt x="836" y="92"/>
                  <a:pt x="840" y="121"/>
                </a:cubicBezTo>
                <a:cubicBezTo>
                  <a:pt x="846" y="164"/>
                  <a:pt x="872" y="198"/>
                  <a:pt x="896" y="233"/>
                </a:cubicBezTo>
                <a:cubicBezTo>
                  <a:pt x="911" y="256"/>
                  <a:pt x="931" y="295"/>
                  <a:pt x="952" y="313"/>
                </a:cubicBezTo>
                <a:cubicBezTo>
                  <a:pt x="958" y="318"/>
                  <a:pt x="969" y="317"/>
                  <a:pt x="976" y="321"/>
                </a:cubicBezTo>
                <a:cubicBezTo>
                  <a:pt x="993" y="330"/>
                  <a:pt x="1008" y="342"/>
                  <a:pt x="1024" y="353"/>
                </a:cubicBezTo>
                <a:cubicBezTo>
                  <a:pt x="1032" y="358"/>
                  <a:pt x="1048" y="369"/>
                  <a:pt x="1048" y="369"/>
                </a:cubicBezTo>
                <a:cubicBezTo>
                  <a:pt x="1085" y="424"/>
                  <a:pt x="1074" y="399"/>
                  <a:pt x="1088" y="441"/>
                </a:cubicBezTo>
                <a:cubicBezTo>
                  <a:pt x="1085" y="489"/>
                  <a:pt x="1089" y="538"/>
                  <a:pt x="1080" y="585"/>
                </a:cubicBezTo>
                <a:cubicBezTo>
                  <a:pt x="1078" y="595"/>
                  <a:pt x="1040" y="608"/>
                  <a:pt x="1032" y="609"/>
                </a:cubicBezTo>
                <a:cubicBezTo>
                  <a:pt x="990" y="616"/>
                  <a:pt x="947" y="619"/>
                  <a:pt x="904" y="625"/>
                </a:cubicBezTo>
                <a:cubicBezTo>
                  <a:pt x="876" y="653"/>
                  <a:pt x="862" y="696"/>
                  <a:pt x="824" y="713"/>
                </a:cubicBezTo>
                <a:cubicBezTo>
                  <a:pt x="753" y="745"/>
                  <a:pt x="715" y="742"/>
                  <a:pt x="656" y="801"/>
                </a:cubicBezTo>
                <a:cubicBezTo>
                  <a:pt x="631" y="763"/>
                  <a:pt x="620" y="737"/>
                  <a:pt x="584" y="713"/>
                </a:cubicBezTo>
                <a:cubicBezTo>
                  <a:pt x="563" y="681"/>
                  <a:pt x="546" y="666"/>
                  <a:pt x="512" y="649"/>
                </a:cubicBezTo>
                <a:cubicBezTo>
                  <a:pt x="416" y="659"/>
                  <a:pt x="449" y="653"/>
                  <a:pt x="384" y="681"/>
                </a:cubicBezTo>
                <a:cubicBezTo>
                  <a:pt x="374" y="685"/>
                  <a:pt x="363" y="686"/>
                  <a:pt x="352" y="689"/>
                </a:cubicBezTo>
                <a:cubicBezTo>
                  <a:pt x="336" y="694"/>
                  <a:pt x="304" y="705"/>
                  <a:pt x="304" y="705"/>
                </a:cubicBezTo>
                <a:cubicBezTo>
                  <a:pt x="253" y="756"/>
                  <a:pt x="240" y="737"/>
                  <a:pt x="264" y="7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2"/>
          </p:cNvPr>
          <p:cNvSpPr/>
          <p:nvPr/>
        </p:nvSpPr>
        <p:spPr>
          <a:xfrm>
            <a:off x="2333520" y="3424320"/>
            <a:ext cx="1163880" cy="1358640"/>
          </a:xfrm>
          <a:custGeom>
            <a:avLst/>
            <a:gdLst/>
            <a:ahLst/>
            <a:rect l="l" t="t" r="r" b="b"/>
            <a:pathLst>
              <a:path w="733" h="856">
                <a:moveTo>
                  <a:pt x="440" y="808"/>
                </a:moveTo>
                <a:cubicBezTo>
                  <a:pt x="485" y="811"/>
                  <a:pt x="532" y="806"/>
                  <a:pt x="576" y="816"/>
                </a:cubicBezTo>
                <a:cubicBezTo>
                  <a:pt x="603" y="822"/>
                  <a:pt x="622" y="847"/>
                  <a:pt x="648" y="856"/>
                </a:cubicBezTo>
                <a:cubicBezTo>
                  <a:pt x="682" y="834"/>
                  <a:pt x="700" y="805"/>
                  <a:pt x="712" y="768"/>
                </a:cubicBezTo>
                <a:cubicBezTo>
                  <a:pt x="721" y="693"/>
                  <a:pt x="733" y="655"/>
                  <a:pt x="720" y="576"/>
                </a:cubicBezTo>
                <a:cubicBezTo>
                  <a:pt x="717" y="559"/>
                  <a:pt x="709" y="544"/>
                  <a:pt x="704" y="528"/>
                </a:cubicBezTo>
                <a:cubicBezTo>
                  <a:pt x="701" y="520"/>
                  <a:pt x="696" y="504"/>
                  <a:pt x="696" y="504"/>
                </a:cubicBezTo>
                <a:cubicBezTo>
                  <a:pt x="693" y="477"/>
                  <a:pt x="708" y="442"/>
                  <a:pt x="688" y="424"/>
                </a:cubicBezTo>
                <a:cubicBezTo>
                  <a:pt x="670" y="408"/>
                  <a:pt x="640" y="437"/>
                  <a:pt x="616" y="432"/>
                </a:cubicBezTo>
                <a:cubicBezTo>
                  <a:pt x="597" y="428"/>
                  <a:pt x="568" y="400"/>
                  <a:pt x="568" y="400"/>
                </a:cubicBezTo>
                <a:cubicBezTo>
                  <a:pt x="541" y="359"/>
                  <a:pt x="559" y="318"/>
                  <a:pt x="584" y="280"/>
                </a:cubicBezTo>
                <a:cubicBezTo>
                  <a:pt x="589" y="167"/>
                  <a:pt x="614" y="68"/>
                  <a:pt x="512" y="0"/>
                </a:cubicBezTo>
                <a:cubicBezTo>
                  <a:pt x="480" y="127"/>
                  <a:pt x="349" y="96"/>
                  <a:pt x="264" y="152"/>
                </a:cubicBezTo>
                <a:cubicBezTo>
                  <a:pt x="229" y="257"/>
                  <a:pt x="161" y="270"/>
                  <a:pt x="64" y="280"/>
                </a:cubicBezTo>
                <a:cubicBezTo>
                  <a:pt x="0" y="344"/>
                  <a:pt x="37" y="432"/>
                  <a:pt x="80" y="496"/>
                </a:cubicBezTo>
                <a:cubicBezTo>
                  <a:pt x="89" y="510"/>
                  <a:pt x="91" y="528"/>
                  <a:pt x="96" y="544"/>
                </a:cubicBezTo>
                <a:cubicBezTo>
                  <a:pt x="99" y="552"/>
                  <a:pt x="104" y="568"/>
                  <a:pt x="104" y="568"/>
                </a:cubicBezTo>
                <a:cubicBezTo>
                  <a:pt x="107" y="592"/>
                  <a:pt x="96" y="622"/>
                  <a:pt x="112" y="640"/>
                </a:cubicBezTo>
                <a:cubicBezTo>
                  <a:pt x="123" y="652"/>
                  <a:pt x="145" y="638"/>
                  <a:pt x="160" y="632"/>
                </a:cubicBezTo>
                <a:cubicBezTo>
                  <a:pt x="197" y="617"/>
                  <a:pt x="219" y="588"/>
                  <a:pt x="256" y="576"/>
                </a:cubicBezTo>
                <a:cubicBezTo>
                  <a:pt x="303" y="529"/>
                  <a:pt x="315" y="545"/>
                  <a:pt x="392" y="552"/>
                </a:cubicBezTo>
                <a:cubicBezTo>
                  <a:pt x="445" y="587"/>
                  <a:pt x="437" y="663"/>
                  <a:pt x="448" y="720"/>
                </a:cubicBezTo>
                <a:cubicBezTo>
                  <a:pt x="450" y="728"/>
                  <a:pt x="457" y="736"/>
                  <a:pt x="456" y="744"/>
                </a:cubicBezTo>
                <a:cubicBezTo>
                  <a:pt x="454" y="766"/>
                  <a:pt x="445" y="787"/>
                  <a:pt x="440" y="80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4365720"/>
            <a:ext cx="533520" cy="450720"/>
          </a:xfrm>
          <a:custGeom>
            <a:avLst/>
            <a:gdLst/>
            <a:ahLst/>
            <a:rect l="l" t="t" r="r" b="b"/>
            <a:pathLst>
              <a:path w="336" h="284">
                <a:moveTo>
                  <a:pt x="320" y="224"/>
                </a:moveTo>
                <a:cubicBezTo>
                  <a:pt x="330" y="172"/>
                  <a:pt x="336" y="128"/>
                  <a:pt x="296" y="88"/>
                </a:cubicBezTo>
                <a:cubicBezTo>
                  <a:pt x="293" y="80"/>
                  <a:pt x="288" y="72"/>
                  <a:pt x="288" y="64"/>
                </a:cubicBezTo>
                <a:cubicBezTo>
                  <a:pt x="288" y="43"/>
                  <a:pt x="309" y="37"/>
                  <a:pt x="288" y="16"/>
                </a:cubicBezTo>
                <a:cubicBezTo>
                  <a:pt x="280" y="8"/>
                  <a:pt x="267" y="5"/>
                  <a:pt x="256" y="0"/>
                </a:cubicBezTo>
                <a:cubicBezTo>
                  <a:pt x="211" y="3"/>
                  <a:pt x="165" y="1"/>
                  <a:pt x="120" y="8"/>
                </a:cubicBezTo>
                <a:cubicBezTo>
                  <a:pt x="105" y="10"/>
                  <a:pt x="81" y="41"/>
                  <a:pt x="72" y="48"/>
                </a:cubicBezTo>
                <a:cubicBezTo>
                  <a:pt x="44" y="71"/>
                  <a:pt x="42" y="65"/>
                  <a:pt x="0" y="72"/>
                </a:cubicBezTo>
                <a:cubicBezTo>
                  <a:pt x="10" y="112"/>
                  <a:pt x="13" y="146"/>
                  <a:pt x="56" y="160"/>
                </a:cubicBezTo>
                <a:cubicBezTo>
                  <a:pt x="71" y="175"/>
                  <a:pt x="89" y="185"/>
                  <a:pt x="104" y="200"/>
                </a:cubicBezTo>
                <a:cubicBezTo>
                  <a:pt x="111" y="207"/>
                  <a:pt x="112" y="219"/>
                  <a:pt x="120" y="224"/>
                </a:cubicBezTo>
                <a:cubicBezTo>
                  <a:pt x="144" y="239"/>
                  <a:pt x="174" y="243"/>
                  <a:pt x="200" y="256"/>
                </a:cubicBezTo>
                <a:cubicBezTo>
                  <a:pt x="320" y="247"/>
                  <a:pt x="300" y="284"/>
                  <a:pt x="320" y="2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84800" y="2774880"/>
            <a:ext cx="1481040" cy="1200240"/>
          </a:xfrm>
          <a:custGeom>
            <a:avLst/>
            <a:gdLst/>
            <a:ahLst/>
            <a:rect l="l" t="t" r="r" b="b"/>
            <a:pathLst>
              <a:path w="933" h="756">
                <a:moveTo>
                  <a:pt x="264" y="756"/>
                </a:moveTo>
                <a:cubicBezTo>
                  <a:pt x="187" y="743"/>
                  <a:pt x="184" y="727"/>
                  <a:pt x="120" y="684"/>
                </a:cubicBezTo>
                <a:cubicBezTo>
                  <a:pt x="86" y="662"/>
                  <a:pt x="40" y="671"/>
                  <a:pt x="0" y="668"/>
                </a:cubicBezTo>
                <a:cubicBezTo>
                  <a:pt x="42" y="640"/>
                  <a:pt x="84" y="616"/>
                  <a:pt x="120" y="580"/>
                </a:cubicBezTo>
                <a:cubicBezTo>
                  <a:pt x="128" y="515"/>
                  <a:pt x="130" y="489"/>
                  <a:pt x="192" y="468"/>
                </a:cubicBezTo>
                <a:cubicBezTo>
                  <a:pt x="269" y="391"/>
                  <a:pt x="171" y="482"/>
                  <a:pt x="240" y="436"/>
                </a:cubicBezTo>
                <a:cubicBezTo>
                  <a:pt x="257" y="424"/>
                  <a:pt x="271" y="408"/>
                  <a:pt x="288" y="396"/>
                </a:cubicBezTo>
                <a:cubicBezTo>
                  <a:pt x="310" y="364"/>
                  <a:pt x="319" y="329"/>
                  <a:pt x="328" y="292"/>
                </a:cubicBezTo>
                <a:cubicBezTo>
                  <a:pt x="325" y="265"/>
                  <a:pt x="326" y="238"/>
                  <a:pt x="320" y="212"/>
                </a:cubicBezTo>
                <a:cubicBezTo>
                  <a:pt x="313" y="184"/>
                  <a:pt x="277" y="166"/>
                  <a:pt x="264" y="140"/>
                </a:cubicBezTo>
                <a:cubicBezTo>
                  <a:pt x="252" y="115"/>
                  <a:pt x="224" y="68"/>
                  <a:pt x="224" y="68"/>
                </a:cubicBezTo>
                <a:cubicBezTo>
                  <a:pt x="228" y="55"/>
                  <a:pt x="235" y="28"/>
                  <a:pt x="248" y="20"/>
                </a:cubicBezTo>
                <a:cubicBezTo>
                  <a:pt x="262" y="11"/>
                  <a:pt x="296" y="4"/>
                  <a:pt x="296" y="4"/>
                </a:cubicBezTo>
                <a:cubicBezTo>
                  <a:pt x="440" y="7"/>
                  <a:pt x="584" y="0"/>
                  <a:pt x="728" y="12"/>
                </a:cubicBezTo>
                <a:cubicBezTo>
                  <a:pt x="757" y="14"/>
                  <a:pt x="776" y="44"/>
                  <a:pt x="800" y="60"/>
                </a:cubicBezTo>
                <a:cubicBezTo>
                  <a:pt x="808" y="65"/>
                  <a:pt x="824" y="76"/>
                  <a:pt x="824" y="76"/>
                </a:cubicBezTo>
                <a:cubicBezTo>
                  <a:pt x="829" y="84"/>
                  <a:pt x="833" y="94"/>
                  <a:pt x="840" y="100"/>
                </a:cubicBezTo>
                <a:cubicBezTo>
                  <a:pt x="854" y="113"/>
                  <a:pt x="888" y="132"/>
                  <a:pt x="888" y="132"/>
                </a:cubicBezTo>
                <a:cubicBezTo>
                  <a:pt x="893" y="140"/>
                  <a:pt x="897" y="149"/>
                  <a:pt x="904" y="156"/>
                </a:cubicBezTo>
                <a:cubicBezTo>
                  <a:pt x="911" y="163"/>
                  <a:pt x="927" y="162"/>
                  <a:pt x="928" y="172"/>
                </a:cubicBezTo>
                <a:cubicBezTo>
                  <a:pt x="933" y="236"/>
                  <a:pt x="927" y="300"/>
                  <a:pt x="920" y="364"/>
                </a:cubicBezTo>
                <a:cubicBezTo>
                  <a:pt x="919" y="373"/>
                  <a:pt x="886" y="410"/>
                  <a:pt x="880" y="412"/>
                </a:cubicBezTo>
                <a:cubicBezTo>
                  <a:pt x="852" y="420"/>
                  <a:pt x="821" y="417"/>
                  <a:pt x="792" y="420"/>
                </a:cubicBezTo>
                <a:cubicBezTo>
                  <a:pt x="738" y="438"/>
                  <a:pt x="696" y="478"/>
                  <a:pt x="640" y="492"/>
                </a:cubicBezTo>
                <a:cubicBezTo>
                  <a:pt x="597" y="535"/>
                  <a:pt x="532" y="584"/>
                  <a:pt x="472" y="604"/>
                </a:cubicBezTo>
                <a:cubicBezTo>
                  <a:pt x="456" y="651"/>
                  <a:pt x="476" y="608"/>
                  <a:pt x="440" y="644"/>
                </a:cubicBezTo>
                <a:cubicBezTo>
                  <a:pt x="433" y="651"/>
                  <a:pt x="432" y="663"/>
                  <a:pt x="424" y="668"/>
                </a:cubicBezTo>
                <a:cubicBezTo>
                  <a:pt x="375" y="699"/>
                  <a:pt x="313" y="691"/>
                  <a:pt x="264" y="724"/>
                </a:cubicBezTo>
                <a:cubicBezTo>
                  <a:pt x="245" y="753"/>
                  <a:pt x="239" y="744"/>
                  <a:pt x="264" y="75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1989000"/>
            <a:ext cx="1150920" cy="1436760"/>
          </a:xfrm>
          <a:custGeom>
            <a:avLst/>
            <a:gdLst/>
            <a:ahLst/>
            <a:rect l="l" t="t" r="r" b="b"/>
            <a:pathLst>
              <a:path w="725" h="905">
                <a:moveTo>
                  <a:pt x="632" y="816"/>
                </a:moveTo>
                <a:cubicBezTo>
                  <a:pt x="603" y="836"/>
                  <a:pt x="573" y="836"/>
                  <a:pt x="544" y="856"/>
                </a:cubicBezTo>
                <a:cubicBezTo>
                  <a:pt x="540" y="862"/>
                  <a:pt x="514" y="905"/>
                  <a:pt x="504" y="904"/>
                </a:cubicBezTo>
                <a:cubicBezTo>
                  <a:pt x="485" y="902"/>
                  <a:pt x="474" y="878"/>
                  <a:pt x="456" y="872"/>
                </a:cubicBezTo>
                <a:cubicBezTo>
                  <a:pt x="414" y="858"/>
                  <a:pt x="440" y="865"/>
                  <a:pt x="376" y="856"/>
                </a:cubicBezTo>
                <a:cubicBezTo>
                  <a:pt x="364" y="758"/>
                  <a:pt x="367" y="778"/>
                  <a:pt x="264" y="768"/>
                </a:cubicBezTo>
                <a:cubicBezTo>
                  <a:pt x="253" y="631"/>
                  <a:pt x="282" y="636"/>
                  <a:pt x="152" y="648"/>
                </a:cubicBezTo>
                <a:cubicBezTo>
                  <a:pt x="126" y="631"/>
                  <a:pt x="114" y="609"/>
                  <a:pt x="88" y="592"/>
                </a:cubicBezTo>
                <a:cubicBezTo>
                  <a:pt x="66" y="598"/>
                  <a:pt x="48" y="610"/>
                  <a:pt x="32" y="584"/>
                </a:cubicBezTo>
                <a:cubicBezTo>
                  <a:pt x="23" y="570"/>
                  <a:pt x="16" y="536"/>
                  <a:pt x="16" y="536"/>
                </a:cubicBezTo>
                <a:cubicBezTo>
                  <a:pt x="33" y="469"/>
                  <a:pt x="98" y="444"/>
                  <a:pt x="128" y="384"/>
                </a:cubicBezTo>
                <a:cubicBezTo>
                  <a:pt x="89" y="326"/>
                  <a:pt x="118" y="315"/>
                  <a:pt x="96" y="232"/>
                </a:cubicBezTo>
                <a:cubicBezTo>
                  <a:pt x="89" y="206"/>
                  <a:pt x="49" y="161"/>
                  <a:pt x="32" y="136"/>
                </a:cubicBezTo>
                <a:cubicBezTo>
                  <a:pt x="21" y="120"/>
                  <a:pt x="0" y="88"/>
                  <a:pt x="0" y="88"/>
                </a:cubicBezTo>
                <a:cubicBezTo>
                  <a:pt x="110" y="51"/>
                  <a:pt x="148" y="102"/>
                  <a:pt x="216" y="0"/>
                </a:cubicBezTo>
                <a:cubicBezTo>
                  <a:pt x="260" y="15"/>
                  <a:pt x="236" y="31"/>
                  <a:pt x="264" y="64"/>
                </a:cubicBezTo>
                <a:cubicBezTo>
                  <a:pt x="287" y="92"/>
                  <a:pt x="310" y="89"/>
                  <a:pt x="336" y="112"/>
                </a:cubicBezTo>
                <a:cubicBezTo>
                  <a:pt x="410" y="178"/>
                  <a:pt x="352" y="156"/>
                  <a:pt x="456" y="168"/>
                </a:cubicBezTo>
                <a:cubicBezTo>
                  <a:pt x="435" y="232"/>
                  <a:pt x="455" y="314"/>
                  <a:pt x="512" y="352"/>
                </a:cubicBezTo>
                <a:cubicBezTo>
                  <a:pt x="533" y="383"/>
                  <a:pt x="527" y="417"/>
                  <a:pt x="544" y="448"/>
                </a:cubicBezTo>
                <a:cubicBezTo>
                  <a:pt x="553" y="465"/>
                  <a:pt x="576" y="496"/>
                  <a:pt x="576" y="496"/>
                </a:cubicBezTo>
                <a:cubicBezTo>
                  <a:pt x="606" y="488"/>
                  <a:pt x="627" y="474"/>
                  <a:pt x="656" y="464"/>
                </a:cubicBezTo>
                <a:cubicBezTo>
                  <a:pt x="704" y="480"/>
                  <a:pt x="665" y="474"/>
                  <a:pt x="632" y="496"/>
                </a:cubicBezTo>
                <a:cubicBezTo>
                  <a:pt x="604" y="538"/>
                  <a:pt x="611" y="559"/>
                  <a:pt x="624" y="608"/>
                </a:cubicBezTo>
                <a:cubicBezTo>
                  <a:pt x="628" y="624"/>
                  <a:pt x="635" y="640"/>
                  <a:pt x="640" y="656"/>
                </a:cubicBezTo>
                <a:cubicBezTo>
                  <a:pt x="643" y="664"/>
                  <a:pt x="641" y="675"/>
                  <a:pt x="648" y="680"/>
                </a:cubicBezTo>
                <a:cubicBezTo>
                  <a:pt x="681" y="702"/>
                  <a:pt x="663" y="694"/>
                  <a:pt x="704" y="704"/>
                </a:cubicBezTo>
                <a:cubicBezTo>
                  <a:pt x="698" y="793"/>
                  <a:pt x="725" y="886"/>
                  <a:pt x="632" y="8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49360"/>
            <a:ext cx="1411200" cy="1128600"/>
          </a:xfrm>
          <a:custGeom>
            <a:avLst/>
            <a:gdLst/>
            <a:ahLst/>
            <a:rect l="l" t="t" r="r" b="b"/>
            <a:pathLst>
              <a:path w="889" h="711">
                <a:moveTo>
                  <a:pt x="555" y="535"/>
                </a:moveTo>
                <a:cubicBezTo>
                  <a:pt x="497" y="542"/>
                  <a:pt x="481" y="537"/>
                  <a:pt x="443" y="575"/>
                </a:cubicBezTo>
                <a:cubicBezTo>
                  <a:pt x="418" y="559"/>
                  <a:pt x="390" y="539"/>
                  <a:pt x="363" y="527"/>
                </a:cubicBezTo>
                <a:cubicBezTo>
                  <a:pt x="326" y="511"/>
                  <a:pt x="299" y="508"/>
                  <a:pt x="267" y="487"/>
                </a:cubicBezTo>
                <a:cubicBezTo>
                  <a:pt x="246" y="455"/>
                  <a:pt x="207" y="428"/>
                  <a:pt x="195" y="391"/>
                </a:cubicBezTo>
                <a:cubicBezTo>
                  <a:pt x="192" y="383"/>
                  <a:pt x="192" y="373"/>
                  <a:pt x="187" y="367"/>
                </a:cubicBezTo>
                <a:cubicBezTo>
                  <a:pt x="171" y="348"/>
                  <a:pt x="147" y="338"/>
                  <a:pt x="131" y="319"/>
                </a:cubicBezTo>
                <a:cubicBezTo>
                  <a:pt x="111" y="295"/>
                  <a:pt x="116" y="291"/>
                  <a:pt x="99" y="263"/>
                </a:cubicBezTo>
                <a:cubicBezTo>
                  <a:pt x="89" y="247"/>
                  <a:pt x="67" y="215"/>
                  <a:pt x="67" y="215"/>
                </a:cubicBezTo>
                <a:cubicBezTo>
                  <a:pt x="64" y="204"/>
                  <a:pt x="64" y="193"/>
                  <a:pt x="59" y="183"/>
                </a:cubicBezTo>
                <a:cubicBezTo>
                  <a:pt x="50" y="166"/>
                  <a:pt x="33" y="153"/>
                  <a:pt x="27" y="135"/>
                </a:cubicBezTo>
                <a:cubicBezTo>
                  <a:pt x="22" y="119"/>
                  <a:pt x="11" y="87"/>
                  <a:pt x="11" y="87"/>
                </a:cubicBezTo>
                <a:cubicBezTo>
                  <a:pt x="14" y="60"/>
                  <a:pt x="0" y="26"/>
                  <a:pt x="19" y="7"/>
                </a:cubicBezTo>
                <a:cubicBezTo>
                  <a:pt x="26" y="0"/>
                  <a:pt x="97" y="18"/>
                  <a:pt x="115" y="23"/>
                </a:cubicBezTo>
                <a:cubicBezTo>
                  <a:pt x="213" y="88"/>
                  <a:pt x="316" y="82"/>
                  <a:pt x="435" y="87"/>
                </a:cubicBezTo>
                <a:cubicBezTo>
                  <a:pt x="463" y="96"/>
                  <a:pt x="495" y="92"/>
                  <a:pt x="523" y="103"/>
                </a:cubicBezTo>
                <a:cubicBezTo>
                  <a:pt x="532" y="107"/>
                  <a:pt x="532" y="120"/>
                  <a:pt x="539" y="127"/>
                </a:cubicBezTo>
                <a:cubicBezTo>
                  <a:pt x="546" y="134"/>
                  <a:pt x="555" y="138"/>
                  <a:pt x="563" y="143"/>
                </a:cubicBezTo>
                <a:cubicBezTo>
                  <a:pt x="581" y="170"/>
                  <a:pt x="621" y="213"/>
                  <a:pt x="651" y="223"/>
                </a:cubicBezTo>
                <a:cubicBezTo>
                  <a:pt x="725" y="216"/>
                  <a:pt x="817" y="195"/>
                  <a:pt x="883" y="239"/>
                </a:cubicBezTo>
                <a:cubicBezTo>
                  <a:pt x="876" y="312"/>
                  <a:pt x="889" y="331"/>
                  <a:pt x="835" y="367"/>
                </a:cubicBezTo>
                <a:cubicBezTo>
                  <a:pt x="797" y="424"/>
                  <a:pt x="808" y="396"/>
                  <a:pt x="795" y="447"/>
                </a:cubicBezTo>
                <a:cubicBezTo>
                  <a:pt x="810" y="536"/>
                  <a:pt x="830" y="655"/>
                  <a:pt x="747" y="711"/>
                </a:cubicBezTo>
                <a:cubicBezTo>
                  <a:pt x="710" y="656"/>
                  <a:pt x="721" y="681"/>
                  <a:pt x="707" y="639"/>
                </a:cubicBezTo>
                <a:cubicBezTo>
                  <a:pt x="728" y="636"/>
                  <a:pt x="751" y="640"/>
                  <a:pt x="771" y="631"/>
                </a:cubicBezTo>
                <a:cubicBezTo>
                  <a:pt x="795" y="620"/>
                  <a:pt x="769" y="589"/>
                  <a:pt x="763" y="583"/>
                </a:cubicBezTo>
                <a:cubicBezTo>
                  <a:pt x="735" y="555"/>
                  <a:pt x="707" y="563"/>
                  <a:pt x="667" y="559"/>
                </a:cubicBezTo>
                <a:cubicBezTo>
                  <a:pt x="620" y="543"/>
                  <a:pt x="602" y="535"/>
                  <a:pt x="555" y="5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2205000"/>
            <a:ext cx="1602000" cy="1508040"/>
          </a:xfrm>
          <a:custGeom>
            <a:avLst/>
            <a:gdLst/>
            <a:ahLst/>
            <a:rect l="l" t="t" r="r" b="b"/>
            <a:pathLst>
              <a:path w="1009" h="1040">
                <a:moveTo>
                  <a:pt x="152" y="1017"/>
                </a:moveTo>
                <a:cubicBezTo>
                  <a:pt x="143" y="989"/>
                  <a:pt x="123" y="967"/>
                  <a:pt x="104" y="945"/>
                </a:cubicBezTo>
                <a:cubicBezTo>
                  <a:pt x="89" y="928"/>
                  <a:pt x="56" y="897"/>
                  <a:pt x="56" y="897"/>
                </a:cubicBezTo>
                <a:cubicBezTo>
                  <a:pt x="45" y="863"/>
                  <a:pt x="28" y="836"/>
                  <a:pt x="16" y="801"/>
                </a:cubicBezTo>
                <a:cubicBezTo>
                  <a:pt x="11" y="785"/>
                  <a:pt x="0" y="753"/>
                  <a:pt x="0" y="753"/>
                </a:cubicBezTo>
                <a:cubicBezTo>
                  <a:pt x="10" y="694"/>
                  <a:pt x="1" y="700"/>
                  <a:pt x="40" y="665"/>
                </a:cubicBezTo>
                <a:cubicBezTo>
                  <a:pt x="57" y="650"/>
                  <a:pt x="88" y="617"/>
                  <a:pt x="88" y="617"/>
                </a:cubicBezTo>
                <a:cubicBezTo>
                  <a:pt x="88" y="613"/>
                  <a:pt x="94" y="493"/>
                  <a:pt x="72" y="449"/>
                </a:cubicBezTo>
                <a:cubicBezTo>
                  <a:pt x="60" y="426"/>
                  <a:pt x="40" y="377"/>
                  <a:pt x="40" y="377"/>
                </a:cubicBezTo>
                <a:cubicBezTo>
                  <a:pt x="43" y="366"/>
                  <a:pt x="42" y="354"/>
                  <a:pt x="48" y="345"/>
                </a:cubicBezTo>
                <a:cubicBezTo>
                  <a:pt x="72" y="309"/>
                  <a:pt x="135" y="319"/>
                  <a:pt x="168" y="297"/>
                </a:cubicBezTo>
                <a:cubicBezTo>
                  <a:pt x="184" y="286"/>
                  <a:pt x="216" y="265"/>
                  <a:pt x="216" y="265"/>
                </a:cubicBezTo>
                <a:cubicBezTo>
                  <a:pt x="259" y="200"/>
                  <a:pt x="330" y="165"/>
                  <a:pt x="400" y="137"/>
                </a:cubicBezTo>
                <a:cubicBezTo>
                  <a:pt x="423" y="128"/>
                  <a:pt x="451" y="127"/>
                  <a:pt x="472" y="113"/>
                </a:cubicBezTo>
                <a:cubicBezTo>
                  <a:pt x="526" y="77"/>
                  <a:pt x="578" y="72"/>
                  <a:pt x="640" y="65"/>
                </a:cubicBezTo>
                <a:cubicBezTo>
                  <a:pt x="678" y="40"/>
                  <a:pt x="655" y="52"/>
                  <a:pt x="712" y="33"/>
                </a:cubicBezTo>
                <a:cubicBezTo>
                  <a:pt x="720" y="30"/>
                  <a:pt x="736" y="25"/>
                  <a:pt x="736" y="25"/>
                </a:cubicBezTo>
                <a:cubicBezTo>
                  <a:pt x="747" y="17"/>
                  <a:pt x="755" y="0"/>
                  <a:pt x="768" y="1"/>
                </a:cubicBezTo>
                <a:cubicBezTo>
                  <a:pt x="787" y="3"/>
                  <a:pt x="816" y="33"/>
                  <a:pt x="816" y="33"/>
                </a:cubicBezTo>
                <a:cubicBezTo>
                  <a:pt x="837" y="28"/>
                  <a:pt x="876" y="13"/>
                  <a:pt x="896" y="33"/>
                </a:cubicBezTo>
                <a:cubicBezTo>
                  <a:pt x="904" y="41"/>
                  <a:pt x="891" y="54"/>
                  <a:pt x="888" y="65"/>
                </a:cubicBezTo>
                <a:cubicBezTo>
                  <a:pt x="897" y="109"/>
                  <a:pt x="912" y="145"/>
                  <a:pt x="944" y="177"/>
                </a:cubicBezTo>
                <a:cubicBezTo>
                  <a:pt x="956" y="213"/>
                  <a:pt x="974" y="247"/>
                  <a:pt x="1000" y="273"/>
                </a:cubicBezTo>
                <a:cubicBezTo>
                  <a:pt x="1003" y="281"/>
                  <a:pt x="1008" y="289"/>
                  <a:pt x="1008" y="297"/>
                </a:cubicBezTo>
                <a:cubicBezTo>
                  <a:pt x="1008" y="342"/>
                  <a:pt x="1009" y="389"/>
                  <a:pt x="1000" y="433"/>
                </a:cubicBezTo>
                <a:cubicBezTo>
                  <a:pt x="996" y="452"/>
                  <a:pt x="929" y="457"/>
                  <a:pt x="928" y="457"/>
                </a:cubicBezTo>
                <a:cubicBezTo>
                  <a:pt x="891" y="466"/>
                  <a:pt x="862" y="477"/>
                  <a:pt x="832" y="497"/>
                </a:cubicBezTo>
                <a:cubicBezTo>
                  <a:pt x="812" y="557"/>
                  <a:pt x="841" y="485"/>
                  <a:pt x="800" y="537"/>
                </a:cubicBezTo>
                <a:cubicBezTo>
                  <a:pt x="789" y="551"/>
                  <a:pt x="786" y="570"/>
                  <a:pt x="776" y="585"/>
                </a:cubicBezTo>
                <a:cubicBezTo>
                  <a:pt x="791" y="645"/>
                  <a:pt x="761" y="663"/>
                  <a:pt x="728" y="713"/>
                </a:cubicBezTo>
                <a:cubicBezTo>
                  <a:pt x="714" y="735"/>
                  <a:pt x="715" y="791"/>
                  <a:pt x="688" y="809"/>
                </a:cubicBezTo>
                <a:cubicBezTo>
                  <a:pt x="679" y="815"/>
                  <a:pt x="667" y="814"/>
                  <a:pt x="656" y="817"/>
                </a:cubicBezTo>
                <a:cubicBezTo>
                  <a:pt x="618" y="791"/>
                  <a:pt x="611" y="764"/>
                  <a:pt x="600" y="721"/>
                </a:cubicBezTo>
                <a:cubicBezTo>
                  <a:pt x="541" y="736"/>
                  <a:pt x="538" y="782"/>
                  <a:pt x="480" y="801"/>
                </a:cubicBezTo>
                <a:cubicBezTo>
                  <a:pt x="459" y="822"/>
                  <a:pt x="426" y="833"/>
                  <a:pt x="408" y="857"/>
                </a:cubicBezTo>
                <a:cubicBezTo>
                  <a:pt x="381" y="893"/>
                  <a:pt x="353" y="923"/>
                  <a:pt x="328" y="961"/>
                </a:cubicBezTo>
                <a:cubicBezTo>
                  <a:pt x="301" y="1001"/>
                  <a:pt x="320" y="980"/>
                  <a:pt x="264" y="1017"/>
                </a:cubicBezTo>
                <a:cubicBezTo>
                  <a:pt x="256" y="1022"/>
                  <a:pt x="240" y="1033"/>
                  <a:pt x="240" y="1033"/>
                </a:cubicBezTo>
                <a:cubicBezTo>
                  <a:pt x="111" y="1019"/>
                  <a:pt x="207" y="1040"/>
                  <a:pt x="144" y="1009"/>
                </a:cubicBezTo>
                <a:cubicBezTo>
                  <a:pt x="141" y="1007"/>
                  <a:pt x="149" y="1014"/>
                  <a:pt x="152" y="10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28:11Z</dcterms:created>
  <dc:creator>jj</dc:creator>
  <dc:description/>
  <dc:language>en-US</dc:language>
  <cp:lastModifiedBy>jj</cp:lastModifiedBy>
  <dcterms:modified xsi:type="dcterms:W3CDTF">2008-11-12T21:44:21Z</dcterms:modified>
  <cp:revision>5</cp:revision>
  <dc:subject/>
  <dc:title>Spolková republika Německo </dc:title>
</cp:coreProperties>
</file>