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E46D-6A82-42C7-A4AB-9BD5AC7E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3D7A-43C3-423C-A0EA-E8BD4B81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6DFE-1ED5-4A48-B368-985BC4A3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C79D-A105-4537-B468-3B4FF089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4214-A150-4BAC-8E1B-B4041E23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B433-D14B-47C4-B1F8-EBEA2345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0E34-B8A6-4A68-85FE-43BC8002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0C97-738B-466D-86F4-F739559B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631C-25B4-4ADC-8C40-53259532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7DF2-89F7-4128-B8D9-3516D6F2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C932-B495-4660-9203-DEE5AB9A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396E-1542-4988-9FB9-60206975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8693-0744-4E8C-BD4F-4D9FF243C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Á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JIŽNÍ EVRO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TÁL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35434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áty Jižní Evr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09624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ÁLIE – ROMA (ŘÍ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362800" cy="6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kresli obrys mapy Itál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473440" cy="4869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515772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92720" y="1700280"/>
            <a:ext cx="647640" cy="515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94520" y="15573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v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720" y="48690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s.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1773360"/>
            <a:ext cx="576000" cy="508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5080" y="1628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v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3573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7640" y="32320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 s.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77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plň důležitá města Itál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08000" y="1125360"/>
            <a:ext cx="554544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08000" y="1125360"/>
            <a:ext cx="5545440" cy="5038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01800" y="335772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Ř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52720" y="278136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RE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5080" y="177336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02880" y="213372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ÁT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37080" y="393372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AP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42000" y="488952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LER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93800" y="184464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Á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4360" y="220500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73800" y="27813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77868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plň důležité toky a jez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540072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050920" y="1125360"/>
            <a:ext cx="5400720" cy="4907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637080" y="217980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Pá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0560" y="299088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Tib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33440" y="270828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3399"/>
                </a:solidFill>
                <a:latin typeface="Arial"/>
              </a:rPr>
              <a:t>A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211640" y="764640"/>
            <a:ext cx="122400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00720" y="242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050920" y="3068640"/>
            <a:ext cx="230508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89640" y="56844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3399"/>
                </a:solidFill>
                <a:latin typeface="Arial"/>
              </a:rPr>
              <a:t>Gardské 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209640" y="2224080"/>
            <a:ext cx="16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3399"/>
                </a:solidFill>
                <a:latin typeface="Arial"/>
              </a:rPr>
              <a:t>j. Comacch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9080" y="386064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3399"/>
                </a:solidFill>
                <a:latin typeface="Arial"/>
              </a:rPr>
              <a:t>Trasimelské 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2915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plň nejvyšší vrcholy v Itálii (Alpy, Apeniny) a nejdůležitější sopky a vybarvi povr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51130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5113440" cy="4645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411280" y="1341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716360" y="2565000"/>
            <a:ext cx="1800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51640" y="5229360"/>
            <a:ext cx="180000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508720" y="3645000"/>
            <a:ext cx="2016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564000" y="4724280"/>
            <a:ext cx="201600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33640" y="92880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Monte R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98360" y="23684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Gran Sa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06360" y="34480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esu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34360" y="54658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t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7240" y="501336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tromb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284720" y="836640"/>
            <a:ext cx="5032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284720" y="3500280"/>
            <a:ext cx="57456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916000" y="2421000"/>
            <a:ext cx="64764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53280" y="4968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78000" y="330516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ÁDSKÁ 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60920" y="416880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EN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09:46:35Z</dcterms:created>
  <dc:creator>kk</dc:creator>
  <dc:description/>
  <dc:language>en-US</dc:language>
  <cp:lastModifiedBy>kk</cp:lastModifiedBy>
  <dcterms:modified xsi:type="dcterms:W3CDTF">2006-10-31T07:25:38Z</dcterms:modified>
  <cp:revision>7</cp:revision>
  <dc:subject/>
  <dc:title>STÁTY</dc:title>
</cp:coreProperties>
</file>