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121-3800-4E70-A9D4-868E3160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E99-72E5-429B-83E8-9A2BECA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D35-8854-4E05-80C7-D22547CC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ACB-7E52-4B6B-BDBC-977DFBB2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113-C733-410C-84E7-AE7FF88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12B-13B5-47EE-BC61-69F1293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70E-79B4-4E21-AF57-62A867D7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A87-141E-42B7-A08C-D6952D6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F20-BF57-47C8-AC23-E0399E7F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EB0-62E8-4F5B-B391-55A0A82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D79-CFE4-400D-BD57-F10A038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DF7-A5A1-447D-9D40-FBC590C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57BA-A68C-4FDB-AC7B-E7976306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ŽNÍ EV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OMOŘSKÉ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16000" y="1515960"/>
          <a:ext cx="705636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15960"/>
                    <a:ext cx="705636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PODMÍ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32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vážně hornaté státy (Alpy, Pyreneje, Sierra Nevada, Apeniny, Pindos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ké a suché léto, mírná a vlhčí 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zelená a suchomilná veget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2813040" cy="35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48960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OEKONOMICKÉ PODMÍN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ůmyslová výroba pouze v severní Itál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važuje zemědělství (olivy, vinná réva, citrusy, fíky aj.), rybo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tovní ruch (moře, památky, h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57400" cy="200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364320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40360" y="3860640"/>
            <a:ext cx="24764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Á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renejský poloostrov – Španělsko, Portugalsko, An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eninský poloostrov – Itálie, Vatikán, San Marí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kánský poloostrov – Řec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rovní státy – Kypr, M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na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Britská kolonie - Gibr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16360" y="2211480"/>
            <a:ext cx="4032360" cy="28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948360" y="4365720"/>
            <a:ext cx="20322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9:09:30Z</dcterms:created>
  <dc:creator>kk</dc:creator>
  <dc:description/>
  <dc:language>en-US</dc:language>
  <cp:lastModifiedBy>kk</cp:lastModifiedBy>
  <dcterms:modified xsi:type="dcterms:W3CDTF">2006-10-16T19:43:02Z</dcterms:modified>
  <cp:revision>4</cp:revision>
  <dc:subject/>
  <dc:title>JIŽNÍ EVROPA</dc:title>
</cp:coreProperties>
</file>