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33E-3718-4612-8525-1FC58CEB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958-EA5C-49A9-AFB9-0269C127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281-8402-4069-822E-0C3EAFEC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917-98CE-4D57-8B32-84C091C9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4A8-3CF9-466C-9DD2-62B55F8C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8AE-C40B-4471-B659-FDE61A1D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5DF-70F9-4C0E-9176-0A436E72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7CB-41E0-433B-9704-E758C3E2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F08-FACF-48B1-817E-8919929F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5AB-5817-42B4-AF95-5BEB2C2E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559-6106-45C1-9DB2-3A436341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AA7-0559-40EA-A6D7-2A8E60CA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8122-BFAA-4C82-8C51-F8A5567B9F2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s.wikipedia.org/wiki/Jihov&#253;chodn&#237;_Evropa" TargetMode="External"/><Relationship Id="rId3" Type="http://schemas.openxmlformats.org/officeDocument/2006/relationships/slide" Target="slide1.xm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88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INOVÝCHODNÍ EV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16000" y="69192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LKÁNSKÉ ST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jihovychodni_evropa"/>
          <p:cNvPicPr/>
          <p:nvPr/>
        </p:nvPicPr>
        <p:blipFill>
          <a:blip r:embed="rId1"/>
          <a:stretch/>
        </p:blipFill>
        <p:spPr>
          <a:xfrm>
            <a:off x="3276720" y="1459080"/>
            <a:ext cx="5580000" cy="5398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6916680" y="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 informací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D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postojn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627280" y="1197000"/>
            <a:ext cx="305928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hvar1"/>
          <p:cNvPicPr/>
          <p:nvPr/>
        </p:nvPicPr>
        <p:blipFill>
          <a:blip r:embed="rId5"/>
          <a:srcRect l="0" t="0" r="6057" b="8361"/>
          <a:stretch/>
        </p:blipFill>
        <p:spPr>
          <a:xfrm>
            <a:off x="539640" y="2997360"/>
            <a:ext cx="2792520" cy="19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kosovo"/>
          <p:cNvPicPr/>
          <p:nvPr/>
        </p:nvPicPr>
        <p:blipFill>
          <a:blip r:embed="rId6"/>
          <a:srcRect l="1989" t="3230" r="1989" b="3230"/>
          <a:stretch/>
        </p:blipFill>
        <p:spPr>
          <a:xfrm>
            <a:off x="1763640" y="4869000"/>
            <a:ext cx="2971800" cy="178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index1"/>
          <p:cNvPicPr/>
          <p:nvPr/>
        </p:nvPicPr>
        <p:blipFill>
          <a:blip r:embed="rId7"/>
          <a:stretch/>
        </p:blipFill>
        <p:spPr>
          <a:xfrm>
            <a:off x="6948360" y="4437000"/>
            <a:ext cx="2008440" cy="218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rumunsko"/>
          <p:cNvPicPr/>
          <p:nvPr/>
        </p:nvPicPr>
        <p:blipFill>
          <a:blip r:embed="rId8"/>
          <a:stretch/>
        </p:blipFill>
        <p:spPr>
          <a:xfrm>
            <a:off x="6175440" y="954000"/>
            <a:ext cx="2717640" cy="2038320"/>
          </a:xfrm>
          <a:prstGeom prst="rect">
            <a:avLst/>
          </a:prstGeom>
          <a:ln w="0">
            <a:noFill/>
          </a:ln>
        </p:spPr>
      </p:pic>
      <p:sp>
        <p:nvSpPr>
          <p:cNvPr id="50" name="Line 25"/>
          <p:cNvSpPr/>
          <p:nvPr/>
        </p:nvSpPr>
        <p:spPr>
          <a:xfrm>
            <a:off x="3276720" y="3789360"/>
            <a:ext cx="2232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6"/>
          <p:cNvSpPr/>
          <p:nvPr/>
        </p:nvSpPr>
        <p:spPr>
          <a:xfrm flipH="1" flipV="1">
            <a:off x="6372360" y="5516280"/>
            <a:ext cx="576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7"/>
          <p:cNvSpPr/>
          <p:nvPr/>
        </p:nvSpPr>
        <p:spPr>
          <a:xfrm flipH="1">
            <a:off x="6227280" y="2924280"/>
            <a:ext cx="505080" cy="22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8"/>
          <p:cNvSpPr/>
          <p:nvPr/>
        </p:nvSpPr>
        <p:spPr>
          <a:xfrm flipV="1">
            <a:off x="4716360" y="5516640"/>
            <a:ext cx="1224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9"/>
          <p:cNvSpPr/>
          <p:nvPr/>
        </p:nvSpPr>
        <p:spPr>
          <a:xfrm>
            <a:off x="5076720" y="3429000"/>
            <a:ext cx="35892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řírodní podmínk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ředomořské (jih), mírné-vnitrozemské (sever) podneb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lenitost: Balkánský pol., Istrijský pol., Dalmatské ostro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vrch: hornatý (Karpaty, Rodopy, Velebit, Dinárské hory, Julské Alpy) pouze na severu nížiny (Valašská nížina, Hornotrácká níž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stvo: Jaderské moře (krátké vodnaté řeky), Černé moře – Duna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ocioekonomické podmínk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roce 1990 došlo k velkým politickým změnám (zanikla Socialistická federativní Jugoslávie a vytvořily se samostatné republiky – 6 států), pád komunismu a přechod na tržní hospodářstv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yvatelstvo – převážně Slovan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stré národnostní a náboženské složení = místa náboženských a etnických konfliktů (Kosovo, Srbsko, Bosna a Hercegovina aj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spodářsky nejméně rozvinutý region Evropy (zemědělství, těžba, rozvoj C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Stá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Rumunsko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národnost románská, slabá výkonnost hospodářství a příznivé přírodní podmínk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Bulharsko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CR, potravinářství (tabák), spojení mezi Evropou a Orien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umunsko i Bulharsko vstoupili 1.1. 2007 do E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Jadranské státy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Albáni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zaostalý stát, islám, vysoké přírůstky obyvat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rbsko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* 5. 6. 2006, vnitrozemský stá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Černá hor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- * 5. 6. 2006, C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lovinsko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v EU (2004), nejmenší a nejvyspělejší, CR – kras, Alpy, pobřež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horvatsko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v EU (2013), dlouhé pobřeží (CR), zemědělst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Bosna a Hercegovin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nábožensko-národnostně pestrý stát, hornat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Makedoni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zemědělský, izolovaný a zaostalý stá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Kosovo – hlavní město Priština. Defakto nezávislý stát. Dne 17. února 2008 Kosovský parlament vyhlásil nezávislost na Srbsku a prohlásil Kosovo za demokratický, světský a multietnický stát. Postoj jiných států není jednotný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232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oj jiných států ke Kosov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upload.wikimedia.org/wikipedia/commons/thumb/2/23/Kosovo_relations.svg/863px-Kosovo_relations.svg.png"/>
          <p:cNvPicPr/>
          <p:nvPr/>
        </p:nvPicPr>
        <p:blipFill>
          <a:blip r:embed="rId1"/>
          <a:stretch/>
        </p:blipFill>
        <p:spPr>
          <a:xfrm>
            <a:off x="684360" y="593640"/>
            <a:ext cx="8219880" cy="4219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2411280" y="4797360"/>
            <a:ext cx="51627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20:37:05Z</dcterms:created>
  <dc:creator>kk</dc:creator>
  <dc:description/>
  <dc:language>en-US</dc:language>
  <cp:lastModifiedBy>Uživatel</cp:lastModifiedBy>
  <dcterms:modified xsi:type="dcterms:W3CDTF">2014-12-14T10:53:14Z</dcterms:modified>
  <cp:revision>17</cp:revision>
  <dc:subject/>
  <dc:title>JINOVÝCHODNÍ EVROPA</dc:title>
</cp:coreProperties>
</file>